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F6B9-FAA0-48FC-82A6-2D7F7D86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23240"/>
            <a:ext cx="822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744-83A9-48EE-9499-D6BDD741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D161-FFE7-4EFB-A6EF-2C73CA55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4936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4936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2324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2324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2324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36C-07AD-488F-8FF4-8F69D2F4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1E49-E887-4C18-BAD4-09090B07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99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C585-1AB5-4730-95BF-4363C2A7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7355-60A6-49B8-8D92-72986972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87F7-3823-4378-8797-582C3F25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1B64-C5A3-4A5C-B7AA-EA15D8EF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6560" y="1123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5ADF-476A-4C3F-83D9-758DAA2C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E000-DC62-4234-8273-8E525384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99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0B3C-E4D4-4779-A373-4A4C4217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6257-5E95-40D7-82E6-0EC8D486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23240"/>
            <a:ext cx="822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CA3E-AD10-424A-950E-068C9C85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323240"/>
            <a:ext cx="822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1C30-5C8B-4B76-949B-E494C9B9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471A-0D6C-44B4-9300-07D525D4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4936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4936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32324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32324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32324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C129-CF26-4983-9539-25B58BB0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9B39-54B3-46AD-92A9-EC3DB7CD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9F9-ABB2-4283-A5C8-B8D3D8FD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E047-0318-47A1-B3CA-D9561A66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6560" y="1123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06D4-7D1E-4426-BB57-09212FAB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0ECC-FF95-4AA4-8D74-3AD6009D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B23-FC88-47FC-BEA8-5D8FD847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23240"/>
            <a:ext cx="822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176E-1AC8-478C-B963-2752E1B5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333333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333333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333333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333333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E9FE-69E9-4DF5-A3BC-3DE65B86F377}" type="datetime">
              <a: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57C4-6CCB-4BB8-A11E-4727759FCC0B}" type="slidenum">
              <a: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221000"/>
            <a:ext cx="8352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4920"/>
            <a:ext cx="229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4920"/>
            <a:ext cx="3111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9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D716-50B9-4E7A-9F7C-11FE52AF8305}" type="slidenum"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cc9900"/>
              </a:solidFill>
              <a:latin typeface="Calibri"/>
            </a:endParaRPr>
          </a:p>
          <a:p>
            <a:pPr lvl="1" marL="457200" indent="457200">
              <a:spcBef>
                <a:spcPts val="499"/>
              </a:spcBef>
              <a:buClr>
                <a:srgbClr val="333333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333333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Calibri"/>
            </a:endParaRPr>
          </a:p>
          <a:p>
            <a:pPr lvl="3" marL="1371600" indent="-457200">
              <a:spcBef>
                <a:spcPts val="400"/>
              </a:spcBef>
              <a:buClr>
                <a:srgbClr val="333333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Calibri"/>
            </a:endParaRPr>
          </a:p>
          <a:p>
            <a:pPr lvl="4" marL="1828800" indent="-914400">
              <a:spcBef>
                <a:spcPts val="400"/>
              </a:spcBef>
              <a:buClr>
                <a:srgbClr val="333333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Calibri"/>
            </a:endParaRPr>
          </a:p>
          <a:p>
            <a:pPr lvl="5" marL="1828800" indent="-9144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Calibri"/>
            </a:endParaRPr>
          </a:p>
          <a:p>
            <a:pPr lvl="6" marL="1828800" indent="-9144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4221000"/>
            <a:ext cx="8352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66560" y="5733720"/>
            <a:ext cx="6878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99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07:42:00Z</dcterms:created>
  <dc:creator>USER</dc:creator>
  <dc:description/>
  <dc:language>en-US</dc:language>
  <cp:lastModifiedBy>USER</cp:lastModifiedBy>
  <dcterms:modified xsi:type="dcterms:W3CDTF">2015-08-11T08:02:52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