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F27-D2B1-46A2-A90F-E08F49EB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38EC-A20A-4633-9E17-9B5CF21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537-3952-4553-90FE-ED60BEAB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D018-DF43-4092-B450-94E07BD5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3C3-540E-4ED2-A780-73BC58806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B67-A866-4BC2-97F1-1F843B85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F6DF-DAD3-434E-B50D-124897BE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CE40-62ED-443C-A839-83C2BB68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EFC0-4DE2-4CD3-8156-E2D4A6CE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6C1-9280-40BF-B33B-8BA0717A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77D-B564-43C2-81CB-69413BC7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AFA7-4DA7-4AAA-B0B8-CBAE1249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9C59-647B-4A5E-B509-9F85F6C4A4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857760" y="378612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78620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Windows 用户</cp:lastModifiedBy>
  <dcterms:modified xsi:type="dcterms:W3CDTF">2015-08-12T06:33:06Z</dcterms:modified>
  <cp:revision>77</cp:revision>
  <dc:subject/>
  <dc:title>幻灯片 1</dc:title>
</cp:coreProperties>
</file>