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9D6-5BD5-4456-BEE5-C3A849CC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BE0-2CA6-4209-AA34-1F61AFAA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9DA-273D-45A9-A18D-2B15B162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BF9-AD4D-497B-A2BF-B433C314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07E-2274-46E9-8336-6D42C356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6BF-EB39-4B35-ACFC-53767BDC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B18-BF24-427B-84F5-46315A50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15F-9CC3-4302-B478-52CF627E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AEA-7B98-430F-B23C-45ED1C2D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402-41EF-4408-8BF1-F3BBB541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5AF-CD43-4012-B76D-0C1D5591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64A-12C2-46EB-9BA9-269924F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5F0F-D159-4605-9298-394A56D150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py.wav" descr=""/>
          <p:cNvPicPr/>
          <p:nvPr/>
        </p:nvPicPr>
        <p:blipFill>
          <a:blip r:embed="rId1"/>
          <a:stretch/>
        </p:blipFill>
        <p:spPr>
          <a:xfrm>
            <a:off x="1928880" y="607212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F:\养生\春分\jpg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F:\养生\春分\jpg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F:\养生\春分\jpg\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:\养生\春分\jpg\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F:\养生\春分\jpg\14.jpg"/>
          <p:cNvPicPr/>
          <p:nvPr/>
        </p:nvPicPr>
        <p:blipFill>
          <a:blip r:embed="rId1"/>
          <a:stretch/>
        </p:blipFill>
        <p:spPr>
          <a:xfrm>
            <a:off x="3240" y="1440"/>
            <a:ext cx="9137520" cy="685332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:\养生\春分\jpg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:\养生\春分\jpg\16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养生\春分\jpg\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养生\春分\jpg\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F:\养生\春分\jpg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F:\养生\春分\jpg\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养生\春分\jpg\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F:\养生\春分\jpg\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:\养生\春分\jpg\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:\养生\春分\jpg\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F:\养生\春分\jpg\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吴峻峰</cp:lastModifiedBy>
  <dcterms:modified xsi:type="dcterms:W3CDTF">2011-03-24T10:02:54Z</dcterms:modified>
  <cp:revision>24</cp:revision>
  <dc:subject/>
  <dc:title>幻灯片 1</dc:title>
</cp:coreProperties>
</file>