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18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chimes.wav" ContentType="audio/x-wav"/>
  <Override PartName="/ppt/media/image13.gif" ContentType="image/gif"/>
  <Override PartName="/ppt/media/image21.gif" ContentType="image/gif"/>
  <Override PartName="/ppt/media/image1.png" ContentType="image/png"/>
  <Override PartName="/ppt/media/image8.jpeg" ContentType="image/jpeg"/>
  <Override PartName="/ppt/media/image39.jpeg" ContentType="image/jpeg"/>
  <Override PartName="/ppt/media/image26.jpeg" ContentType="image/jpeg"/>
  <Override PartName="/ppt/media/image32.gif" ContentType="image/gif"/>
  <Override PartName="/ppt/media/image37.gif" ContentType="image/gif"/>
  <Override PartName="/ppt/media/image7.gif" ContentType="image/gif"/>
  <Override PartName="/ppt/media/image27.gif" ContentType="image/gif"/>
  <Override PartName="/ppt/media/image28.jpeg" ContentType="image/jpeg"/>
  <Override PartName="/ppt/media/image30.jpeg" ContentType="image/jpeg"/>
  <Override PartName="/ppt/media/image3.jpeg" ContentType="image/jpeg"/>
  <Override PartName="/ppt/media/image33.gif" ContentType="image/gif"/>
  <Override PartName="/ppt/media/camera.wav" ContentType="audio/x-wav"/>
  <Override PartName="/ppt/media/image34.wmf" ContentType="image/x-wmf"/>
  <Override PartName="/ppt/media/image36.jpeg" ContentType="image/jpeg"/>
  <Override PartName="/ppt/media/image9.jpeg" ContentType="image/jpeg"/>
  <Override PartName="/ppt/media/image40.gif" ContentType="image/gif"/>
  <Override PartName="/ppt/media/type.wav" ContentType="audio/x-wav"/>
  <Override PartName="/ppt/media/image6.jpeg" ContentType="image/jpeg"/>
  <Override PartName="/ppt/media/image10.gif" ContentType="image/gif"/>
  <Override PartName="/ppt/media/image11.jpeg" ContentType="image/jpeg"/>
  <Override PartName="/ppt/media/image31.gif" ContentType="image/gif"/>
  <Override PartName="/ppt/media/image35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projctor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  <p:custShowLst>
    <p:custShow name="自定义放映1" id="0">
      <p:sldLst>
        <p:sld r:id="rId21"/>
        <p:sld r:id="rId22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D61-9FCC-439F-8025-F66B70A3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E4F-D884-45C1-89FA-7D37B1F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BCC-5A70-46F8-B9F4-83CD15A4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657-983F-4ADC-8F2F-213F6C6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327B-F158-4D3D-AD3B-0D1EE188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95EF-48D9-4E5B-A51C-B2800C05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E2AD-C241-4C79-A5ED-92412B8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1FD-73C3-4E2B-AEB0-DFA32656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2717-93CA-4216-87F7-3FC4968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3DA-ED67-483F-B3F9-D335CF1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79D9-072E-43E8-97EF-1586001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573-7695-4EDA-A493-7E6745B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F480-E88C-48C5-83AD-8BB18E0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D8AF-1E5F-4AE3-9A6E-798B827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954-FEC8-49BD-9A67-19B9CA3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348-4883-40CB-8E5C-9449B47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274A-C718-45B4-B91A-30607799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682E-E8B8-4172-96B3-4CE0B976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D1A6-E66D-4378-9E25-974BF94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D32A-612C-4388-9741-60ADAB5F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E11B-AFAF-49E2-9834-C9D95588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8BB6-A18F-41A9-821E-1817AF5A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38C-7D05-49C0-A179-100F4A6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0BF1-1BE4-412B-95E9-A1CE6F06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7491-10B7-4AF1-856F-1A8AF96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C813-8082-47CE-B771-C118246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6353-4BE2-4246-96C5-B46502D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74E0-BC20-4FEE-8A17-A3ABED6E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32B5-C70C-4E1F-BF3A-067CAE0E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071D-1FC8-43B5-A012-73E5CE27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C248-8421-4659-AF92-6443C8B5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F222-6905-47B2-9982-A3A2232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95EE-8C07-4A58-8F92-6B10E29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D2B-F227-4626-980A-8DDC64E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1077-E69D-4CF2-980E-6D6842C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ADAB-E71F-4439-977C-0AB1867A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FCE3-9C26-43AE-AB9C-5036044C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5EDB-E051-4D5F-B769-FE937E4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57C0-2CEB-4672-900B-F95B8ED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BE4B-747D-4C4B-993D-14ABA24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A458-4A00-4BDF-975C-93B0E7A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3E27-E9F9-4E51-8609-EC0098A1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1544-4D08-4028-AD9C-0CBAFDD4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1286-7BB5-47E6-BADF-5D2D826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35C-6735-443E-8F56-B19CA7D3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794A-13A6-4BA4-B6FF-B365E468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6506-6424-4EB5-8283-031CACB5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44959-C62E-4763-82D7-1D0FCA7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D0C71-E845-4A53-88A8-58D409A0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00C7-E2E5-443E-868C-D4F39D4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CAF2-629E-493D-9161-8792C6B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327E-E0AE-44BF-A734-74F211FA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E0EA7-3B29-4BCB-9F70-425BA73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1F1C-316A-44DB-8F8E-652E2F8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FBA8-A127-4A05-BD60-1FE2B5CD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2DD-1601-428C-BC58-A32E0CC5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D6C8-A236-4138-BD5E-DF240D8B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A508-0D5B-4EFF-855B-725E8164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4ADB-A7A6-49D0-9F4D-31A43735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0A14-E5A0-4A9E-95E1-9728CC81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2008-1F66-4FA9-884D-070ACE31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B081-15AA-4625-8ED5-0A4C62C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657C-BC30-40A5-95EC-2108A06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D574-A160-484B-9B9A-525BABF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DE351-6773-4762-8131-B4C0D57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F531-F55B-4AA1-9741-1DA85D4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535-A344-405A-8299-E36657E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BBA11-0AE8-47A6-A9CD-5208400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FA07-6BEB-444C-A6D8-453F3471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B91C-6E17-4D84-90C4-445AE3C3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AF0-33E0-40BE-A87A-0E5A650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246-B8D2-4D4B-8746-F1E75C2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C6DF-5F63-417A-BE23-31418775F4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223-10E8-4A0C-8522-9B4C0E4E7C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2A1-78AA-40F0-B0AC-190FCF7398E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9A2-67B1-4B8B-B928-B7877858A48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037-663E-4BA4-8FD2-35A00332611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B76C-EB4A-4905-8EAB-8BEB5D6D4FD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10.xml"/><Relationship Id="rId4" Type="http://schemas.openxmlformats.org/officeDocument/2006/relationships/image" Target="../media/image27.gif"/><Relationship Id="rId5" Type="http://schemas.openxmlformats.org/officeDocument/2006/relationships/image" Target="../media/image28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9.gi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3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8.xml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projctor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8.xml"/><Relationship Id="rId3" Type="http://schemas.openxmlformats.org/officeDocument/2006/relationships/image" Target="../media/image1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497800" cy="1727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Comic Sans MS"/>
                <a:ea typeface="华文彩云"/>
              </a:rPr>
              <a:t>在 挫 折 中 奋 起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3520" y="5335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58c"/>
                </a:solidFill>
                <a:latin typeface="Times New Roman"/>
                <a:ea typeface="华文隶书"/>
              </a:rPr>
              <a:t>榜样示范：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170028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  <a:ea typeface="华文新魏"/>
              </a:rPr>
              <a:t>你能说说勇于战胜挫折的人和事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971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2787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贝多芬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3200" y="2787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张海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2787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海伦凯勒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2787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霍金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00000" y="39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杨利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771640" y="3789360"/>
            <a:ext cx="3463920" cy="825120"/>
            <a:chOff x="2771640" y="3789360"/>
            <a:chExt cx="3463920" cy="825120"/>
          </a:xfrm>
        </p:grpSpPr>
        <p:sp>
          <p:nvSpPr>
            <p:cNvPr id="493" name=""/>
            <p:cNvSpPr/>
            <p:nvPr/>
          </p:nvSpPr>
          <p:spPr>
            <a:xfrm>
              <a:off x="2771640" y="39337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458c"/>
                  </a:solidFill>
                  <a:latin typeface="Times New Roman"/>
                </a:rPr>
                <a:t>李政道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88000" y="378936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0458c"/>
                  </a:solidFill>
                  <a:latin typeface="Tahoma"/>
                </a:rPr>
                <a:t>……</a:t>
              </a:r>
              <a:endParaRPr b="0" lang="en-US" sz="4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300640"/>
            <a:ext cx="86364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788000" y="46836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贝多芬，一生遭到数不清的磨难。挫折磨砺了他的意志，激发了他的进取精神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他发出了“要扼住命运的咽喉”的坚强呼声，终于创作出《第九交响曲》等辉煌作品，获得了极大的成功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4479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7956720" y="5157720"/>
            <a:ext cx="169200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7982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57340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57340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547640" y="595008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中华飞天第一人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华文行楷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杨利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62898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89e8f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80773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381560" y="260280"/>
            <a:ext cx="4762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杨利伟从小立志当飞行员，为实现理想，从读初二开始，他刻苦锻炼，终于练出一个合格的体魄。在接到命令后，杨利伟接受了载荷、失重、野外生存等训魔鬼般的训练，以他坚强的意志克服了种种困难和挫折，最后成为中华飞天第一人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604280" y="5157720"/>
            <a:ext cx="1692000" cy="15573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62898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7812000" y="5157720"/>
            <a:ext cx="1692360" cy="15573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64000" y="452520"/>
            <a:ext cx="338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挫折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96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年被诊断出肌萎缩性侧索硬化症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98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年失去语言能力，使用带语音合成器的计算机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奋起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出版了《空时的大型结构》、《时间简史》等科学著作。宣布发现黑洞辐射，成为世界上著名的科学家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059280" y="515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179280" y="533520"/>
            <a:ext cx="4800600" cy="555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fdf9a9"/>
            </a:gs>
            <a:gs pos="50000">
              <a:srgbClr val="ffffff"/>
            </a:gs>
            <a:gs pos="100000">
              <a:srgbClr val="fdf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549680" y="6206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Arial Unicode MS"/>
                <a:ea typeface="黑体"/>
              </a:rPr>
              <a:t>     </a:t>
            </a:r>
            <a:r>
              <a:rPr b="1" lang="zh-CN" sz="2800" spc="-1" strike="noStrike">
                <a:solidFill>
                  <a:srgbClr val="40458c"/>
                </a:solidFill>
                <a:latin typeface="Arial Unicode MS"/>
                <a:ea typeface="黑体"/>
              </a:rPr>
              <a:t>海伦凯勒，出生不久就因一场来得突然的脑炎，使她完全丧失了视觉和听觉。同时也失去了说话的能力</a:t>
            </a:r>
            <a:r>
              <a:rPr b="1" lang="zh-CN" sz="2400" spc="-1" strike="noStrike">
                <a:solidFill>
                  <a:srgbClr val="40458c"/>
                </a:solidFill>
                <a:latin typeface="Arial Unicode MS"/>
                <a:ea typeface="黑体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40458c"/>
                </a:solidFill>
                <a:latin typeface="黑体"/>
                <a:ea typeface="黑体"/>
              </a:rPr>
              <a:t>在自己的努力和家人、沙文利老师的帮助下，她后来不但能读、能写、能讲更成为全球家喻户晓的伟大作家。  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348440" cy="57909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1692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76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572000" y="628560"/>
            <a:ext cx="4321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张海迪，三分之二的身体失去部分知觉和功能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她奋起自学成才，出版了长篇小说《轮椅上的梦》等作品。她自学了英、日、德和世界语，刻苦钻研医学知识和针灸技术，为群众治病达一万余人次。。。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43400" cy="6934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7885080" y="5157720"/>
            <a:ext cx="1692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69952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9952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62898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84360" y="350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c408"/>
                </a:solidFill>
                <a:latin typeface="Times New Roman"/>
              </a:rPr>
              <a:t>挫折能塑造强者，勇于战胜挫折的人能够把挫折变成成功。你能说说承受挫折的能力来自哪里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9810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2c408"/>
                </a:solidFill>
                <a:latin typeface="Times New Roman"/>
                <a:ea typeface="华文隶书"/>
              </a:rPr>
              <a:t>小组讨论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14400" y="595440"/>
            <a:ext cx="78487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黑体"/>
              </a:rPr>
              <a:t>世界上的事情永远不是绝对的，结果完全因人而异。苦难对于天才是一块垫脚石，对于弱者是一个万丈深渊。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                 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巴尔扎克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4911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826920" y="549360"/>
            <a:ext cx="77724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寄语全体同学：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变挫折为动力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做生活的强者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95256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23960" y="1249200"/>
            <a:ext cx="7696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下面是一些你曾经遇到过的问题，根据下列所标出的挫折感等级，请你在相应的等级上画勾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没有挫折感      有点       一般         较多         极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与朋友翻脸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考试不理想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家长不理解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受老师冤枉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无故被人欺负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丢失心爱的东西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。其它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1                  2             3              4               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650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85800" y="59436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7——1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59436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15——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7120" y="5943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22——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>
            <a:hlinkClick r:id="rId5" action="ppaction://hlinksldjump"/>
          </p:cNvPr>
          <p:cNvSpPr/>
          <p:nvPr/>
        </p:nvSpPr>
        <p:spPr>
          <a:xfrm>
            <a:off x="5292720" y="404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彩云"/>
              </a:rPr>
              <a:t>心理测试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715000"/>
            <a:ext cx="57132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0" y="304920"/>
            <a:ext cx="53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  <a:ea typeface="华文行楷"/>
              </a:rPr>
              <a:t>不经历风雨，怎么见彩虹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31" name="ShockwaveFlash1"/>
          <p:cNvGraphicFramePr/>
          <p:nvPr/>
        </p:nvGraphicFramePr>
        <p:xfrm>
          <a:off x="1066680" y="0"/>
          <a:ext cx="8078760" cy="685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0"/>
                    <a:ext cx="8078760" cy="685656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8288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在挫折中奋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人们对待挫折的态度是不同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0080" y="914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向挫折屈服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578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生活态度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生活目标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生活阅历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心理准备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身体状况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57800" y="4724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得到帮助的情况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5273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挫折具有两面性，它是坏事，但在一定条件下会变成好事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41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勇敢地战胜挫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1399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造成人们对待挫折有不同态度的原因是各不相同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16765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1480" y="9907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66688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547640" cy="13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62120" y="2247840"/>
            <a:ext cx="7619760" cy="236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a69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2362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华文行楷"/>
              </a:rPr>
              <a:t>李政道在条件不具备的情况下，调整了自己的奋斗目标，对你有何启示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838080"/>
            <a:ext cx="48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  <a:ea typeface="华文彩云"/>
              </a:rPr>
              <a:t>实践提高：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" y="2438280"/>
            <a:ext cx="8153280" cy="2819520"/>
          </a:xfrm>
          <a:prstGeom prst="rect">
            <a:avLst/>
          </a:prstGeom>
          <a:solidFill>
            <a:srgbClr val="ffffff"/>
          </a:solidFill>
          <a:ln w="76320">
            <a:solidFill>
              <a:srgbClr val="a69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256536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当前中学生生活的各方面条件较好，在这样的环境下面，我们应如何面对挫折，实现自身的成长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95868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  <a:ea typeface="华文彩云"/>
              </a:rPr>
              <a:t>实践提高：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24000" y="1268280"/>
            <a:ext cx="856908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不经历风雨，怎么见彩虹！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7bba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37bba"/>
                </a:solidFill>
                <a:latin typeface="Tahoma"/>
              </a:rPr>
              <a:t>同学们不要气馁，失败是成功之母，相信你们在下次比赛中会表现得更出色！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3737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129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多 多 指 导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华文隶书"/>
              </a:rPr>
              <a:t>谢 谢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50920" y="134136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7——14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：你是一个乐观开朗的孩子，遇到挫折不会给你带来太多的精神压力。但是，如果对事事都漫不在乎，不努力，将会很危险。培养进取心和责任心，会使你更加完美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14400" y="1752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15——2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：你是一个自尊自爱的孩子，喜欢在同学和老师面前表现自己。在挫折面前，你会产生紧张和忧虑的情绪，说明你在乎自己的表现。但是你不会对自己能力达不到的目标太较真，你会试着去改变原有的目标。这也许使你不能够发挥出内在的潜力，你在平时应多听取别人的意见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8972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14400" y="1752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22——35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：你是一个比较敏感多愁的孩子。有着强烈的自尊心，对自己要求很高。在挫折面前，往往会产生强烈的不安，甚至有时还会觉得天要塌下来了。实际上，挫折每个人都会经历，你应该把挫折当成锻炼的机会，展开胸怀，多和别人交流沟通，学会向别人诉说你的烦恼，你会发现挫折并不可怕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1079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280" y="457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常见的挫折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304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学习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219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理想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640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交往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6400" y="1219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2ec6"/>
                </a:solidFill>
                <a:latin typeface="Times New Roman"/>
                <a:ea typeface="华文彩云"/>
              </a:rPr>
              <a:t>生活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3429000"/>
            <a:ext cx="1066680" cy="76212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15000" y="38098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>
            <a:hlinkClick r:id="rId1" action="ppaction://hlinksldjump"/>
          </p:cNvPr>
          <p:cNvSpPr/>
          <p:nvPr/>
        </p:nvSpPr>
        <p:spPr>
          <a:xfrm>
            <a:off x="1403280" y="378936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态度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1320" y="1523880"/>
            <a:ext cx="251460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05040" y="31082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向挫折屈服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45813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勇敢地战胜挫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3716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48360" y="327672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为什么人们对待挫折的态度会不相同呢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300640"/>
            <a:ext cx="9367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58920" y="227664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你在日常生活中遇到过哪些挫折，当时你是如何做的？形容一下你当时的心情。也可以讲讲你的朋友或者你听说过的事情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549440" cy="19051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0" y="4941720"/>
            <a:ext cx="1752480" cy="14605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4920" y="457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心灵交流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9640" y="620640"/>
            <a:ext cx="38102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0458c"/>
                </a:solidFill>
                <a:uFillTx/>
                <a:latin typeface="_x000b__x000c_"/>
              </a:rPr>
              <a:t>【生命之翼】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个人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条腿，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根拐一条心。这个名为《生命之翼》的舞蹈，在第十一届国际舞蹈大赛中，与世界级健全人舞蹈家们在同一评判标准下比赛中，获得唯一的最优秀奖</a:t>
            </a:r>
            <a:r>
              <a:rPr b="1" lang="zh-CN" sz="20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40458c"/>
                </a:solidFill>
                <a:latin typeface="Comic Sans MS"/>
                <a:ea typeface="华文细黑"/>
              </a:rPr>
              <a:t>                            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2" name="NewsMedia_15409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581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59280" y="3933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五位残疾人，面对生活艰辛，凭借十根拐杖，用</a:t>
            </a:r>
            <a:r>
              <a:rPr b="1" lang="zh-CN" sz="2400" spc="-1" strike="noStrike">
                <a:solidFill>
                  <a:srgbClr val="660066"/>
                </a:solidFill>
                <a:latin typeface="_x000b__x000c_"/>
              </a:rPr>
              <a:t>精湛的技艺和自强不息的精神，震撼了观众，赢得了尊重；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而四位身体健全花季少女，因为所谓的“挫折”却选择放弃了生命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3645000"/>
            <a:ext cx="3886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0458c"/>
                </a:solidFill>
                <a:uFillTx/>
                <a:latin typeface="Comic Sans MS"/>
              </a:rPr>
              <a:t>【年轻生命的陨落】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日，新疆石河子某中学初三（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）班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40458c"/>
                </a:solidFill>
                <a:latin typeface="Comic Sans MS"/>
                <a:ea typeface="楷体_GB2312"/>
              </a:rPr>
              <a:t>名花季少女，因半期考试成绩靠后，害怕家长责骂，她们便商议一起服药自杀寻求解脱</a:t>
            </a:r>
            <a:r>
              <a:rPr b="1" lang="zh-CN" sz="24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50920" y="40464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生活目标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9280" y="1341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生活态度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2205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生活阅历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321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心理准备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9280" y="4149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身体状况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9280" y="5157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得到帮助的情况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4340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贝多芬等人战胜挫折的事例中我们可以发现：不论身体健康与否，只要具有正确的生活目标、乐观的生活态度、同挫折搏斗的经验、有承受挫折的心理准备以及朋友们的关心帮助就能从挫折中奋起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229360"/>
            <a:ext cx="1441440" cy="14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1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0:01:57Z</dcterms:created>
  <dc:creator>CAI</dc:creator>
  <dc:description/>
  <dc:language>en-US</dc:language>
  <cp:lastModifiedBy>yefeng</cp:lastModifiedBy>
  <dcterms:modified xsi:type="dcterms:W3CDTF">2006-12-03T06:37:26Z</dcterms:modified>
  <cp:revision>51</cp:revision>
  <dc:subject/>
  <dc:title>PowerPoint 演示文稿</dc:title>
</cp:coreProperties>
</file>