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CDB-961E-421F-A154-00293D80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03B-A430-4A06-9C74-19F8A4E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27C-8DE9-408A-8239-E7F9D6EB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E55-BC96-430D-973A-03B2093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A3F8-0F70-4317-8C8A-48AF2D66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3CED-7318-4A77-BD83-8B7730F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113-562F-4D93-AF70-3386954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B664-58DC-4C05-ABD0-EAEF3CE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466-7A6A-4130-BF17-948B582B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C916-784A-4650-8A5C-8A31E5E9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C9E0-4E49-4AB1-BA68-BE14403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DF2-484C-4929-8552-E233E04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9CF-E5BB-44D7-9781-02157F3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BEF-0F9F-48E1-A887-BE56B4C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C2B3-53D1-4D81-B1CE-B0DB91D3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354-C6A2-4D76-BD8F-C890A3DC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BC1-FCC7-47C2-B40D-6FD499BB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AF2A-C179-41C4-A2B1-83C98C0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47EE-3E55-467E-8A5D-EF2E50A7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52D7-A8DC-43FB-B720-87A44E13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8308-3D62-4010-B87B-069FFA5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8394-844A-4228-A5E5-1A531249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DD0-813C-487D-B84E-F08C775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56A9-E1CE-4008-9F99-77F002CA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5EF7-C5A1-42E5-8DAD-AA3E42D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52CE-E260-4F6F-851A-B73ABE4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D4DB-0068-4AEE-8C9B-D8F78EE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C565-A1D9-4A5E-B8A4-8AFFA39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5CA8-0F7A-4948-8084-A5E15B7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B73F-7555-462E-8550-3127FD4D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E5A-5B11-47AF-B85F-E4DAB14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DE0-5CF6-4FEA-BE14-5484B05E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5EC-101A-48B3-938B-0FC7D88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76D-47BC-434C-97A9-CF6B428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3A3-2850-4020-B1AD-A850FDA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557-B195-4C53-B084-22957EB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843-E95B-4CD2-AA03-E7E01F79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5C1-5619-444F-AAE9-698E5F459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CF8-7508-44A5-8E01-F60F6602CE3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380880"/>
            <a:ext cx="9144000" cy="4221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炭步中学九年级上学期家长会</a:t>
            </a:r>
            <a:endParaRPr b="1" lang="en-US" sz="5400" spc="-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32004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欢迎您的到来</a:t>
            </a:r>
            <a:endParaRPr b="1" lang="en-US" sz="1800" spc="-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4648320"/>
            <a:ext cx="746784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感谢您的支持</a:t>
            </a:r>
            <a:endParaRPr b="1" lang="en-US" sz="72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38280" y="1752480"/>
            <a:ext cx="338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九年级</a:t>
            </a:r>
            <a:r>
              <a:rPr b="0" lang="en-US" sz="18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3</a:t>
            </a:r>
            <a:r>
              <a:rPr b="0" lang="zh-CN" sz="18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班</a:t>
            </a:r>
            <a:endParaRPr b="0" lang="en-US" sz="1800" spc="-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27" name=""/>
          <p:cNvSpPr/>
          <p:nvPr/>
        </p:nvSpPr>
        <p:spPr>
          <a:xfrm>
            <a:off x="3998880" y="189000"/>
            <a:ext cx="302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3520" y="7621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成绩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学习上，一部分同学对自己有要求，希望考上高中因而很快，但也有一部分学生存在畏难情绪，放弃思想，每天来学校是为了挨时间，因而得过且过，将心思用在学习之外，成绩迅速下降，对学习失去兴趣，自暴自弃，从此一蹶不振。这样的同学在初三往往很难有所突破，中考的失利难以避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"/>
          <p:cNvSpPr/>
          <p:nvPr/>
        </p:nvSpPr>
        <p:spPr>
          <a:xfrm>
            <a:off x="533520" y="111456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逆反心理严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们分析，初三学生的另一特点是“不服管教”。一些同学对老师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的批评不再虚心接受，开始反驳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撞，甚至嘲笑师长，越是父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不让做的事，他们越起劲，一定要和师长“对着干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3"/>
          <p:cNvSpPr/>
          <p:nvPr/>
        </p:nvSpPr>
        <p:spPr>
          <a:xfrm>
            <a:off x="22860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交友不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初三学生自我意识逐渐发展，他们有了一定的评价能力，一些行为与做法，希望得到老师和同学的理解。但由于他们的思维独立性和批判性还处于萌芽阶段，容易受外界影响。如有些学生有点成绩就盲目自满，认为高人一等，遇挫折时则盲目自卑，垂头丧气，而且他们彼此之间情绪感染性极强，做好事和做坏事都有从众心理，甚至拉帮结派等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228600" y="457200"/>
            <a:ext cx="8915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不做准备的人，就是准备失败的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努力了，不一定会成功，但不努力，连成功的机会也没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不给自己机会的人，就永远没有成功的机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762120" y="11430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华文行楷"/>
                <a:ea typeface="华文行楷"/>
              </a:rPr>
              <a:t>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（</a:t>
            </a:r>
            <a:r>
              <a:rPr b="1" lang="en-US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）对孩子的变化应早有心理准备。如果家长对初三学生心理的发展充分了解，就会对孩子的行为多一分理解，即使孩子出现问题，也会用比较科学的态度来解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83808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（</a:t>
            </a:r>
            <a:r>
              <a:rPr b="1" lang="en-US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）家长在教育孩子时，应该用平等的态度与孩子交流，而不是简单的说教。比如发现孩子迷恋网络</a:t>
            </a:r>
            <a:r>
              <a:rPr b="1" lang="en-US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﹑</a:t>
            </a: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染头发等问题。家长们一定要放下架子，跟孩子就这一问题进行沟通，了解孩子的想法，和这样做的原因，然后再对孩子进行合理的引导，而不是强硬的说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3"/>
          <p:cNvSpPr/>
          <p:nvPr/>
        </p:nvSpPr>
        <p:spPr>
          <a:xfrm>
            <a:off x="533520" y="9144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 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985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从学校及教师的角度，也许有偏颇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D:\湛欢\图片\e.BMP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0" y="60948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258fc"/>
                </a:solidFill>
                <a:latin typeface="Arial"/>
              </a:rPr>
              <a:t>做到十关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75248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在外过夜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很迟。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学生回家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时间长，次数多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伤回家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超消费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超出友谊交往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绩突然下降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奇装异服，好打扮，或沉默寡言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玩游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476360" y="1341360"/>
            <a:ext cx="68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09480" y="838080"/>
            <a:ext cx="8077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和孩子一起找一个“榜样”学榜样、赶榜样、超榜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和同学横向比不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和自己纵向看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家校同心，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师生同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初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班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91440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30"/>
                </a:solidFill>
                <a:latin typeface="Arial"/>
              </a:rPr>
              <a:t>需要家长配合的方面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304920" y="1371600"/>
            <a:ext cx="76197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控制好上学放学时间及业余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严格控制学生的零花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反对同学聚会及过生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双休日期间尽量少外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强与班主任及任课教师的联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重视每一次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望家长督促孩子有质量完成作业，而不是早晨                                   到学校抄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要把手机给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周找一定时间和孩子聊一聊各科学习上有什么问题，给孩子创造良好的学习环境，多鼓励孩子，多与孩子一同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2189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孩子的升学</a:t>
            </a:r>
            <a:r>
              <a:rPr b="1" lang="en-US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、就业、乃至整个人生的发展打下坚实的良好的基础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35280" y="2565360"/>
            <a:ext cx="5143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携起手来</a:t>
            </a:r>
            <a:r>
              <a:rPr b="0" lang="en-US" sz="54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lang="en-US" sz="54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6360" y="4724280"/>
            <a:ext cx="582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为孩子们出谋划策</a:t>
            </a:r>
            <a:r>
              <a:rPr b="1" lang="en-US" sz="54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</a:t>
            </a:r>
            <a:endParaRPr b="1" lang="en-US" sz="54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3454560" y="620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最后共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308240" y="533520"/>
            <a:ext cx="661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孩子是我们的希望</a:t>
            </a:r>
            <a:r>
              <a:rPr b="0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198108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教育孩子是我们共同的责任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82560" y="3429000"/>
            <a:ext cx="7332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携起手来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9960" y="4648320"/>
            <a:ext cx="7421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一起为孩子的健康成长而努力吧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!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3880" y="106668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家长的理解和支持</a:t>
            </a:r>
            <a:r>
              <a:rPr b="0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362320" y="34290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是我们教师前进的动力</a:t>
            </a:r>
            <a:r>
              <a:rPr b="1" lang="en-US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.</a:t>
            </a:r>
            <a:endParaRPr b="1" lang="en-US" sz="66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47920" y="990720"/>
            <a:ext cx="63244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虽然我们不做到尽善尽美</a:t>
            </a:r>
            <a:r>
              <a:rPr b="0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828800" y="358128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但是我们能做到尽职尽责</a:t>
            </a:r>
            <a:r>
              <a:rPr b="1" lang="en-US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.</a:t>
            </a:r>
            <a:endParaRPr b="1" lang="en-US" sz="66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9907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感谢您的</a:t>
            </a:r>
            <a:endParaRPr b="0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28195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支持、理解、信任、合作！</a:t>
            </a:r>
            <a:endParaRPr b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3640" cy="8046720"/>
            <a:chOff x="0" y="0"/>
            <a:chExt cx="9143640" cy="8046720"/>
          </a:xfrm>
        </p:grpSpPr>
        <p:pic>
          <p:nvPicPr>
            <p:cNvPr id="171" name="Picture 4" descr="p_584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5"/>
            <p:cNvSpPr/>
            <p:nvPr/>
          </p:nvSpPr>
          <p:spPr>
            <a:xfrm>
              <a:off x="1679760" y="7132320"/>
              <a:ext cx="16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矩形 7" descr=""/>
          <p:cNvPicPr/>
          <p:nvPr/>
        </p:nvPicPr>
        <p:blipFill>
          <a:blip r:embed="rId3"/>
          <a:stretch/>
        </p:blipFill>
        <p:spPr>
          <a:xfrm>
            <a:off x="317520" y="2451240"/>
            <a:ext cx="835668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74520"/>
            <a:ext cx="518184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尊敬的各位家长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295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感谢您们在百忙之中抽空来参加家长会，协助并参与我们的教育教学工作。关心、帮助、督促贵子女学习是我们共同的心愿！使您的孩子得到全面发展和提高是我们共同的目标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3"/>
          <p:cNvSpPr/>
          <p:nvPr/>
        </p:nvSpPr>
        <p:spPr>
          <a:xfrm>
            <a:off x="838080" y="99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在孩子们进入初三的关键时期，我们召开了这次家长会，应该说意义是深远的，既是期中考试后的总结，又是升入初三的起点，更是展望中考的一个预备会。要使教师家长进一步达成共识，形成教育的最大合力，把初中的基础打的更加坚实，为中考的到来做好准备，为孩子在未来的竞争中准备实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华文行楷"/>
                <a:ea typeface="华文行楷"/>
              </a:rPr>
              <a:t>家长会的主题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1295280"/>
            <a:ext cx="691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正确看待学生的学习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程重于结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838080" y="914400"/>
            <a:ext cx="769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1557"/>
                </a:solidFill>
                <a:latin typeface="Arial"/>
              </a:rPr>
              <a:t>没有目标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1557"/>
                </a:solidFill>
                <a:latin typeface="Arial"/>
              </a:rPr>
              <a:t>没有动力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533520" y="457200"/>
            <a:ext cx="7696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哈佛大学有一个非常著名的关于目标对人生影响的跟踪调查。调查的对象是一群智力、学历、环境等条件都差不多的大学毕业生。结果是这样的：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27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没有目标；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60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目标模糊；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10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有清晰但比较短期的目标；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3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有清晰而长远的目标。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　　以后的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年，他们开始了自己的职业生涯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        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……</a:t>
            </a:r>
            <a:br>
              <a:rPr sz="2000"/>
            </a:b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年后，哈佛再次对这群学生进行了跟踪调查。结果是这样的：</a:t>
            </a:r>
            <a:br>
              <a:rPr sz="2000"/>
            </a:b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27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他们的生活没有目标，浑浑噩噩过日子，过得很不如意，生活没有激情，并且常常抱怨自己的命运不好。</a:t>
            </a:r>
            <a:br>
              <a:rPr sz="2000"/>
            </a:b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60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他们安稳的生活与工作，但都没有什么特别的成绩，几乎都生活在社会的中下层；</a:t>
            </a:r>
            <a:br>
              <a:rPr sz="2000"/>
            </a:b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10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他们的短期目标不断的实现，成为各个领域中的专业人士，大都生活在社会的中上层；</a:t>
            </a:r>
            <a:br>
              <a:rPr sz="2000"/>
            </a:b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剩下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3%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的人，</a:t>
            </a:r>
            <a:r>
              <a:rPr b="1" lang="en-US" sz="2000" spc="-1" strike="noStrike">
                <a:solidFill>
                  <a:srgbClr val="001557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1557"/>
                </a:solidFill>
                <a:latin typeface="Arial"/>
              </a:rPr>
              <a:t>年间他们朝着一个方向不懈努力，几乎都成为各界的成功人士，其中不乏行业领袖、社会精英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2:32:00Z</dcterms:created>
  <dc:creator>Administrator</dc:creator>
  <dc:description/>
  <cp:keywords/>
  <dc:language>en-US</dc:language>
  <cp:lastModifiedBy>User</cp:lastModifiedBy>
  <dcterms:modified xsi:type="dcterms:W3CDTF">2013-11-19T03:18:24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