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projctor.wav" ContentType="audio/x-wav"/>
  <Override PartName="/ppt/media/image24.jpeg" ContentType="image/jpeg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type.wav" ContentType="audio/x-wav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8.gif" ContentType="image/gif"/>
  <Override PartName="/ppt/media/image13.jpeg" ContentType="image/jpeg"/>
  <Override PartName="/ppt/media/image30.jpeg" ContentType="image/jpeg"/>
  <Override PartName="/ppt/media/image28.wmf" ContentType="image/x-wmf"/>
  <Override PartName="/ppt/media/image3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10D6-F17F-4D20-B783-5B523458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906-32BC-46BB-8CDE-590728D0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B931F-8580-4689-A81B-037684B9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1D94F-FEF4-40FB-BB7E-10341D3C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02175-C5BC-4571-82B3-4446F6EA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E4BAD-763A-4181-8DA4-B99CDA22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34DFC-52A6-4A88-9335-DDC4CDA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7D90D-B618-41C6-863F-7BDED670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29B76A-1903-4AF0-A8AE-E5982E80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15AE0-030E-43E2-BFDE-F9A32B2B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0AB16-A7F2-4868-B6EF-2BC99186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B98-38AE-47C1-98A1-2CDF4080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631-ED99-4715-9EC7-3910CD9F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7037-AFFC-46D1-B51A-EEED5CD0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21C8-473D-45F8-BCC5-48DB131F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E1E1-23AF-4829-9F64-406E38C6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87A3-FCA8-49A0-A97E-42CD33DC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B530-CE3C-4F93-9DA0-252CF19F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592C-8C31-4636-8620-9E6F0A29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2B34-B734-4A85-B159-10E3B6D1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75E0-BF3C-43EA-B005-47B82C3A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7389-423E-44F8-9F75-E2B71041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0173-F492-4123-94E2-CBEE563E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F7D7-7A1E-49FE-A886-8884D835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49ED-1A72-4EB8-807A-C898646D1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33990-FFD3-436F-9FFF-DA37522FD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0E74-2C6A-4A12-91DB-5B69D7D9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7501-C01B-4B72-B16B-6EF4310E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7BD8C-4DA4-4F3D-B517-62A83D79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18DD4-4E06-4781-8F0A-DEA3FC04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33DD-931B-400B-BEA0-67B09405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39E-389F-4490-9229-E5E68DCF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98261-C898-45AE-A174-8934F8E6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79820-35A4-4E73-835A-35B54D09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7A21-680D-438D-86C3-23A98214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1BE0C-607B-4BBF-9C6D-A2A12573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4B9B7-9786-45E5-BCA7-35DE37D4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B40BA-91A0-41F3-94C5-060122F16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FFE7-A3CF-4585-9AC6-DDE6CFF0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610F-2AC4-43CC-94A7-7F2F3BBA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91922-E7BA-4650-A07D-DDCD0EEF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F6CE2-5334-46D5-A5EA-402EC8B8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958-271E-4AB0-B845-623A8C68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CD1F1-DC5E-4850-BD80-A7B26C37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34BDB-C715-4B90-9D31-95AD9B34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87E51-00F3-4176-96CD-EAD27014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5174-8E4E-4AA8-BC40-5963C786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19A8-4FE5-46D1-B746-EC19295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A7637-4099-48FD-96A6-1FB6254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770C-E558-421D-A62A-077E5EF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5769-FFD1-4951-AC00-9E493940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2D741-CA32-4835-BD14-5A9256EE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A40EB-0DB3-49C8-BD01-5B3C7A928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EB64-ECA0-4846-B2F5-B473E129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054C-4C3D-4DD2-93F4-DC1773F7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220AE-ECCC-4178-A8D6-B1CDC4F5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0E291-BC85-48D6-AA86-A6573733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FE59F-4B53-4BD1-9559-BE1BD307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1DD25-B6F6-408E-8C96-12AFED96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60742-ABAE-4C95-9764-ABA0ACE2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AF43-6343-4D2D-9DCD-3353E5602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9C90A-288E-4BDE-9A65-CB42B59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3B130-D61C-46DC-A842-39BC861A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3FA70-109A-4631-8D9B-1051C37B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8822-806C-4159-BA74-6B6FBD3D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F3A74-9F08-47E8-9CC8-E6F76287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D0265-5AFE-4765-9870-E0081848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6EC6A-FCA2-463E-A2EA-4DD944EA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B0C12-3E3A-4374-8D16-E9B7FAAA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65B75-8B84-4957-9C58-2F60B7C2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F0517-4DC0-404F-9C9F-E2A56CEA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C2112-B84A-4627-8AF0-83F73BBB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A1D41-9AF8-45AC-ACDB-3DC22B02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8FBC4-4749-455C-898B-16F3EFC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15DDC-4C5B-409C-91F6-63A61DD8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E72-7C68-4B26-83E1-AA961D1E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C0607-DB65-493E-B937-AB90A584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34C1E-42A2-47B2-A64C-EDD785EF1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5BB43-A473-4A42-BAB2-6A0F1A49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ED4B9-0282-4883-A7BD-6D92CA43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CF37C-BD98-409E-B44E-14D13D0F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D1CD-3E5B-4BBA-BF96-1C30119C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0386D-DF13-4974-AC76-4A89444D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96D15-7E6C-4109-AB1D-6C40D58C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37DEC-BF54-4C05-A060-BE234730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9E3AD-AF81-4947-B198-FBB4BE7C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DE0-9B50-47A0-B9FC-BD0E3BA9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4CC38-9A9C-42A9-9EC1-8C95D07D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1864-583F-4AEA-B0BB-4FFA602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689E-F42B-4238-976E-19CE23A4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17F02-2E45-4E68-B8B2-5BDAFC60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DAD95-D73B-4B2E-8B01-1B55A5B2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93CBB-FA67-4825-9A6F-E682B09C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AA15B-5828-45F4-BF5A-EE2F0098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CAFBF-0260-4CD3-B8E8-062297DE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AC523-069D-4EF7-A802-38F3A80D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8633B-8163-4831-B156-998BF2B4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416-5D6B-4856-A545-D3332EFD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DD75F-24C5-4241-953F-04DF6528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0FF4A-77D4-49E5-A0C1-947CA211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0FFEA-1FF0-4FB4-A99A-77F16F89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29D4C-9504-447B-9D0C-5369218A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0388A-47E0-4B3A-8A7C-F7B4BF73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606F8-8089-4DDD-B07C-02EBF218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EF3D4-AEF6-4D27-9AAC-4F0E22BB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55ECB-908F-4F18-8B2F-2EBFE332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7B32F-D4AB-411C-9F72-F50F1578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6AD72-08ED-4661-9766-90A45035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A102-9B4E-4F9A-9D58-E3AD04EBEF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8285-0779-4D19-8728-051742EA87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4EEF-378C-4701-AA19-C8416608B6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3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4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7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0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8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1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4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0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2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0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5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8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4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7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3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5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242-CD1B-43E2-9A72-F21707829BF6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9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00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3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4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5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8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3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9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6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2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5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8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1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0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3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06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7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6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89E3-8495-4052-B05D-891F69B06E25}" type="slidenum">
              <a:rPr b="0" lang="zh-CN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6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17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18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67DA-3A42-46F2-BE69-3293543FD1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8C5C-720B-455D-B80E-9D3867975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47C8-E44B-4CF3-9F60-5DAB8F23B221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7536-9328-41AB-95D0-6406C92B41AD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191120" y="68580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2340000" y="333360"/>
            <a:ext cx="4413240" cy="61200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971640" y="69228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出师一表真名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51640" y="620640"/>
            <a:ext cx="7621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方正启体简体"/>
              </a:rPr>
              <a:t>千载谁堪仲伯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8360" y="443700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-186480" y="3789360"/>
            <a:ext cx="11023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陆游—《书愤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95280" y="1341360"/>
            <a:ext cx="8497800" cy="155628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诸葛亮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81─23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卓越的政治家、军事家、文学家。字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孔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琅琊阳都（今山东省沂水县）人。早年避乱于荆州，曾躬耕于南阳隆中。建安十二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07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刘备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顾茅庐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请他出山共图大业。次年，他辅佐刘备联合孙权，在赤壁击败曹操，形成三足鼎立的局面。刘备称帝后，拜他为丞相。刘备死时托付他辅佐后主刘禅，后卒于军中。他的文学成就，主要以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散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称。文章写得周密畅达，代表作是《出师表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203640" y="406440"/>
            <a:ext cx="2736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者简介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50920" y="1487520"/>
            <a:ext cx="8686800" cy="1129320"/>
          </a:xfrm>
          <a:prstGeom prst="rect">
            <a:avLst/>
          </a:prstGeom>
          <a:noFill/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诸葛亮这篇表文写于蜀汉建兴（后主刘禅年号）五年（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7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）第一次出师伐魏之前。当时蜀汉已从猇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en-GB" sz="34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xi</a:t>
            </a:r>
            <a:r>
              <a:rPr b="1" lang="zh-CN" sz="34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ā</a:t>
            </a:r>
            <a:r>
              <a:rPr b="1" lang="en-GB" sz="34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o</a:t>
            </a:r>
            <a:r>
              <a:rPr b="1" lang="en-GB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亭（现在湖北宜都）战役的惨败中恢复过来，既与吴国通好，又平定了南方的叛乱，所以诸葛亮决定北上伐魏，写这篇表文的目的是，希望刘禅任用贤臣，采纳忠言，赏罚分明，国内政治修明，有一个稳定的战略后方，以实现先帝的“北定中原”，“兴复汉室”的宏大理想。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5280" y="189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55640" y="115920"/>
            <a:ext cx="18669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写作背景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7699320" y="0"/>
            <a:ext cx="1444680" cy="134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684360" y="620640"/>
            <a:ext cx="8280360" cy="48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文言文翻译方法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留”，古今意义相同的词，古代人名、地名、物名、官名、国号、年号、度量衡单位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删”，删掉无须译出的文言虚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补”，（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变单音词为双音词；（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补出省略句中的省略成分；（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）补出省略了的语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4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换”，用现代词汇替换古代词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5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调” 把古汉语倒装句调整为现代汉语句式。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6.“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变”，在忠实于原文的基础上，活译有关文字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0" y="333360"/>
            <a:ext cx="91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创业未半而中道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崩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今天下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益州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疲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此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急存亡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。然侍卫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臣不懈于内，忠志之士忘身于外者，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帝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殊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欲报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陛下也。诚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圣听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遗德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恢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士之气，不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妄自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引喻失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塞忠谏之路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8380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57600" y="11430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184464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微软雅黑"/>
              </a:rPr>
              <a:t>人力疲劳，物力缺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51280" y="184464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995640" y="1844640"/>
            <a:ext cx="51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实在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微软雅黑"/>
              </a:rPr>
              <a:t>这里是“时”的意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3716280"/>
            <a:ext cx="291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微软雅黑"/>
              </a:rPr>
              <a:t>特别厚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003640" y="479736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微软雅黑"/>
              </a:rPr>
              <a:t>过分地看轻自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716360" y="278136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微软雅黑"/>
              </a:rPr>
              <a:t>发语词，大概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276720" y="371628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57200" y="76212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宫中府中，俱为一体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陟罚臧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宜异同。若有作奸犯科及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为忠善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宜付有司论其刑赏，以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陛下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平明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不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偏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使内外异法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1720" y="3886200"/>
            <a:ext cx="40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平严明的治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43400" y="3886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显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262480" y="266688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尽忠做好事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685800" y="380880"/>
            <a:ext cx="7924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侍中侍郎郭攸之、费祎、董允等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此皆</a:t>
            </a:r>
            <a:r>
              <a:rPr b="1" lang="zh-CN" sz="4000" spc="-1" strike="noStrike">
                <a:solidFill>
                  <a:srgbClr val="9900ff"/>
                </a:solidFill>
                <a:latin typeface="Times New Roman"/>
              </a:rPr>
              <a:t>良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志虑忠纯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是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先帝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陛下。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为宫中之事，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无大小，悉以咨之，然后施行，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裨补阙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有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广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838080" y="1066680"/>
            <a:ext cx="5462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善良的人，诚实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形容词用作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438280" y="3505320"/>
            <a:ext cx="40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时自称，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971800" y="5943600"/>
            <a:ext cx="43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的益处、成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638680" y="2286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609480" y="304920"/>
            <a:ext cx="8001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将军向宠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性行淑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晓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事，试用于昔日，先帝称之曰能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以众议举宠为督。愚以为营中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事，悉以咨之，必能使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行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和睦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优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得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62720" y="1066680"/>
            <a:ext cx="32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晓，精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724280" y="4724280"/>
            <a:ext cx="342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队伍，指军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892600" y="5334120"/>
            <a:ext cx="625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才能高的人，才能低的人。形容词用作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457200" y="1522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亲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贤臣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人，此先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所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兴隆也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小人，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贤臣，此后汉所以倾颓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帝在时，每与臣论此事，未尝不叹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痛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桓、灵也。侍中、尚书、长史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军，此悉贞良死节之臣，愿陛下亲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信之，则汉室之隆，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计日而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961920" y="112536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亲近。形容词用作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83080" y="62064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原因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050920" y="22766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疏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6440" y="4443480"/>
            <a:ext cx="256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心遗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052720" y="6216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着时间而到来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为期不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57200" y="228600"/>
            <a:ext cx="8939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臣本布衣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耕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南阳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苟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性命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世，不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闻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诸侯。先帝不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臣卑鄙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猥自枉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三顾臣于草庐之中，咨臣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当世之事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由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感激，遂许先帝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驱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值倾覆，受任于败军之际，奉命于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难之间，尔来二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年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14600" y="914400"/>
            <a:ext cx="13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648320" y="83808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苟且保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52480" y="198108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闻名做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771640" y="4221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164200" y="422100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跑，喻奔走效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580000" y="5734080"/>
            <a:ext cx="41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通“又”，表余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2485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812000" y="29973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28600" y="533520"/>
            <a:ext cx="8915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帝知臣谨慎，故临崩寄臣以大事也。受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来，夙夜忧叹，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托付不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以伤先帝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明，故五月渡泸，深入不毛。今南方已定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兵甲已足，当奖率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三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北定中原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竭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钝，攘除奸凶，兴复汉室，还于旧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220968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托付的事情未能办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2680" y="441972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全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391520" y="4495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希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79280" y="476280"/>
            <a:ext cx="8964720" cy="18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出师未捷身先死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常使英雄泪满襟。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杜甫《蜀相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-46080" y="3048120"/>
            <a:ext cx="36813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鞠躬尽瘁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死而后已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6172200" y="2286000"/>
            <a:ext cx="2971800" cy="43434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pic>
        <p:nvPicPr>
          <p:cNvPr id="642" name="" descr=""/>
          <p:cNvPicPr/>
          <p:nvPr/>
        </p:nvPicPr>
        <p:blipFill>
          <a:blip r:embed="rId3"/>
          <a:srcRect l="10058" t="0" r="38118" b="17462"/>
          <a:stretch/>
        </p:blipFill>
        <p:spPr>
          <a:xfrm>
            <a:off x="3352680" y="2286000"/>
            <a:ext cx="280692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457200" y="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此臣所以报先帝而忠陛下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职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。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斟酌损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进尽忠言，则攸之、祎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允之任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愿陛下托臣以讨贼兴复之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9900ff"/>
                </a:solidFill>
                <a:latin typeface="Times New Roman"/>
              </a:rPr>
              <a:t>不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臣之罪，以告先帝之灵。若无兴德之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则责攸之、祎、允等之慢，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62720" y="6094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职责本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71500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400800" y="274320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没有成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838080" y="152280"/>
            <a:ext cx="812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陛下亦宜自谋，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咨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善道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察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言，深追先帝遗诏。臣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恩感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今当远离，临表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涕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不知所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8991720" cy="30481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6324480" y="762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观察采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334120" y="1828800"/>
            <a:ext cx="11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43400" y="304812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下眼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304920" y="3808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0" y="5040"/>
            <a:ext cx="676908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㈡解释下列划线的词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益州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疲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盖追先帝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殊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⒊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恢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志士之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⒋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未尝不叹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痛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桓、灵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不以臣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卑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感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916360" y="981000"/>
            <a:ext cx="230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贫困衰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211640" y="1773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特殊待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0000" y="2565360"/>
            <a:ext cx="23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扬光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588000" y="3357720"/>
            <a:ext cx="23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心遗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19480" y="4149720"/>
            <a:ext cx="46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位低微，见识浅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987640" y="501336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动激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465480"/>
            <a:ext cx="874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㈢翻译下列文言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庶竭驾钝，攘除奸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⒉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任于败军之际，奉命于危难之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下三分，益州疲弊，此诚危急存亡之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68360" y="1268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希望竭尽我平庸的才智，铲除奸邪凶顽的敌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68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兵败的时候接受重任，在危难的关头奉命出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68360" y="511812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在天下分裂成三国，我们蜀国贫困衰弱，这真正是形势危急，决定存亡的关头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900000" y="766800"/>
            <a:ext cx="32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今词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438280" y="1752480"/>
            <a:ext cx="63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心遗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未尝不叹息痛恨于桓、灵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40000" y="2997360"/>
            <a:ext cx="28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非常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484360" y="4076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贫民百姓。臣本布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484360" y="5157720"/>
            <a:ext cx="30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布的衣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86120" y="2349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4581360"/>
            <a:ext cx="143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布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71640" y="213372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365720"/>
            <a:ext cx="215640" cy="11509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332000" y="1197000"/>
            <a:ext cx="172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6120" y="177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卑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86120" y="4365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484360" y="1052640"/>
            <a:ext cx="49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身份低微，出身鄙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帝不以臣卑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268360" y="2355840"/>
            <a:ext cx="68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语言、行为）恶劣；不道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627280" y="3933720"/>
            <a:ext cx="57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动，激动。由是感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627280" y="5013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对方的好意或帮助而对他产生好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16000" y="148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16000" y="414972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554040"/>
            <a:ext cx="655164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愿陛下托臣以讨贼兴复之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效则治臣之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是感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臣不胜受恩感激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72360" y="234936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995640" y="3141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现、完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700360" y="4797360"/>
            <a:ext cx="32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动，激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995640" y="5516640"/>
            <a:ext cx="19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0" y="406080"/>
            <a:ext cx="417672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光先帝遗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恢弘志士之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皆良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劣得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419640" y="1052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光，名词用为动词，发扬光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348000" y="2421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恢弘，形容词用为动词，发扬扩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484360" y="3716280"/>
            <a:ext cx="55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良实，形容词用为名词，善良诚实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556000" y="5013360"/>
            <a:ext cx="54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优劣，形容词用为名词，才能高的和才能低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400" y="160200"/>
            <a:ext cx="237024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468360" y="0"/>
            <a:ext cx="604836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贤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小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攘除奸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责攸之、讳、允等之慢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195640" y="620640"/>
            <a:ext cx="64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，形容词用为动词，亲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268360" y="1989000"/>
            <a:ext cx="64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远，形容词用为动词，疏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71640" y="3284640"/>
            <a:ext cx="54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奸凶，形容词用为名词，奸邪凶顽的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195640" y="5516640"/>
            <a:ext cx="65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慢，形容词用为动词，怠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2362320" y="16765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04920" y="533520"/>
            <a:ext cx="4114800" cy="567684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419076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395280" y="944280"/>
            <a:ext cx="48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假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裨补阙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尔来二十有一年矣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24922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阙，通“缺”，缺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971640" y="4797360"/>
            <a:ext cx="51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，通“又”，表余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0" y="409680"/>
            <a:ext cx="525636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虚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临崩寄臣以大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帝不以臣卑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光先帝遗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塞忠谏之路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受命以来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821200" y="22050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词，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067280" y="2997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介词，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107040" y="3789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目的，来，用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851280" y="4581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结果，以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503600" y="54514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连词，表时间，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108000" y="189000"/>
            <a:ext cx="8785080" cy="6553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071880" y="228600"/>
            <a:ext cx="31982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清思路，把握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71520" y="1295280"/>
            <a:ext cx="87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部分    段落          要点              表达方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2880" y="1981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47160" y="19810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广开言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81080" y="2590920"/>
            <a:ext cx="3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70840" y="2590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赏罚分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677960" y="31240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-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67960" y="3200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贤远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371600" y="2133720"/>
            <a:ext cx="304920" cy="1396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6360 h 1396800"/>
              <a:gd name="textAreaBottom" fmla="*/ 1360440 h 139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6040" y="2436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5120" y="3886200"/>
            <a:ext cx="41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193920" y="38862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叙述经历：三顾草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906560" y="4572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193920" y="4572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效忠心愿：托孤之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447920" y="4038480"/>
            <a:ext cx="228600" cy="939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4480 h 939960"/>
              <a:gd name="textAreaBottom" fmla="*/ 91548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03440" y="3960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465200" y="5334120"/>
            <a:ext cx="10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346200" y="5334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归结责任，结束全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03440" y="5334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019920" y="2108160"/>
            <a:ext cx="152280" cy="1625760"/>
          </a:xfrm>
          <a:custGeom>
            <a:avLst/>
            <a:gdLst>
              <a:gd name="textAreaLeft" fmla="*/ 0 w 152280"/>
              <a:gd name="textAreaRight" fmla="*/ 55080 w 152280"/>
              <a:gd name="textAreaTop" fmla="*/ 42120 h 1625760"/>
              <a:gd name="textAreaBottom" fmla="*/ 1583640 h 162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6923880" y="23605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寓情于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705720" y="411480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304760" y="4114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寓情于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22844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抒发感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533520" y="380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理解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57200" y="1295280"/>
            <a:ext cx="5181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。诸葛亮对当前形势的分析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066680" y="2743200"/>
            <a:ext cx="6324840" cy="11912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客观条件：今天下三分，益州疲弊，此诚危急存亡之秋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143000" y="4191120"/>
            <a:ext cx="647712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观条件：侍卫之臣不懈于内，忠志之士忘身于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380880" y="3808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。诸葛亮向后主提出的三条建议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80880" y="1295280"/>
            <a:ext cx="4800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张圣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陟罚臧否，不宜异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贤臣，远小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419720" y="2666880"/>
            <a:ext cx="976320" cy="486000"/>
          </a:xfrm>
          <a:custGeom>
            <a:avLst/>
            <a:gdLst>
              <a:gd name="textAreaLeft" fmla="*/ 0 w 976320"/>
              <a:gd name="textAreaRight" fmla="*/ 976680 w 97632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809880" y="20574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038480" y="2666880"/>
            <a:ext cx="83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2133720"/>
            <a:ext cx="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800600" y="2286000"/>
            <a:ext cx="824040" cy="762120"/>
          </a:xfrm>
          <a:custGeom>
            <a:avLst/>
            <a:gdLst>
              <a:gd name="textAreaLeft" fmla="*/ 102960 w 824040"/>
              <a:gd name="textAreaRight" fmla="*/ 721080 w 8240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5257080" y="21337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715000" y="1523880"/>
            <a:ext cx="457200" cy="1905120"/>
          </a:xfrm>
          <a:custGeom>
            <a:avLst/>
            <a:gdLst>
              <a:gd name="textAreaLeft" fmla="*/ 292320 w 457200"/>
              <a:gd name="textAreaRight" fmla="*/ 457560 w 457200"/>
              <a:gd name="textAreaTop" fmla="*/ 43200 h 1905120"/>
              <a:gd name="textAreaBottom" fmla="*/ 18619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88"/>
                  <a:pt x="10800" y="1575"/>
                </a:cubicBezTo>
                <a:lnTo>
                  <a:pt x="10800" y="9225"/>
                </a:lnTo>
                <a:cubicBezTo>
                  <a:pt x="10800" y="10013"/>
                  <a:pt x="5400" y="10800"/>
                  <a:pt x="0" y="10800"/>
                </a:cubicBezTo>
                <a:cubicBezTo>
                  <a:pt x="5400" y="10800"/>
                  <a:pt x="10800" y="11588"/>
                  <a:pt x="10800" y="12375"/>
                </a:cubicBezTo>
                <a:lnTo>
                  <a:pt x="10800" y="20025"/>
                </a:lnTo>
                <a:cubicBezTo>
                  <a:pt x="10800" y="20813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324480" y="1371600"/>
            <a:ext cx="2286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广开言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严明赏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亲贤远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9480" y="38862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作者自叙志趣过人，不求功名的话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47242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苟全性命于乱世，不求闻达于诸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0" y="54864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457200" y="228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中两句千古名言，说尽诸葛亮一生的话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1"/>
          <a:stretch/>
        </p:blipFill>
        <p:spPr>
          <a:xfrm>
            <a:off x="304920" y="3063960"/>
            <a:ext cx="4038480" cy="2882880"/>
          </a:xfrm>
          <a:prstGeom prst="rect">
            <a:avLst/>
          </a:prstGeom>
          <a:ln w="0">
            <a:noFill/>
          </a:ln>
        </p:spPr>
      </p:pic>
      <p:pic>
        <p:nvPicPr>
          <p:cNvPr id="855" name="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856" name=""/>
          <p:cNvSpPr/>
          <p:nvPr/>
        </p:nvSpPr>
        <p:spPr>
          <a:xfrm>
            <a:off x="1143000" y="1295280"/>
            <a:ext cx="78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cc"/>
                </a:solidFill>
                <a:latin typeface="Times New Roman"/>
              </a:rPr>
              <a:t>受任于败军之际，奉命于危难之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7200" y="19810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文中列举的使诸葛亮报先帝忠陛 下的两 件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143000" y="5943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三顾茅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562720" y="601992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白帝城托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"/>
          <p:cNvSpPr/>
          <p:nvPr/>
        </p:nvSpPr>
        <p:spPr>
          <a:xfrm>
            <a:off x="304920" y="457200"/>
            <a:ext cx="786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诸葛亮此次出师的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57200" y="1981080"/>
            <a:ext cx="4648320" cy="1434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今南方已定，兵甲已足。当奖率三军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北定中原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，庶竭驽钝，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攘除奸凶，兴复汉室，还于旧都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"/>
          <p:cNvSpPr/>
          <p:nvPr/>
        </p:nvSpPr>
        <p:spPr>
          <a:xfrm>
            <a:off x="8380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文中隐藏了许多成语，能找出来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54688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9640" y="278136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妄自菲薄     三顾茅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11280" y="3716280"/>
            <a:ext cx="69339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引喻失义     作奸犯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计日而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6858000" y="2971800"/>
            <a:ext cx="1676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聪明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pic>
        <p:nvPicPr>
          <p:cNvPr id="8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2" dur="3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80880" y="228600"/>
            <a:ext cx="28958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课外拓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3520" y="14479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5190f"/>
                </a:solidFill>
                <a:latin typeface="Times New Roman"/>
                <a:ea typeface="仿宋_GB2312"/>
              </a:rPr>
              <a:t>下边一副对联概括了诸葛亮一生的功绩，你能说出描写了他的哪些具体的事件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33520" y="2971800"/>
            <a:ext cx="8610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收二川，排八阵，六出七擒，五丈原前，点四十九盏明灯，一心只为酬三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取西蜀，定南蛮，东和北拒，中军帐里，变金木土爻神卦，水面偏能用火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427640" y="6094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22822b"/>
                </a:solidFill>
                <a:latin typeface="Times New Roman"/>
              </a:rPr>
              <a:t>你知道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671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7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2819520" y="838080"/>
            <a:ext cx="40384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三顾：三顾茅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00600" y="2057400"/>
            <a:ext cx="38098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六出：六出祁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85800" y="2057400"/>
            <a:ext cx="39625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东和：东和东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057400" y="5029200"/>
            <a:ext cx="48769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收二川：收东川西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5800" y="2971800"/>
            <a:ext cx="39625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北拒：北拒曹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800600" y="2971800"/>
            <a:ext cx="39625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七擒：七擒孟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057400" y="4038480"/>
            <a:ext cx="50292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排八阵：摆设八阵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1403280" y="549360"/>
            <a:ext cx="5791320" cy="825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Times New Roman"/>
                <a:ea typeface="楷体_GB2312"/>
              </a:rPr>
              <a:t>武侯祠匾额对联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50920" y="1773360"/>
            <a:ext cx="8686800" cy="3506040"/>
          </a:xfrm>
          <a:prstGeom prst="rect">
            <a:avLst/>
          </a:prstGeom>
          <a:noFill/>
          <a:ln w="349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表酬三顾，一对足千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厅对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勤王事大好儿孙，三世忠贞，史笔犹褒陈庶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师表惊人文字，千秋涕泪，墨痕同溅岳将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诸葛亮殿对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0" y="5156280"/>
            <a:ext cx="2268360" cy="1701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133720" y="0"/>
            <a:ext cx="426708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学习拓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6094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Times New Roman"/>
              </a:rPr>
              <a:t>一、中国历史上曾出现过许许多多著名的政治家，如何衡量他们？你认为一个比较完全的政治家，应该具备那些条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4920" y="228600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应该有远大的抱负，坚强的责任感，以天下为己任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有敏锐的洞察力，能洞悉当时国家之形势，针对国计民生症结所在，提出兴利除弊的方案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知人善任，选拔贤才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集思广益，善于采纳群言，改进工作。请结合本文所学和《三国演义》对诸葛亮进行评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304920" y="1828800"/>
            <a:ext cx="85341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Times New Roman"/>
              </a:rPr>
              <a:t>二、文章提出的三个建议，在现实生活中，有什么借鉴意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6" name="PlaceHolder 1"/>
          <p:cNvSpPr>
            <a:spLocks noGrp="1"/>
          </p:cNvSpPr>
          <p:nvPr>
            <p:ph/>
          </p:nvPr>
        </p:nvSpPr>
        <p:spPr>
          <a:xfrm>
            <a:off x="663480" y="620568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3059280" y="2349360"/>
            <a:ext cx="424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再会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5181480" y="3886200"/>
            <a:ext cx="3160800" cy="22464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2743200" cy="23256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4"/>
          <a:stretch/>
        </p:blipFill>
        <p:spPr>
          <a:xfrm>
            <a:off x="3276720" y="1143000"/>
            <a:ext cx="2584440" cy="22734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6019920" y="1143000"/>
            <a:ext cx="2733480" cy="22446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6"/>
          <a:stretch/>
        </p:blipFill>
        <p:spPr>
          <a:xfrm>
            <a:off x="1447920" y="3886200"/>
            <a:ext cx="2840040" cy="234936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2050920" y="40464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Times New Roman"/>
                <a:ea typeface="华文行楷"/>
              </a:rPr>
              <a:t>岳飞行书《出师表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03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 Black"/>
                <a:ea typeface="楷体_GB2312"/>
              </a:rPr>
              <a:t>教学目标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领会诸葛亮提出的广开言路、严明赏罚、亲贤远小三项建议的进步性和借鉴意义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认识并学习诸葛亮“鞠躬尽瘁、死而后已”的精神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了解本文议论中融以叙事、抒情的写法。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5391360" cy="5047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11280" y="4071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下列划线字的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崩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疲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陛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（    ）   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弘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妄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菲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薄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钝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罚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裨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340000" y="1484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67280" y="1484280"/>
            <a:ext cx="8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11280" y="2276640"/>
            <a:ext cx="10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580000" y="2276640"/>
            <a:ext cx="16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ó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43280" y="3141720"/>
            <a:ext cx="130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f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40000" y="393372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96000" y="3933720"/>
            <a:ext cx="138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8000" y="472428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427640" y="47242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ā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908000" y="5589720"/>
            <a:ext cx="9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0" y="5589720"/>
            <a:ext cx="13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u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20000" y="4797360"/>
            <a:ext cx="90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p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08720" y="3141720"/>
            <a:ext cx="96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Bó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23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189000"/>
            <a:ext cx="1512720" cy="649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37960" y="33336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读 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611280" y="333360"/>
            <a:ext cx="7921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之 费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阵和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史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夙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夜忧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彰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  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遗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陛下（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斟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损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50920" y="620640"/>
            <a:ext cx="12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80000" y="620640"/>
            <a:ext cx="12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476360" y="1413000"/>
            <a:ext cx="159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á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403280" y="2205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76720" y="2276640"/>
            <a:ext cx="17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ě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692360" y="306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035160" y="3860640"/>
            <a:ext cx="11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84720" y="3860640"/>
            <a:ext cx="162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ō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843280" y="465300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è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403280" y="5516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ē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92360" y="5516640"/>
            <a:ext cx="150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ó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67640" y="6419880"/>
            <a:ext cx="1476360" cy="43812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876920" y="30481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攘（    ）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5000" y="3048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细黑"/>
                <a:ea typeface="华文细黑"/>
              </a:rPr>
              <a:t>r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68360" y="0"/>
            <a:ext cx="380988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imes New Roman"/>
              </a:rPr>
              <a:t>2  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文学常识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39640" y="907920"/>
            <a:ext cx="835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：古代的一种文体。是臣子给君主上的奏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师表”是出兵打仗前，主帅给君主上的奏章。这种表，或表明精忠报国之心，或献攻略之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历来以战名世者甚众，以表传后者颇少。唯独诸葛亮的《出师表》不仅存之典册，而且灿然于文苑。这是因为孔明之作，持论贤明通达，行文情浓义明，因而被奉为理政的规范，为人的圭臬，作文的楷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4:50:12Z</dcterms:created>
  <dc:creator>linhui</dc:creator>
  <dc:description/>
  <dc:language>en-US</dc:language>
  <cp:lastModifiedBy>win</cp:lastModifiedBy>
  <dcterms:modified xsi:type="dcterms:W3CDTF">2012-10-29T01:11:14Z</dcterms:modified>
  <cp:revision>12</cp:revision>
  <dc:subject/>
  <dc:title>PowerPoint 演示文稿</dc:title>
</cp:coreProperties>
</file>