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chimes.wav" ContentType="audio/x-wav"/>
  <Override PartName="/ppt/media/image14.jpeg" ContentType="image/jpeg"/>
  <Override PartName="/ppt/media/image13.jpeg" ContentType="image/jpeg"/>
  <Override PartName="/ppt/media/image4.png" ContentType="image/png"/>
  <Override PartName="/ppt/media/whoosh.wav" ContentType="audio/x-wav"/>
  <Override PartName="/ppt/media/image10.jpeg" ContentType="image/jpeg"/>
  <Override PartName="/ppt/media/image8.jpeg" ContentType="image/jpeg"/>
  <Override PartName="/ppt/media/glass.wav" ContentType="audio/x-wav"/>
  <Override PartName="/ppt/media/image2.jpeg" ContentType="image/jpeg"/>
  <Override PartName="/ppt/media/image3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9F3-80BB-4586-A635-693629FD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776-8A92-4067-B46D-AC59B169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F54-BC06-4C60-AD6A-8A960E3B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36E-DBD6-4766-8434-121B4871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BCAB-3EE0-478F-ACB3-A3ED2BEE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1793-A71F-4F5C-8A85-1F0B8A64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D48F-D4C2-4E31-8F4F-257E3D8B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380F-9C32-4510-828A-C3968B4F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35AE-15FB-4A5D-8856-B9E75C19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C1DB-365E-46EB-A891-9E32E202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3889-716E-421F-ADAC-04902B3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0B75-2999-4F32-9BB7-55142888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8063-80F2-4C75-82CC-F2F03B9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F90D-0518-465B-9569-BAB606A3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4815-B563-4F86-96D8-9CA6EAD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A48B-B239-4641-8933-CEB9271E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C76B-A250-47E4-BF23-60DEB8AD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F4C-36BF-4A15-B33E-919616C4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277-1009-4AB6-BFED-7F36E588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666-DCC5-4E85-945E-963C2ECD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DC5-08DB-4CAB-ACA8-AA4C6C34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C87-88BF-4439-B8CE-E380D987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8D5-465B-4348-AC26-ECEE5B94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FCB-5BEB-4B5C-AC76-C2E16FE7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DCB-572C-413A-885D-049BF5ED4F4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FF2A-5309-44CE-8A9E-C78912F2F68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1349&#36190;&#35832;&#33883;&#19998;&#30456;.WAV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55440"/>
            <a:ext cx="7162560" cy="825120"/>
          </a:xfrm>
          <a:prstGeom prst="rect">
            <a:avLst/>
          </a:prstGeom>
          <a:solidFill>
            <a:srgbClr val="ff99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鞠躬尽瘁死而后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15280" y="-360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51960" y="1066680"/>
            <a:ext cx="1642680" cy="4800600"/>
          </a:xfrm>
          <a:prstGeom prst="rect">
            <a:avLst/>
          </a:prstGeom>
          <a:solidFill>
            <a:srgbClr val="ffcc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长使英雄泪满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01320" y="1143000"/>
            <a:ext cx="1642680" cy="4800600"/>
          </a:xfrm>
          <a:prstGeom prst="rect">
            <a:avLst/>
          </a:prstGeom>
          <a:solidFill>
            <a:srgbClr val="ffcc00"/>
          </a:solidFill>
          <a:ln cap="sq" w="349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华文新魏"/>
                <a:ea typeface="华文新魏"/>
              </a:rPr>
              <a:t>出师未捷身先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73160" y="1419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17c1"/>
                </a:solidFill>
                <a:latin typeface="Times New Roman"/>
                <a:ea typeface="幼圆"/>
              </a:rPr>
              <a:t>你能向同学介绍诸葛亮的事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70080" y="2502000"/>
            <a:ext cx="2438280" cy="4022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994200" y="312588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b800"/>
                </a:solidFill>
                <a:latin typeface="Comic Sans MS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1e03c3"/>
                </a:solidFill>
                <a:latin typeface="Comic Sans MS"/>
                <a:ea typeface="华文新魏"/>
              </a:rPr>
              <a:t>表，是我国古代的一种特殊文体。这篇表写于蜀汉建兴五年（</a:t>
            </a:r>
            <a:r>
              <a:rPr b="0" lang="zh-CN" sz="3200" spc="-1" strike="noStrike">
                <a:solidFill>
                  <a:srgbClr val="1e03c3"/>
                </a:solidFill>
                <a:latin typeface="Comic Sans MS"/>
                <a:ea typeface="华文新魏"/>
              </a:rPr>
              <a:t>227</a:t>
            </a:r>
            <a:r>
              <a:rPr b="0" lang="zh-CN" sz="3200" spc="-1" strike="noStrike">
                <a:solidFill>
                  <a:srgbClr val="1e03c3"/>
                </a:solidFill>
                <a:latin typeface="Comic Sans MS"/>
                <a:ea typeface="华文新魏"/>
              </a:rPr>
              <a:t>）诸葛亮第一次出师伐魏之前。其时蜀汉已从虢亭（今湖北宜都）战役的惨败中初步恢复过来，既与吴国通好，又稳定了自己的战略后方，伐魏时机臻于成熟。在这篇表文中，诸葛亮劝说后主刘禅广开言路，严明赏罚。亲贤远佞，以继承先帝刘备的遗志；也陈述了自己对先帝的感激之情和兴复汉室的决心。文章采用议论、叙事和抒情相结合的写法，语言质朴，感情真挚，历来被认为是“表”中的名篇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762120"/>
            <a:ext cx="9144000" cy="229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篇《出师表》是诸葛亮在公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蜀汉后主刘禅建兴五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兵伐魏，临行时写给刘禅的奏章。当时刘备已经死了四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蜀国和吴国的联盟已经破裂，荆州已经失守，蜀国实际只占有益州，实力本来不厚，再加上连年战争，国力更加困乏。于是诸葛亮派人和吴国修好，又亲自领兵平定了南方少数民族地区的叛乱，稳定了后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“五月渡泸，深入不毛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然后趁魏国君主曹丕身死、魏国大将司马懿被贬的机会，抱着“不伐贼，王业亦亡；帷坐而待亡，孰与伐之’’的心情，出兵北伐，企图巩固蜀汉政权、消灭魏国进而统一中国，复兴汉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Comic Sans MS"/>
              </a:rPr>
              <a:t>《出师表》的时代背景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666880" y="457200"/>
            <a:ext cx="3353040" cy="1008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8288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理清作者的写作思路，把握文章结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32767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领会文章融议论、记叙、抒情为一体的写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48006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新认识诸葛亮，并了解其政治主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朗读课文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553080" y="685800"/>
            <a:ext cx="2133720" cy="838080"/>
          </a:xfrm>
          <a:custGeom>
            <a:avLst/>
            <a:gdLst>
              <a:gd name="textAreaLeft" fmla="*/ 54000 w 2133720"/>
              <a:gd name="textAreaRight" fmla="*/ 2079720 w 2133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4978" h="21600">
                <a:moveTo>
                  <a:pt x="0" y="0"/>
                </a:moveTo>
                <a:lnTo>
                  <a:pt x="54978" y="0"/>
                </a:lnTo>
                <a:lnTo>
                  <a:pt x="54978" y="21600"/>
                </a:lnTo>
                <a:lnTo>
                  <a:pt x="0" y="21600"/>
                </a:lnTo>
                <a:close/>
              </a:path>
              <a:path fill="lightenLess" w="54978" h="21600">
                <a:moveTo>
                  <a:pt x="0" y="0"/>
                </a:moveTo>
                <a:lnTo>
                  <a:pt x="54978" y="0"/>
                </a:lnTo>
                <a:lnTo>
                  <a:pt x="53578" y="1400"/>
                </a:lnTo>
                <a:lnTo>
                  <a:pt x="1400" y="1400"/>
                </a:lnTo>
                <a:close/>
              </a:path>
              <a:path fill="darken" w="54978" h="21600">
                <a:moveTo>
                  <a:pt x="54978" y="0"/>
                </a:moveTo>
                <a:lnTo>
                  <a:pt x="54978" y="21600"/>
                </a:lnTo>
                <a:lnTo>
                  <a:pt x="53578" y="20200"/>
                </a:lnTo>
                <a:lnTo>
                  <a:pt x="53578" y="1400"/>
                </a:lnTo>
                <a:close/>
              </a:path>
              <a:path fill="darkenLess" w="54978" h="21600">
                <a:moveTo>
                  <a:pt x="54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78" y="20200"/>
                </a:lnTo>
                <a:close/>
              </a:path>
              <a:path fill="lighten" w="54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78" h="21600">
                <a:moveTo>
                  <a:pt x="20483" y="7301"/>
                </a:moveTo>
                <a:lnTo>
                  <a:pt x="21397" y="7301"/>
                </a:lnTo>
                <a:lnTo>
                  <a:pt x="21780" y="7667"/>
                </a:lnTo>
                <a:lnTo>
                  <a:pt x="30988" y="7667"/>
                </a:lnTo>
                <a:lnTo>
                  <a:pt x="31545" y="8224"/>
                </a:lnTo>
                <a:lnTo>
                  <a:pt x="31545" y="8772"/>
                </a:lnTo>
                <a:lnTo>
                  <a:pt x="33390" y="8772"/>
                </a:lnTo>
                <a:lnTo>
                  <a:pt x="33756" y="8224"/>
                </a:lnTo>
                <a:lnTo>
                  <a:pt x="34496" y="8224"/>
                </a:lnTo>
                <a:lnTo>
                  <a:pt x="34496" y="13376"/>
                </a:lnTo>
                <a:lnTo>
                  <a:pt x="33756" y="13376"/>
                </a:lnTo>
                <a:lnTo>
                  <a:pt x="33390" y="12828"/>
                </a:lnTo>
                <a:lnTo>
                  <a:pt x="31545" y="12828"/>
                </a:lnTo>
                <a:lnTo>
                  <a:pt x="31545" y="14107"/>
                </a:lnTo>
                <a:lnTo>
                  <a:pt x="21962" y="14107"/>
                </a:lnTo>
                <a:lnTo>
                  <a:pt x="21962" y="9877"/>
                </a:lnTo>
                <a:lnTo>
                  <a:pt x="21780" y="9877"/>
                </a:lnTo>
                <a:lnTo>
                  <a:pt x="21397" y="10243"/>
                </a:lnTo>
                <a:lnTo>
                  <a:pt x="20483" y="10243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朗读录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826920" y="2880"/>
            <a:ext cx="324036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古今异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990720"/>
            <a:ext cx="63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心遗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213372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深切地憎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32767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292640"/>
            <a:ext cx="307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华文中宋"/>
              </a:rPr>
              <a:t>布的衣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700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78936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148428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3573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23840" y="520236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530064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4880" y="5530680"/>
            <a:ext cx="455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92880" y="4952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时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55800" y="59896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中宋"/>
              </a:rPr>
              <a:t>四季中第三个季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289480" y="1676520"/>
            <a:ext cx="2271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未尝不叹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痛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桓、灵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11800" y="347508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臣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布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42440" y="541008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危急存亡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258920" y="189000"/>
            <a:ext cx="172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765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卑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9973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84360" y="0"/>
            <a:ext cx="55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身份低微，见识短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0920" y="12682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华文中宋"/>
              </a:rPr>
              <a:t>（语言、行为）恶劣；不道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84360" y="220500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动、激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3500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华文中宋"/>
              </a:rPr>
              <a:t>衷心感谢。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54936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87280" y="2708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95480" y="46990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494172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5229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开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53960" y="4572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扩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40000" y="5769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华文中宋"/>
              </a:rPr>
              <a:t>商店开始营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72240" y="76212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帝不以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卑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72080" y="2971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遂许先帝以驱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38440" y="50292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开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75320" y="685440"/>
            <a:ext cx="2022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临表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涕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零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80880"/>
            <a:ext cx="340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49640" y="498636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76500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56536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436572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8195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所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4956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谨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20000" y="266760"/>
            <a:ext cx="1095120" cy="55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古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今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古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今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古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今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94360" y="22860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眼泪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03800" y="13780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鼻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54440" y="191628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表原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83160" y="31780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表结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68800" y="378936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认真，慎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62520" y="51213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华文中宋"/>
              </a:rPr>
              <a:t>做事小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58960" y="2666880"/>
            <a:ext cx="159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先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兴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61760" y="4648320"/>
            <a:ext cx="18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帝知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谨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14400" y="3109320"/>
            <a:ext cx="358128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崩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咨诹善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00600" y="1981080"/>
            <a:ext cx="18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1752480"/>
            <a:ext cx="331308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愿陛下托臣以讨贼兴复之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则治臣之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39625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4724280"/>
            <a:ext cx="19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914400" y="1905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41911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440" y="2027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440" y="4154400"/>
            <a:ext cx="42444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46960" y="192240"/>
            <a:ext cx="3664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二、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81680" y="2819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实现、完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609480"/>
            <a:ext cx="9144000" cy="448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遗：① “以光先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”：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②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帝简拔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陛下”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：① “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体”：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②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有作奸犯科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忠善者”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③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众议举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督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论：① “宜付有司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刑赏”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②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与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事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952880" y="1143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遗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555520" y="162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给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190400" y="259092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24880" y="365760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做，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62680" y="3048120"/>
            <a:ext cx="4562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做，担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555520" y="411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评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74640" y="4648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议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76500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：① “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兴德之言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小，悉以咨之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：① “然后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淑均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③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能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阵和睦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益：① “有所广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：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②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于斟酌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益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67080" y="838080"/>
            <a:ext cx="10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317640" y="116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不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93760" y="200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实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22360" y="246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品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3048120"/>
            <a:ext cx="106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行列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60240" y="3679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益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4191120"/>
            <a:ext cx="4562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举办、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zhugelian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94640" y="549360"/>
            <a:ext cx="6836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方正隶二简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方正隶二简体"/>
              </a:rPr>
              <a:t>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99"/>
                </a:solidFill>
                <a:latin typeface="Times New Roman"/>
                <a:ea typeface="方正隶二简体"/>
              </a:rPr>
              <a:t>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371600" y="5562720"/>
            <a:ext cx="6858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商丘市睢阳区宋集镇一中  张家彬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-268920"/>
            <a:ext cx="5256360" cy="71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临崩寄臣以大事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不以臣卑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光先帝遗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塞忠谏之路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命以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为宫中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咨臣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当世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许先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驱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07280" y="1197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词，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35280" y="1916280"/>
            <a:ext cx="34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词，因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994000" y="256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目的，来，用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284640"/>
            <a:ext cx="52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结果，以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84360" y="4076640"/>
            <a:ext cx="483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276720" y="479736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认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48000" y="5516640"/>
            <a:ext cx="434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介词，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32000" y="6156360"/>
            <a:ext cx="22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0920" y="644400"/>
            <a:ext cx="8893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：① “先帝创业未半而中道崩殂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②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计日而待也”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：① “然侍卫之臣不懈于内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欲报之于陛下也”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③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未尝不叹息痛恨于恒灵也”：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④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于旧都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236360" y="55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88440" y="1393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21960" y="2689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3429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及于，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85720" y="4070520"/>
            <a:ext cx="48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对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495288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406080"/>
            <a:ext cx="4176720" cy="74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遗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恢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士之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良实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80000" y="1052640"/>
            <a:ext cx="48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，名词用为动词，发扬光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16360" y="328464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恢弘，形容词用为动词，发扬扩大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87640" y="501336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良实，形容词用为名词，善良诚实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56000" y="5013360"/>
            <a:ext cx="5472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400" y="160200"/>
            <a:ext cx="364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三、词类活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0"/>
            <a:ext cx="604836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贤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攘除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奸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64000" y="692280"/>
            <a:ext cx="64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，形容词用为动词，亲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56000" y="2349360"/>
            <a:ext cx="646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远，形容词用为动词，疏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32000" y="4005360"/>
            <a:ext cx="545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奸凶，形容词用为名词，奸诈凶恶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5640" y="5516640"/>
            <a:ext cx="6568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优劣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得所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则责攸之、讳、允等之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慢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深入不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毛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3721320" y="17640"/>
            <a:ext cx="347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优劣，形容词用为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词，才能高的人和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能低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36960" y="306864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慢，形容词用为动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怠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401080" y="4797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名词用为动词，长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57200" y="687600"/>
            <a:ext cx="6172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四、通假字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裨补阙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尔来二十有一年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以先帝简拔以遗陛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676520" y="2438280"/>
            <a:ext cx="477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阙，通“缺”，缺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" y="41911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，通“又”，用在整数和零数之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514600" y="59130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简”通“检”。选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华文行楷"/>
              </a:rPr>
              <a:t>翻译课文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00200" y="0"/>
            <a:ext cx="5867280" cy="960480"/>
          </a:xfrm>
          <a:prstGeom prst="rect">
            <a:avLst/>
          </a:prstGeom>
          <a:solidFill>
            <a:srgbClr val="ffb800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先帝创业未半而中道崩殂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6858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先帝创建大业还没有完成一半就中途去世了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1676520" y="2209680"/>
            <a:ext cx="7086600" cy="520560"/>
          </a:xfrm>
          <a:prstGeom prst="rect">
            <a:avLst/>
          </a:prstGeom>
          <a:solidFill>
            <a:srgbClr val="ffb8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下三分，益州疲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2895480"/>
            <a:ext cx="8153280" cy="6858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现在天下分成三国，益州地区贫困衰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5029200"/>
            <a:ext cx="8153280" cy="520560"/>
          </a:xfrm>
          <a:prstGeom prst="rect">
            <a:avLst/>
          </a:prstGeom>
          <a:solidFill>
            <a:srgbClr val="ffb8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侍卫之臣，不懈于内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懈：懈怠。内：宫廷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5715000"/>
            <a:ext cx="8153280" cy="6858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Comic Sans MS"/>
                <a:ea typeface="楷体_GB2312"/>
              </a:rPr>
              <a:t>可是，侍卫大臣们在宫廷里毫不懈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103560" y="3657600"/>
            <a:ext cx="3768480" cy="520560"/>
          </a:xfrm>
          <a:prstGeom prst="rect">
            <a:avLst/>
          </a:prstGeom>
          <a:solidFill>
            <a:srgbClr val="ffb8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诚危急存亡之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诚：确实、实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10960" y="4267080"/>
            <a:ext cx="564840" cy="5814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  <a:ea typeface="楷体_GB2312"/>
              </a:rPr>
              <a:t>这实在是形势危急、决定存亡的时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第一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1676520"/>
            <a:ext cx="5790960" cy="520560"/>
          </a:xfrm>
          <a:prstGeom prst="rect">
            <a:avLst/>
          </a:prstGeom>
          <a:solidFill>
            <a:srgbClr val="ffb8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忠志之士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忘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外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06560" y="2209680"/>
            <a:ext cx="3838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忠诚的将士们在边境上奋不顾身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3124080"/>
            <a:ext cx="8001000" cy="1495440"/>
          </a:xfrm>
          <a:prstGeom prst="rect">
            <a:avLst/>
          </a:prstGeom>
          <a:solidFill>
            <a:srgbClr val="ffb8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盖追先帝之殊遇，欲报之于陛下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盖：发语词，有“因为是”“原来是”的意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4572000"/>
            <a:ext cx="8335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这是因为他们追念先帝的特别厚待，想将此恩报答给陛下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609480"/>
            <a:ext cx="2374920" cy="762120"/>
          </a:xfrm>
          <a:prstGeom prst="wedgeEllipseCallout">
            <a:avLst>
              <a:gd name="adj1" fmla="val -94583"/>
              <a:gd name="adj2" fmla="val 9020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奋不顾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62120" y="4343400"/>
            <a:ext cx="784836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妄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菲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引喻失义，以塞忠谏之路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5029200"/>
            <a:ext cx="7999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不应该随便看轻自己，说话不恰当，以致堵塞忠诚进谏的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14400" y="3733920"/>
            <a:ext cx="1600200" cy="583920"/>
          </a:xfrm>
          <a:prstGeom prst="wedgeEllipseCallout">
            <a:avLst>
              <a:gd name="adj1" fmla="val -21032"/>
              <a:gd name="adj2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应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14600" y="3505320"/>
            <a:ext cx="3352680" cy="657000"/>
          </a:xfrm>
          <a:prstGeom prst="wedgeEllipseCallout">
            <a:avLst>
              <a:gd name="adj1" fmla="val -43986"/>
              <a:gd name="adj2" fmla="val 92754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过分看轻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1828800"/>
            <a:ext cx="75438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陛下实在应该扩大圣明的听闻，发扬光大先帝遗留下来的美德，发扬扩大忠臣志士的志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" y="1219320"/>
            <a:ext cx="7696080" cy="520560"/>
          </a:xfrm>
          <a:prstGeom prst="rect">
            <a:avLst/>
          </a:prstGeom>
          <a:solidFill>
            <a:srgbClr val="ffe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宜开张圣听，以光先帝遗德，恢弘志士之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作者和作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背景知识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47640" y="83664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预习成果展示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988720" y="1143000"/>
            <a:ext cx="7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宫中府中，俱为一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16360" y="1676520"/>
            <a:ext cx="35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皇宫中和朝廷中的官员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都是一个整体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23623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陟罚臧否，不宜异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2971800"/>
            <a:ext cx="83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奖惩功过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评定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人物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好坏，不应该因在宫中或在府中而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4038480"/>
            <a:ext cx="7696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有作奸犯科，及为忠善者，宜付有司论其刑赏，以昭陛下平明之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为：做，行。论：判定。昭：显示，表明。平明：公平严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0788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阅读第二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514600" y="4419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宜偏私，使内外异法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51055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不应当偏袒徇私，造成宫内和朝廷刑赏之法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如果有做奸邪事情，触犯科条法令以及尽忠办好事的人，应该交给主管的官吏，判定他们受罚或者受赏，来显示陛下公平严明的治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457200"/>
            <a:ext cx="74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若有作奸犯科，及为忠善者，宜付有司论其刑赏，以昭陛下平明之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1436760"/>
            <a:ext cx="89154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3520" y="914400"/>
            <a:ext cx="8229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侍中、侍郎郭攸之、费一、董允等，此皆良实，志虑忠纯，是以先帝简拔以遗陛下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：因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侍中、侍郎郭攸之、费祎、董允等人，这些都是善良诚实的人，他们的志向和心思忠诚纯正，因此先帝选拔出来给予陛下（使用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34290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愚以为宫中之事，事无大小，悉以咨之，然后施行，必能裨补阙漏，有所广益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愚：自称。通“缺”，缺点。 所：…的效果。广：扩大。益，：益处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5303880"/>
            <a:ext cx="754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我认为宫中的事情，不论大小，都拿来问问他们，然后实行，一定能够补救缺点和疏漏之处，收到更好的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0788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阅读第三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62120" y="914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军向宠，性行淑均，晓畅军事，试用于昔日，先帝称之曰能，是以众议举宠为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20574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将军向宠，性情品德善良平正，精通军事，从前试用他的时候，先帝称赞他有才能，因此群臣商议，推举他做中部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39625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愚以为营中之事，悉以咨之，必能使行阵和睦，优劣得所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行：军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502920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我认为军中的事情，都拿来问问他，一定能使部队团结一心，好的差的各得其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88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阅读第四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76440" y="1461960"/>
            <a:ext cx="84675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贤臣，远小人，此先汉所以兴隆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亲：接近、亲近。远：疏远。所以：……的原因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914400" y="2895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亲近贤臣，疏远小人，这是先汉兴旺发达的原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67440" y="411408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亲小人，远贤臣，此后汉所以倾颓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5029200"/>
            <a:ext cx="784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亲近小人，疏远贤臣，这是后汉倾覆衰败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1184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阅读第五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09480" y="304812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侍中、尚书、长史、参军，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贞良死节之臣也，愿陛下亲之、信之，则汉室之隆，可计日而待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愿：希望。信：信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4419720"/>
            <a:ext cx="7696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侍中、尚书、长史、参军，这些都是坚贞可靠，能够以死报国的忠臣，希望陛下亲近他们，信任他们，那么汉朝的兴隆就可以指日可待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676520"/>
            <a:ext cx="8077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先帝在世时，常常和我谈论这些事情，没有一次不对桓、灵二帝的做法感到痛心遗憾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2590920"/>
            <a:ext cx="935280" cy="503280"/>
          </a:xfrm>
          <a:prstGeom prst="wedgeEllipseCallout">
            <a:avLst>
              <a:gd name="adj1" fmla="val -43717"/>
              <a:gd name="adj2" fmla="val 8501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200"/>
                </a:solidFill>
                <a:latin typeface="Arial"/>
                <a:ea typeface="隶书"/>
              </a:rPr>
              <a:t>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699840"/>
            <a:ext cx="815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帝在时，每与臣论此事，未尝不叹息痛恨于桓、灵也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论：谈论。于：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920" y="1523880"/>
            <a:ext cx="8532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臣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布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耕于南阳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苟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命于乱世，不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闻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诸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2438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我本来是一个平民，亲自在南阳耕田，只想在乱世中姑且保全自己，不谋求在诸侯那里做官扬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5105520"/>
            <a:ext cx="83059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帝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臣卑鄙，猥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枉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臣于草庐之中，咨臣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世之事，由是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感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帝以驱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咨：征询。感激：感动。以：拿。许：应允，答应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315200" y="228600"/>
            <a:ext cx="1219320" cy="934920"/>
          </a:xfrm>
          <a:prstGeom prst="wedgeRoundRectCallout">
            <a:avLst>
              <a:gd name="adj1" fmla="val 25782"/>
              <a:gd name="adj2" fmla="val 96518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扬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" y="3962520"/>
            <a:ext cx="1512720" cy="914400"/>
          </a:xfrm>
          <a:prstGeom prst="wedgeRoundRectCallout">
            <a:avLst>
              <a:gd name="adj1" fmla="val 34680"/>
              <a:gd name="adj2" fmla="val 86981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4038480"/>
            <a:ext cx="2159280" cy="989280"/>
          </a:xfrm>
          <a:prstGeom prst="wedgeRoundRectCallout">
            <a:avLst>
              <a:gd name="adj1" fmla="val -103527"/>
              <a:gd name="adj2" fmla="val 66851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到……去，拜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914400"/>
            <a:ext cx="2590560" cy="457200"/>
          </a:xfrm>
          <a:prstGeom prst="wedgeRoundRectCallout">
            <a:avLst>
              <a:gd name="adj1" fmla="val -12745"/>
              <a:gd name="adj2" fmla="val 95138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民的代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733920" y="228600"/>
            <a:ext cx="1143000" cy="934920"/>
          </a:xfrm>
          <a:prstGeom prst="wedgeRoundRectCallout">
            <a:avLst>
              <a:gd name="adj1" fmla="val -155277"/>
              <a:gd name="adj2" fmla="val 94819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亲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05520" y="380880"/>
            <a:ext cx="2133360" cy="935280"/>
          </a:xfrm>
          <a:prstGeom prst="wedgeRoundRectCallout">
            <a:avLst>
              <a:gd name="adj1" fmla="val -57662"/>
              <a:gd name="adj2" fmla="val 74787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姑且保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7400" y="3962520"/>
            <a:ext cx="2768760" cy="912600"/>
          </a:xfrm>
          <a:prstGeom prst="wedgeRoundRectCallout">
            <a:avLst>
              <a:gd name="adj1" fmla="val 22421"/>
              <a:gd name="adj2" fmla="val 84958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屈就，用于别人，含有敬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29200" y="3886200"/>
            <a:ext cx="1512720" cy="914400"/>
          </a:xfrm>
          <a:prstGeom prst="wedgeRoundRectCallout">
            <a:avLst>
              <a:gd name="adj1" fmla="val -80324"/>
              <a:gd name="adj2" fmla="val 95833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委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788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阅读第六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5800" y="3886200"/>
            <a:ext cx="7927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值倾覆，受任于败军之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奉命于危难之间，尔来二十有一年矣。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际：时期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724280"/>
            <a:ext cx="7696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后来遭到兵败，在兵败的时候我接受了重任，在艰危困境之中我领受了使命，从那时以来已经二十一年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先帝不因为我地位低微，见识鄙陋，竟降低自己的身份屈驾，三次到草庐来拜访我，向我询问当代的大事，我因此十分感动，就答应为先帝奔走效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帝不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臣卑鄙，猥自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枉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</a:rPr>
              <a:t>屈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三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顾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臣于草庐之中，咨臣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当世之事，由是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</a:rPr>
              <a:t>感激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遂</a:t>
            </a:r>
            <a:r>
              <a:rPr b="1" lang="zh-CN" sz="3200" spc="-1" strike="noStrike">
                <a:solidFill>
                  <a:srgbClr val="993300"/>
                </a:solidFill>
                <a:latin typeface="Comic Sans MS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帝以驱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630520" y="1066680"/>
            <a:ext cx="3128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帝知臣谨慎，故临崩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事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寄：委托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以：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" y="2133720"/>
            <a:ext cx="8686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先帝知道我做事谨慎小心，所以临终时把国家大事托付给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3657600"/>
            <a:ext cx="82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命以来，夙夜忧叹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托付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伤先帝之明，故五月渡泸，深入不毛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恐：担心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4800600"/>
            <a:ext cx="81532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领命以来，我早晚忧愁叹息，唯恐先帝的托付不能实现，以致损伤先帝的英明，所以五月渡过泸水，深入到荒凉的地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2514600"/>
            <a:ext cx="609480" cy="847800"/>
          </a:xfrm>
          <a:prstGeom prst="wedgeRoundRectCallout">
            <a:avLst>
              <a:gd name="adj1" fmla="val 191148"/>
              <a:gd name="adj2" fmla="val 123782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11840" y="304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阅读第七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09480" y="15238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南方已定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兵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足，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率三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中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竭驽钝，攘除奸凶，兴复汉室，还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旧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：名词用作状语，向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3352680"/>
            <a:ext cx="7848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现在南方已经平定，武器装备已经充足，应当激励率领全军将士向北方进军，平定中原，我希望能竭尽自己平庸的才智，铲除奸邪凶顽的敌人，复兴汉朝，回到旧日的都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971800" y="228600"/>
            <a:ext cx="1871640" cy="990720"/>
          </a:xfrm>
          <a:prstGeom prst="wedgeRoundRectCallout">
            <a:avLst>
              <a:gd name="adj1" fmla="val -37106"/>
              <a:gd name="adj2" fmla="val 80768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兵，武器。甲，装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533520"/>
            <a:ext cx="1295280" cy="790560"/>
          </a:xfrm>
          <a:prstGeom prst="wedgeRoundRectCallout">
            <a:avLst>
              <a:gd name="adj1" fmla="val 30759"/>
              <a:gd name="adj2" fmla="val 151407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但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315200" y="762120"/>
            <a:ext cx="1368360" cy="718920"/>
          </a:xfrm>
          <a:prstGeom prst="wedgeRoundRectCallout">
            <a:avLst>
              <a:gd name="adj1" fmla="val 5800"/>
              <a:gd name="adj2" fmla="val 115342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洛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81480" y="380880"/>
            <a:ext cx="1368720" cy="719280"/>
          </a:xfrm>
          <a:prstGeom prst="wedgeRoundRectCallout">
            <a:avLst>
              <a:gd name="adj1" fmla="val -42805"/>
              <a:gd name="adj2" fmla="val 113574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勉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68360" y="407160"/>
            <a:ext cx="79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划线字的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疲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（    ）   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妄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钝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340000" y="148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5867280" y="1484280"/>
            <a:ext cx="8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411280" y="2276640"/>
            <a:ext cx="10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580000" y="227664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843280" y="314172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340000" y="393372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5796000" y="393372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1908000" y="4724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427640" y="4724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908000" y="558972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4572000" y="558972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7020000" y="4797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p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5148360" y="3141720"/>
            <a:ext cx="9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356280" y="3124080"/>
            <a:ext cx="2601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至于斟酌损益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进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忠言，则攸之、祎、允之任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进：奉上。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尽：完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" y="41148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至于（处理事务）斟情酌理，掌握分寸，进献忠言，那就是攸之、祎、允等人的责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288320" y="205740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这就是我用来报答先帝，效忠陛下的职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56880" y="1066680"/>
            <a:ext cx="206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报先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忠陛下之职分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：表并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05120" y="152280"/>
            <a:ext cx="6324480" cy="827280"/>
          </a:xfrm>
          <a:prstGeom prst="wedgeRoundRectCallout">
            <a:avLst>
              <a:gd name="adj1" fmla="val -44578"/>
              <a:gd name="adj2" fmla="val 77064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所用之物，意为“用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……的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457200" y="1295280"/>
            <a:ext cx="8051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Arial"/>
              </a:rPr>
              <a:t>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陛下托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贼兴复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治臣之罪，</a:t>
            </a:r>
            <a:r>
              <a:rPr b="1" lang="zh-CN" sz="2800" spc="-1" strike="noStrike">
                <a:solidFill>
                  <a:srgbClr val="00b2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帝之灵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以：把。</a:t>
            </a:r>
            <a:r>
              <a:rPr b="1" lang="zh-CN" sz="2800" spc="-1" strike="noStrike">
                <a:solidFill>
                  <a:srgbClr val="00b200"/>
                </a:solidFill>
                <a:latin typeface="Arial"/>
              </a:rPr>
              <a:t>以：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2438280"/>
            <a:ext cx="79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希望陛下把讨伐奸贼，复兴汉朝的任务交给我，如果收不到效果，就惩处我的罪过，来告慰先帝的英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98520" y="426708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兴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言，则责攸之、祎、允等之慢，以彰其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如果没有发扬美德的忠言，就责罚攸之、祎、允等人的怠慢，来揭示他们的过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33920" y="0"/>
            <a:ext cx="2033640" cy="1197000"/>
          </a:xfrm>
          <a:prstGeom prst="wedgeRoundRectCallout">
            <a:avLst>
              <a:gd name="adj1" fmla="val -9171"/>
              <a:gd name="adj2" fmla="val 67106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效果，引申为任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72200" y="0"/>
            <a:ext cx="1871640" cy="1150920"/>
          </a:xfrm>
          <a:prstGeom prst="wedgeRoundRectCallout">
            <a:avLst>
              <a:gd name="adj1" fmla="val -65861"/>
              <a:gd name="adj2" fmla="val 69032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有效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838080"/>
            <a:ext cx="1295280" cy="187560"/>
          </a:xfrm>
          <a:prstGeom prst="wedgeRoundRectCallout">
            <a:avLst>
              <a:gd name="adj1" fmla="val -8333"/>
              <a:gd name="adj2" fmla="val 524574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告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67080" y="3505320"/>
            <a:ext cx="2087640" cy="863640"/>
          </a:xfrm>
          <a:prstGeom prst="wedgeRoundRectCallout">
            <a:avLst>
              <a:gd name="adj1" fmla="val -174712"/>
              <a:gd name="adj2" fmla="val 40990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发扬美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533520"/>
            <a:ext cx="1295640" cy="761760"/>
          </a:xfrm>
          <a:prstGeom prst="wedgeRoundRectCallout">
            <a:avLst>
              <a:gd name="adj1" fmla="val -102449"/>
              <a:gd name="adj2" fmla="val 40208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118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阅读第八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80880" y="533520"/>
            <a:ext cx="8542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陛下亦宜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以咨诹善道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察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雅言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深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帝遗诏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谋：谋划。察：明察。纳：采纳。深：深切。追：追念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3520" y="182880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陛下也应当自己谋划，询问治国的好道理，明察并采纳正确的意见，深切地追念先帝的遗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39200" y="36799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受恩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88800" y="4313160"/>
            <a:ext cx="5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这样我就受恩感激不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20960" y="5029200"/>
            <a:ext cx="3474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当远离，临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涕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知所言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" y="5486400"/>
            <a:ext cx="8255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Arial"/>
              </a:rPr>
              <a:t>现在该远行了，面对  奏表我眼泪落下，不知道说了些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505320" y="2895480"/>
            <a:ext cx="1584360" cy="990720"/>
          </a:xfrm>
          <a:prstGeom prst="wedgeRoundRectCallout">
            <a:avLst>
              <a:gd name="adj1" fmla="val -177657"/>
              <a:gd name="adj2" fmla="val 39263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禁不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忍不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91320" y="4191120"/>
            <a:ext cx="1079280" cy="865080"/>
          </a:xfrm>
          <a:prstGeom prst="wedgeRoundRectCallout">
            <a:avLst>
              <a:gd name="adj1" fmla="val -242060"/>
              <a:gd name="adj2" fmla="val 46328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91120" y="5994360"/>
            <a:ext cx="838080" cy="863640"/>
          </a:xfrm>
          <a:prstGeom prst="wedgeRoundRectCallout">
            <a:avLst>
              <a:gd name="adj1" fmla="val -68370"/>
              <a:gd name="adj2" fmla="val -107902"/>
              <a:gd name="adj3" fmla="val 16667"/>
            </a:avLst>
          </a:prstGeom>
          <a:solidFill>
            <a:srgbClr val="ffffcc"/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539640" y="692280"/>
            <a:ext cx="266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问题探究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450" name=""/>
          <p:cNvSpPr/>
          <p:nvPr/>
        </p:nvSpPr>
        <p:spPr>
          <a:xfrm>
            <a:off x="395280" y="1773360"/>
            <a:ext cx="874872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如果把本文划分为三部分，你怎样划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诸葛亮在文中向刘禅提出了哪三条建议？ 目的是什么？哪一条最重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课文中</a:t>
            </a:r>
            <a:r>
              <a:rPr b="1" lang="zh-TW" sz="3600" spc="-1" strike="noStrike">
                <a:solidFill>
                  <a:srgbClr val="ffff00"/>
                </a:solidFill>
                <a:latin typeface="黑体"/>
                <a:ea typeface="黑体"/>
              </a:rPr>
              <a:t>多次提及先帝的用意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、本文在写作方面有什么特色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08720" y="836640"/>
            <a:ext cx="1295640" cy="7920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讨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08360" y="981000"/>
            <a:ext cx="107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00720" y="836640"/>
            <a:ext cx="1298520" cy="7920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小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451640" y="260280"/>
            <a:ext cx="914400" cy="362160"/>
          </a:xfrm>
          <a:prstGeom prst="wedgeRectCallout">
            <a:avLst>
              <a:gd name="adj1" fmla="val -75347"/>
              <a:gd name="adj2" fmla="val 27149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碰火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1876320" cy="191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5076720" y="404640"/>
            <a:ext cx="1224000" cy="863640"/>
          </a:xfrm>
          <a:prstGeom prst="wedgeRoundRectCallout">
            <a:avLst>
              <a:gd name="adj1" fmla="val -62842"/>
              <a:gd name="adj2" fmla="val 86949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书中找书中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1" dur="677917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50920" y="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理清文章思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"/>
          <p:cNvSpPr/>
          <p:nvPr/>
        </p:nvSpPr>
        <p:spPr>
          <a:xfrm>
            <a:off x="1332000" y="981000"/>
            <a:ext cx="73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思路：以“出师” 为中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3"/>
          <p:cNvSpPr/>
          <p:nvPr/>
        </p:nvSpPr>
        <p:spPr>
          <a:xfrm>
            <a:off x="250920" y="19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首先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危急形势下出师 提出治国建议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4"/>
          <p:cNvSpPr/>
          <p:nvPr/>
        </p:nvSpPr>
        <p:spPr>
          <a:xfrm>
            <a:off x="324000" y="30132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然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表达感激之情效忠心愿，陈        述出师理由。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5"/>
          <p:cNvSpPr/>
          <p:nvPr/>
        </p:nvSpPr>
        <p:spPr>
          <a:xfrm>
            <a:off x="395280" y="458136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最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要求批准出师，表达出师决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505240" y="228600"/>
            <a:ext cx="1521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构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1520" y="1295280"/>
            <a:ext cx="87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部分    段落          要点              表达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8288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47160" y="1981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广开言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259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70840" y="2590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赏罚分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77960" y="31240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-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70840" y="320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贤远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71600" y="2133720"/>
            <a:ext cx="304920" cy="1396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36040" y="2436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38862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193920" y="388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叙述经历：三顾草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065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93920" y="4572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效忠心愿：托孤之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4038480"/>
            <a:ext cx="228600" cy="939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4480 h 939960"/>
              <a:gd name="textAreaBottom" fmla="*/ 91548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03440" y="3960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65200" y="5334120"/>
            <a:ext cx="10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346200" y="5334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归结责任，结束全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3440" y="5334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9920" y="2108160"/>
            <a:ext cx="152280" cy="1625760"/>
          </a:xfrm>
          <a:custGeom>
            <a:avLst/>
            <a:gdLst>
              <a:gd name="textAreaLeft" fmla="*/ 0 w 152280"/>
              <a:gd name="textAreaRight" fmla="*/ 55080 w 152280"/>
              <a:gd name="textAreaTop" fmla="*/ 42120 h 1625760"/>
              <a:gd name="textAreaBottom" fmla="*/ 1583640 h 162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923880" y="2360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寓情于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05720" y="411480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04760" y="4114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寓情于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2844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抒发感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523880" y="3962520"/>
            <a:ext cx="2667240" cy="1904760"/>
          </a:xfrm>
          <a:prstGeom prst="leftArrowCallout">
            <a:avLst>
              <a:gd name="adj1" fmla="val 35503"/>
              <a:gd name="adj2" fmla="val 33250"/>
              <a:gd name="adj3" fmla="val 37594"/>
              <a:gd name="adj4" fmla="val 66673"/>
            </a:avLst>
          </a:prstGeom>
          <a:solidFill>
            <a:srgbClr val="0000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838080"/>
            <a:ext cx="3352680" cy="2743200"/>
          </a:xfrm>
          <a:prstGeom prst="leftArrowCallout">
            <a:avLst>
              <a:gd name="adj1" fmla="val 32290"/>
              <a:gd name="adj2" fmla="val 34375"/>
              <a:gd name="adj3" fmla="val 32071"/>
              <a:gd name="adj4" fmla="val 70664"/>
            </a:avLst>
          </a:prstGeom>
          <a:solidFill>
            <a:srgbClr val="000000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280" y="838080"/>
            <a:ext cx="16426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Times New Roman"/>
                <a:ea typeface="黑体"/>
              </a:rPr>
              <a:t>危急存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38280" y="8380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先帝崩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18288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天下三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81952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益州疲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62320" y="3886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内不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362320" y="510552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外忘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42760" y="3733920"/>
            <a:ext cx="91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200"/>
                </a:solidFill>
                <a:latin typeface="Times New Roman"/>
                <a:ea typeface="黑体"/>
              </a:rPr>
              <a:t>欲报殊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029200" y="1219320"/>
            <a:ext cx="457200" cy="4419360"/>
          </a:xfrm>
          <a:custGeom>
            <a:avLst/>
            <a:gdLst>
              <a:gd name="textAreaLeft" fmla="*/ 0 w 457200"/>
              <a:gd name="textAreaRight" fmla="*/ 164880 w 457200"/>
              <a:gd name="textAreaTop" fmla="*/ 124200 h 4419360"/>
              <a:gd name="textAreaBottom" fmla="*/ 429516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70"/>
                  <a:pt x="10800" y="1940"/>
                </a:cubicBezTo>
                <a:lnTo>
                  <a:pt x="10800" y="8162"/>
                </a:lnTo>
                <a:cubicBezTo>
                  <a:pt x="10800" y="9132"/>
                  <a:pt x="16200" y="10102"/>
                  <a:pt x="21600" y="10102"/>
                </a:cubicBezTo>
                <a:cubicBezTo>
                  <a:pt x="16200" y="10102"/>
                  <a:pt x="10800" y="11072"/>
                  <a:pt x="10800" y="12042"/>
                </a:cubicBezTo>
                <a:lnTo>
                  <a:pt x="10800" y="19660"/>
                </a:lnTo>
                <a:cubicBezTo>
                  <a:pt x="10800" y="2063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2362320"/>
            <a:ext cx="3962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Times New Roman"/>
                <a:ea typeface="黑体"/>
              </a:rPr>
              <a:t>诚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Times New Roman"/>
                <a:ea typeface="黑体"/>
              </a:rPr>
              <a:t>不宜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715000" y="4267080"/>
            <a:ext cx="29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2c03"/>
                </a:solidFill>
                <a:latin typeface="Times New Roman"/>
                <a:ea typeface="黑体"/>
              </a:rPr>
              <a:t>（正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1828800"/>
            <a:ext cx="1219320" cy="533520"/>
          </a:xfrm>
          <a:prstGeom prst="upArrow">
            <a:avLst>
              <a:gd name="adj1" fmla="val 50000"/>
              <a:gd name="adj2" fmla="val 54463"/>
            </a:avLst>
          </a:prstGeom>
          <a:solidFill>
            <a:srgbClr val="d9f60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638680" y="762120"/>
            <a:ext cx="3353040" cy="825120"/>
          </a:xfrm>
          <a:prstGeom prst="rect">
            <a:avLst/>
          </a:prstGeom>
          <a:noFill/>
          <a:ln cap="sq"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72c03"/>
                </a:solidFill>
                <a:latin typeface="Times New Roman"/>
                <a:ea typeface="隶书"/>
              </a:rPr>
              <a:t>第一条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553080" y="2438280"/>
            <a:ext cx="2438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开张圣听</a:t>
            </a:r>
            <a:endParaRPr b="1" lang="en-US" sz="4800" spc="-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randomBar dir="vert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80880" y="3200400"/>
            <a:ext cx="2514600" cy="1783800"/>
          </a:xfrm>
          <a:prstGeom prst="rect">
            <a:avLst/>
          </a:prstGeom>
          <a:noFill/>
          <a:ln cap="sq" w="38160">
            <a:solidFill>
              <a:srgbClr val="d5f1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宫中府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俱为一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429000" y="3200400"/>
            <a:ext cx="2514600" cy="1783800"/>
          </a:xfrm>
          <a:prstGeom prst="rect">
            <a:avLst/>
          </a:prstGeom>
          <a:noFill/>
          <a:ln cap="sq"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Times New Roman"/>
                <a:ea typeface="黑体"/>
              </a:rPr>
              <a:t>宜</a:t>
            </a: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付有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Times New Roman"/>
                <a:ea typeface="黑体"/>
              </a:rPr>
              <a:t>不宜</a:t>
            </a:r>
            <a:r>
              <a:rPr b="1" lang="zh-CN" sz="4400" spc="-1" strike="noStrike">
                <a:solidFill>
                  <a:srgbClr val="f0f026"/>
                </a:solidFill>
                <a:latin typeface="Times New Roman"/>
                <a:ea typeface="黑体"/>
              </a:rPr>
              <a:t>偏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3809880"/>
            <a:ext cx="761760" cy="609840"/>
          </a:xfrm>
          <a:custGeom>
            <a:avLst/>
            <a:gdLst>
              <a:gd name="textAreaLeft" fmla="*/ 0 w 761760"/>
              <a:gd name="textAreaRight" fmla="*/ 762120 w 7617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555" y="0"/>
                </a:lnTo>
                <a:lnTo>
                  <a:pt x="21600" y="10800"/>
                </a:lnTo>
                <a:lnTo>
                  <a:pt x="12555" y="21600"/>
                </a:lnTo>
                <a:lnTo>
                  <a:pt x="0" y="21600"/>
                </a:lnTo>
                <a:lnTo>
                  <a:pt x="9045" y="10800"/>
                </a:lnTo>
                <a:close/>
              </a:path>
            </a:pathLst>
          </a:cu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00800" y="3352680"/>
            <a:ext cx="2590920" cy="1434600"/>
          </a:xfrm>
          <a:prstGeom prst="rect">
            <a:avLst/>
          </a:prstGeom>
          <a:noFill/>
          <a:ln cap="sq"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以昭平明        之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3886200"/>
            <a:ext cx="762120" cy="533520"/>
          </a:xfrm>
          <a:custGeom>
            <a:avLst/>
            <a:gdLst>
              <a:gd name="textAreaLeft" fmla="*/ 0 w 762120"/>
              <a:gd name="textAreaRight" fmla="*/ 762480 w 7621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150" y="0"/>
                </a:lnTo>
                <a:lnTo>
                  <a:pt x="21600" y="10800"/>
                </a:lnTo>
                <a:lnTo>
                  <a:pt x="12150" y="21600"/>
                </a:lnTo>
                <a:lnTo>
                  <a:pt x="0" y="21600"/>
                </a:lnTo>
                <a:lnTo>
                  <a:pt x="9450" y="10800"/>
                </a:lnTo>
                <a:close/>
              </a:path>
            </a:pathLst>
          </a:cu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2286000"/>
            <a:ext cx="1371600" cy="685800"/>
          </a:xfrm>
          <a:prstGeom prst="upArrow">
            <a:avLst>
              <a:gd name="adj1" fmla="val 43750"/>
              <a:gd name="adj2" fmla="val 66667"/>
            </a:avLst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514600" y="1143000"/>
            <a:ext cx="3962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cap="sq" w="19080">
                  <a:solidFill>
                    <a:srgbClr val="ffcc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刑赏严明</a:t>
            </a:r>
            <a:endParaRPr b="1" lang="en-US" sz="5400" spc="1" strike="noStrike">
              <a:ln cap="sq" w="19080">
                <a:solidFill>
                  <a:srgbClr val="ffcc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9" name=""/>
          <p:cNvSpPr/>
          <p:nvPr/>
        </p:nvSpPr>
        <p:spPr>
          <a:xfrm rot="21094200">
            <a:off x="607320" y="837720"/>
            <a:ext cx="3505320" cy="825120"/>
          </a:xfrm>
          <a:prstGeom prst="rect">
            <a:avLst/>
          </a:prstGeom>
          <a:noFill/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第二条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343400" y="2895480"/>
            <a:ext cx="1981080" cy="685800"/>
          </a:xfrm>
          <a:prstGeom prst="rect">
            <a:avLst/>
          </a:prstGeom>
          <a:gradFill rotWithShape="0">
            <a:gsLst>
              <a:gs pos="0">
                <a:srgbClr val="083b6a"/>
              </a:gs>
              <a:gs pos="100000">
                <a:srgbClr val="1282e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19320" y="4343400"/>
            <a:ext cx="3047760" cy="6858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28d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2971800"/>
            <a:ext cx="3047760" cy="6858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e28d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1600200"/>
            <a:ext cx="3047760" cy="6858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17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219320" y="533520"/>
            <a:ext cx="3047760" cy="6858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01" y="0"/>
                </a:lnTo>
                <a:lnTo>
                  <a:pt x="21600" y="10800"/>
                </a:lnTo>
                <a:lnTo>
                  <a:pt x="163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417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4572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宫中之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4572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黑体"/>
              </a:rPr>
              <a:t>先帝简拔之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152388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营中之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886200" y="152388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黑体"/>
              </a:rPr>
              <a:t>先帝称能之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48720" y="228600"/>
            <a:ext cx="914400" cy="155628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荐贤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95280" y="289548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先汉兴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2895480"/>
            <a:ext cx="1981080" cy="764280"/>
          </a:xfrm>
          <a:prstGeom prst="rect">
            <a:avLst/>
          </a:prstGeom>
          <a:noFill/>
          <a:ln cap="sq" w="38160">
            <a:solidFill>
              <a:srgbClr val="4417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ff33"/>
                </a:solidFill>
                <a:latin typeface="Times New Roman"/>
                <a:ea typeface="黑体"/>
              </a:rPr>
              <a:t>亲贤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26708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后汉倾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343400" y="42670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ff33"/>
                </a:solidFill>
                <a:latin typeface="Times New Roman"/>
                <a:ea typeface="黑体"/>
              </a:rPr>
              <a:t>亲小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160040" y="2895480"/>
            <a:ext cx="1642680" cy="2210040"/>
          </a:xfrm>
          <a:prstGeom prst="rect">
            <a:avLst/>
          </a:prstGeom>
          <a:noFill/>
          <a:ln cap="sq"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引教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21105000">
            <a:off x="3960000" y="2895480"/>
            <a:ext cx="3429000" cy="825120"/>
          </a:xfrm>
          <a:prstGeom prst="rect">
            <a:avLst/>
          </a:prstGeom>
          <a:noFill/>
          <a:ln cap="sq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第三条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116000" y="404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这三条建议的目的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39640" y="1818720"/>
            <a:ext cx="81360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⑴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希望后主能“以光先帝遗德，恢弘志士之气，不宜妄自菲薄，引喻失义，以塞忠谏之路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⑵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希望后主能“以昭陛下平明之理，不宜偏私，使内外异法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⑶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希望后主能“亲贤臣，远小人”，只有做到这一点，才能使国家“兴隆”总之，作者希望蜀国能够有一个清明的政局，成了“北定中原”强大稳定的后方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39640" y="40464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之   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阵和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史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夜忧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彰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陛下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损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050920" y="620640"/>
            <a:ext cx="12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ō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156360" y="620640"/>
            <a:ext cx="12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476360" y="1413000"/>
            <a:ext cx="15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403280" y="220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5580000" y="22766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692360" y="306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3035160" y="3860640"/>
            <a:ext cx="11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6012000" y="3860640"/>
            <a:ext cx="162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ō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2843280" y="465300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è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1403280" y="551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3713040" y="55166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8769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攘（    ）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715000" y="3048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r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468360" y="242640"/>
            <a:ext cx="8353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全文来看，诸葛亮向刘禅提出的三条建议，他反复强调的是哪一条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8360" y="2829960"/>
            <a:ext cx="813744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作者反复陈说的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贤远佞</a:t>
            </a:r>
            <a:r>
              <a:rPr b="1" lang="zh-CN" sz="32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这一条。其余两条虽然说的是方针、政策，也都与此有关。因为刘禅是个昏庸之君，容易受坏人蛊惑，如不亲贤远佞，就会出现“妄自菲薄，引喻失义”“偏私，使内外异法”等情况，再好的方针、政策也不可能贯彻执行。而亲贤为远佞之本，所以文章开头说“开张圣听”，实际上就是要听取贤臣的意见，万不可“塞忠谏之路”，中间列举贤臣姓名，要刘禅“亲之信之”，结尾更劝说刘禅要“咨诹善道，察纳雅言”，也是亲贤的意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766080" y="0"/>
            <a:ext cx="1338840" cy="6524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00b200"/>
                </a:solidFill>
                <a:latin typeface="方正大標宋"/>
                <a:ea typeface="方正大標宋"/>
              </a:rPr>
              <a:t>多次提及先帝的用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b200"/>
                </a:solidFill>
                <a:latin typeface="方正大標宋"/>
                <a:ea typeface="方正大標宋"/>
              </a:rPr>
              <a:t>《</a:t>
            </a:r>
            <a:r>
              <a:rPr b="1" lang="zh-TW" sz="3800" spc="-1" strike="noStrike">
                <a:solidFill>
                  <a:srgbClr val="00b200"/>
                </a:solidFill>
                <a:latin typeface="方正大標宋"/>
                <a:ea typeface="方正大標宋"/>
              </a:rPr>
              <a:t>出師表</a:t>
            </a:r>
            <a:r>
              <a:rPr b="1" lang="en-US" sz="3800" spc="-1" strike="noStrike">
                <a:solidFill>
                  <a:srgbClr val="00b200"/>
                </a:solidFill>
                <a:latin typeface="方正大標宋"/>
                <a:ea typeface="方正大標宋"/>
              </a:rPr>
              <a:t>》</a:t>
            </a:r>
            <a:r>
              <a:rPr b="1" lang="zh-TW" sz="3800" spc="-1" strike="noStrike">
                <a:solidFill>
                  <a:srgbClr val="00b200"/>
                </a:solidFill>
                <a:latin typeface="方正大標宋"/>
                <a:ea typeface="方正大標宋"/>
              </a:rPr>
              <a:t>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484360" y="1268280"/>
            <a:ext cx="54738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方正行楷"/>
              </a:rPr>
              <a:t>感激先帝知遇之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84360" y="2492280"/>
            <a:ext cx="564048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感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慨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先帝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创业艰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辛，警惕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后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方正舒体"/>
              </a:rPr>
              <a:t>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556000" y="3789360"/>
            <a:ext cx="561636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以父子之情感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动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激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励后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556000" y="4941720"/>
            <a:ext cx="5688000" cy="55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加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强劝说后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主的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说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服力和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权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威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042920" y="-35280"/>
            <a:ext cx="7058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在写作方面有什么特色？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95280" y="2875680"/>
            <a:ext cx="83534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“</a:t>
            </a:r>
            <a:r>
              <a:rPr b="1" lang="zh-CN" sz="33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表以陈情”，意思是表的叙事和议论都带有抒情的色彩。</a:t>
            </a:r>
            <a:r>
              <a:rPr b="1" lang="zh-CN" sz="3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部分寓情于议</a:t>
            </a:r>
            <a:r>
              <a:rPr b="1" lang="zh-CN" sz="33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，在谈论形势、方针、政策和历史经验教训之中贯穿着一条明显的</a:t>
            </a:r>
            <a:r>
              <a:rPr b="1" lang="zh-CN" sz="3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抒情线索</a:t>
            </a:r>
            <a:r>
              <a:rPr b="1" lang="zh-CN" sz="33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，就是希望后主能继承先帝的遗志，完成先帝未竟的大业。</a:t>
            </a:r>
            <a:r>
              <a:rPr b="1" lang="zh-CN" sz="33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部分寓情于叙</a:t>
            </a:r>
            <a:r>
              <a:rPr b="1" lang="zh-CN" sz="33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，字字句句都蕴含着作者对先帝的知遇之思和无限感激之情，也表达了作者尽心竭力效忠刘备父子的心愿。最后，诸葛亮以“讨贼兴复之效”自许，并且说“不效则治臣之罪，以告天帝之灵”，更是情词恳切，催人泪下，集中表现了他感恩图报的心情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4080600" y="533520"/>
            <a:ext cx="866520" cy="91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第一段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2360" y="2637000"/>
            <a:ext cx="2422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危急存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227664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08360" y="1989000"/>
            <a:ext cx="2387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帝崩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08360" y="2637000"/>
            <a:ext cx="2311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下三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08360" y="3213000"/>
            <a:ext cx="2311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益州疲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580000" y="2276640"/>
            <a:ext cx="228600" cy="1295280"/>
          </a:xfrm>
          <a:custGeom>
            <a:avLst/>
            <a:gdLst>
              <a:gd name="textAreaLeft" fmla="*/ 0 w 228600"/>
              <a:gd name="textAreaRight" fmla="*/ 8244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724360" y="2637000"/>
            <a:ext cx="220032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20960" y="4522680"/>
            <a:ext cx="28033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追殊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报陛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348000" y="4437000"/>
            <a:ext cx="304920" cy="1295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708360" y="4221000"/>
            <a:ext cx="2540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懈于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08360" y="5229360"/>
            <a:ext cx="3149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忘身于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580000" y="443700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24360" y="4653000"/>
            <a:ext cx="1743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523880" y="2951280"/>
            <a:ext cx="228600" cy="2209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04000" y="2852640"/>
            <a:ext cx="228600" cy="221004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48360" y="3357720"/>
            <a:ext cx="2424240" cy="10688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诚宜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宜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262640" y="4419720"/>
            <a:ext cx="1155960" cy="581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正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32200" y="2438280"/>
            <a:ext cx="1215720" cy="323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（广开言路）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7020000" y="0"/>
            <a:ext cx="2124000" cy="25956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304920" y="2895480"/>
            <a:ext cx="533160" cy="216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张圣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2362320"/>
            <a:ext cx="1219320" cy="533160"/>
          </a:xfrm>
          <a:prstGeom prst="upArrow">
            <a:avLst>
              <a:gd name="adj1" fmla="val 50000"/>
              <a:gd name="adj2" fmla="val 54463"/>
            </a:avLst>
          </a:prstGeom>
          <a:solidFill>
            <a:srgbClr val="d9f60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6320" y="1523880"/>
            <a:ext cx="3352680" cy="8251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72c03"/>
                </a:solidFill>
                <a:latin typeface="Times New Roman"/>
                <a:ea typeface="隶书"/>
              </a:rPr>
              <a:t>第一条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472428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段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19280" y="305604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31273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2120" y="2666880"/>
            <a:ext cx="533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明之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981080" y="2743200"/>
            <a:ext cx="2514600" cy="2104920"/>
          </a:xfrm>
          <a:prstGeom prst="rect">
            <a:avLst/>
          </a:prstGeom>
          <a:noFill/>
          <a:ln cap="sq"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异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付有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偏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6781680" y="2057400"/>
            <a:ext cx="1067040" cy="914400"/>
          </a:xfrm>
          <a:prstGeom prst="upArrow">
            <a:avLst>
              <a:gd name="adj1" fmla="val 43750"/>
              <a:gd name="adj2" fmla="val 66667"/>
            </a:avLst>
          </a:pr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rot="21094200">
            <a:off x="4874760" y="761760"/>
            <a:ext cx="3504960" cy="825120"/>
          </a:xfrm>
          <a:prstGeom prst="rect">
            <a:avLst/>
          </a:prstGeom>
          <a:noFill/>
          <a:ln cap="sq"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第二条建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924520" y="2971800"/>
            <a:ext cx="2838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赏罚严明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"/>
          <p:cNvSpPr/>
          <p:nvPr/>
        </p:nvSpPr>
        <p:spPr>
          <a:xfrm>
            <a:off x="4996800" y="2590920"/>
            <a:ext cx="606960" cy="236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b200"/>
                </a:solidFill>
                <a:latin typeface="Times New Roman"/>
                <a:ea typeface="PMingLiU"/>
              </a:rPr>
              <a:t>正反</a:t>
            </a:r>
            <a:r>
              <a:rPr b="1" lang="zh-CN" sz="2800" spc="-1" strike="noStrike">
                <a:solidFill>
                  <a:srgbClr val="00b200"/>
                </a:solidFill>
                <a:latin typeface="Times New Roman"/>
                <a:ea typeface="PMingLiU"/>
              </a:rPr>
              <a:t>对</a:t>
            </a:r>
            <a:r>
              <a:rPr b="1" lang="zh-TW" sz="2800" spc="-1" strike="noStrike">
                <a:solidFill>
                  <a:srgbClr val="00b200"/>
                </a:solidFill>
                <a:latin typeface="Times New Roman"/>
                <a:ea typeface="PMingLiU"/>
              </a:rPr>
              <a:t>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2405160" y="160020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華康仿宋體W4"/>
                <a:ea typeface="華康仿宋體W4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405160" y="259092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華康仿宋體W4"/>
                <a:ea typeface="華康仿宋體W4"/>
              </a:rPr>
              <a:t>特</a:t>
            </a:r>
            <a:r>
              <a:rPr b="1" lang="zh-CN" sz="3200" spc="-1" strike="noStrike">
                <a:solidFill>
                  <a:srgbClr val="006600"/>
                </a:solidFill>
                <a:latin typeface="華康仿宋體W4"/>
                <a:ea typeface="華康仿宋體W4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405160" y="563868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華康仿宋體W4"/>
                <a:ea typeface="華康仿宋體W4"/>
              </a:rPr>
              <a:t>好</a:t>
            </a:r>
            <a:r>
              <a:rPr b="1" lang="zh-CN" sz="3200" spc="-1" strike="noStrike">
                <a:solidFill>
                  <a:srgbClr val="006600"/>
                </a:solidFill>
                <a:latin typeface="華康仿宋體W4"/>
                <a:ea typeface="華康仿宋體W4"/>
              </a:rPr>
              <a:t>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405160" y="358128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華康仿宋體W4"/>
                <a:ea typeface="華康仿宋體W4"/>
              </a:rPr>
              <a:t>证</a:t>
            </a:r>
            <a:r>
              <a:rPr b="1" lang="zh-TW" sz="3200" spc="-1" strike="noStrike">
                <a:solidFill>
                  <a:srgbClr val="006600"/>
                </a:solidFill>
                <a:latin typeface="華康仿宋體W4"/>
                <a:ea typeface="華康仿宋體W4"/>
              </a:rPr>
              <a:t>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405160" y="4648320"/>
            <a:ext cx="1330200" cy="58140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華康仿宋體W4"/>
                <a:ea typeface="華康仿宋體W4"/>
              </a:rPr>
              <a:t>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421160" y="1600200"/>
            <a:ext cx="439272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郭攸之、費</a:t>
            </a:r>
            <a:r>
              <a:rPr b="1" lang="zh-CN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祎</a:t>
            </a:r>
            <a:r>
              <a:rPr b="1" lang="zh-TW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、董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21160" y="2590920"/>
            <a:ext cx="443880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皆善良忠</a:t>
            </a:r>
            <a:r>
              <a:rPr b="1" lang="zh-CN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实</a:t>
            </a:r>
            <a:r>
              <a:rPr b="1" lang="zh-TW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、志</a:t>
            </a:r>
            <a:r>
              <a:rPr b="1" lang="zh-CN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虑</a:t>
            </a:r>
            <a:r>
              <a:rPr b="1" lang="zh-TW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忠</a:t>
            </a:r>
            <a:r>
              <a:rPr b="1" lang="zh-CN" sz="3200" spc="-1" strike="noStrike">
                <a:solidFill>
                  <a:srgbClr val="ff0066"/>
                </a:solidFill>
                <a:latin typeface="華康仿宋體W4"/>
                <a:ea typeface="華康仿宋體W4"/>
              </a:rPr>
              <a:t>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421160" y="3581280"/>
            <a:ext cx="439272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先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简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拔留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后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主之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421160" y="5659560"/>
            <a:ext cx="439272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可裨補闕漏，有所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广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21160" y="4648320"/>
            <a:ext cx="439272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咨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以宮中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052800" y="549360"/>
            <a:ext cx="46800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推</a:t>
            </a:r>
            <a:r>
              <a:rPr b="0" lang="zh-CN" sz="4000" spc="-1" strike="noStrike">
                <a:solidFill>
                  <a:srgbClr val="ff6600"/>
                </a:solidFill>
                <a:latin typeface="方正大標宋"/>
                <a:ea typeface="方正大標宋"/>
              </a:rPr>
              <a:t>荐</a:t>
            </a:r>
            <a:r>
              <a:rPr b="0" lang="zh-TW" sz="4000" spc="-1" strike="noStrike">
                <a:solidFill>
                  <a:srgbClr val="800080"/>
                </a:solidFill>
                <a:latin typeface="方正大標宋"/>
                <a:ea typeface="方正大標宋"/>
              </a:rPr>
              <a:t>宮中</a:t>
            </a:r>
            <a:r>
              <a:rPr b="0" lang="zh-CN" sz="4000" spc="-1" strike="noStrike">
                <a:solidFill>
                  <a:srgbClr val="800080"/>
                </a:solidFill>
                <a:latin typeface="方正大標宋"/>
                <a:ea typeface="方正大標宋"/>
              </a:rPr>
              <a:t>贤</a:t>
            </a:r>
            <a:r>
              <a:rPr b="0" lang="zh-TW" sz="4000" spc="-1" strike="noStrike">
                <a:solidFill>
                  <a:srgbClr val="800080"/>
                </a:solidFill>
                <a:latin typeface="方正大標宋"/>
                <a:ea typeface="方正大標宋"/>
              </a:rPr>
              <a:t>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33520" y="189000"/>
            <a:ext cx="137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Comic Sans MS"/>
                <a:ea typeface="方正琥珀"/>
              </a:rPr>
              <a:t>课文分析</a:t>
            </a:r>
            <a:r>
              <a:rPr b="0" lang="zh-TW" sz="5000" spc="-1" strike="noStrike">
                <a:solidFill>
                  <a:srgbClr val="000000"/>
                </a:solidFill>
                <a:latin typeface="Comic Sans MS"/>
                <a:ea typeface="方正琥珀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(</a:t>
            </a:r>
            <a:r>
              <a:rPr b="0" lang="zh-TW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第</a:t>
            </a:r>
            <a:r>
              <a:rPr b="0" lang="zh-CN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三</a:t>
            </a:r>
            <a:r>
              <a:rPr b="0" lang="zh-TW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段</a:t>
            </a:r>
            <a:r>
              <a:rPr b="0" lang="en-US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627280" y="1600200"/>
            <a:ext cx="1440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華康仿宋體W4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627280" y="2438280"/>
            <a:ext cx="1440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華康仿宋體W4"/>
              </a:rPr>
              <a:t>特</a:t>
            </a:r>
            <a:r>
              <a:rPr b="1" lang="zh-CN" sz="3200" spc="-1" strike="noStrike">
                <a:solidFill>
                  <a:srgbClr val="006600"/>
                </a:solidFill>
                <a:latin typeface="標楷體"/>
                <a:ea typeface="華康仿宋體W4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627280" y="4981680"/>
            <a:ext cx="1440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華康仿宋體W4"/>
              </a:rPr>
              <a:t>好</a:t>
            </a:r>
            <a:r>
              <a:rPr b="1" lang="zh-CN" sz="3200" spc="-1" strike="noStrike">
                <a:solidFill>
                  <a:srgbClr val="006600"/>
                </a:solidFill>
                <a:latin typeface="標楷體"/>
                <a:ea typeface="華康仿宋體W4"/>
              </a:rPr>
              <a:t>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27280" y="3284640"/>
            <a:ext cx="142236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標楷體"/>
                <a:ea typeface="華康仿宋體W4"/>
              </a:rPr>
              <a:t>证</a:t>
            </a: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華康仿宋體W4"/>
              </a:rPr>
              <a:t>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7280" y="4114800"/>
            <a:ext cx="1440000" cy="58140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00"/>
                </a:solidFill>
                <a:latin typeface="標楷體"/>
                <a:ea typeface="華康仿宋體W4"/>
              </a:rPr>
              <a:t>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702320" y="160020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華康仿宋體W4"/>
              </a:rPr>
              <a:t>向</a:t>
            </a:r>
            <a:r>
              <a:rPr b="1" lang="zh-CN" sz="3200" spc="-1" strike="noStrike">
                <a:solidFill>
                  <a:srgbClr val="ff0066"/>
                </a:solidFill>
                <a:latin typeface="標楷體"/>
                <a:ea typeface="華康仿宋體W4"/>
              </a:rPr>
              <a:t>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702320" y="243828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方正舒体"/>
              </a:rPr>
              <a:t>性行淑均，</a:t>
            </a:r>
            <a:r>
              <a:rPr b="1" lang="zh-CN" sz="3200" spc="-1" strike="noStrike">
                <a:solidFill>
                  <a:srgbClr val="ff0066"/>
                </a:solidFill>
                <a:latin typeface="標楷體"/>
                <a:ea typeface="方正舒体"/>
              </a:rPr>
              <a:t>晓畅军</a:t>
            </a:r>
            <a:r>
              <a:rPr b="1" lang="zh-TW" sz="3200" spc="-1" strike="noStrike">
                <a:solidFill>
                  <a:srgbClr val="ff0066"/>
                </a:solidFill>
                <a:latin typeface="標楷體"/>
                <a:ea typeface="方正舒体"/>
              </a:rPr>
              <a:t>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702320" y="327672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先帝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称赞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众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人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拥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方正舒体"/>
              </a:rPr>
              <a:t>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702320" y="500220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阵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睦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优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華康仿宋體W4"/>
              </a:rPr>
              <a:t>劣得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702320" y="4114800"/>
            <a:ext cx="4190760" cy="581400"/>
          </a:xfrm>
          <a:prstGeom prst="rect">
            <a:avLst/>
          </a:prstGeom>
          <a:solidFill>
            <a:srgbClr val="b0fcc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谘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以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营</a:t>
            </a:r>
            <a:r>
              <a:rPr b="1" lang="zh-TW" sz="32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中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72400" y="3429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203640" y="549360"/>
            <a:ext cx="468000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6600"/>
                </a:solidFill>
                <a:latin typeface="方正舒体"/>
                <a:ea typeface="方正舒体"/>
              </a:rPr>
              <a:t>推</a:t>
            </a:r>
            <a:r>
              <a:rPr b="1" lang="zh-CN" sz="4000" spc="-1" strike="noStrike">
                <a:solidFill>
                  <a:srgbClr val="ff6600"/>
                </a:solidFill>
                <a:latin typeface="方正舒体"/>
                <a:ea typeface="方正舒体"/>
              </a:rPr>
              <a:t>荐</a:t>
            </a:r>
            <a:r>
              <a:rPr b="1" lang="zh-CN" sz="4000" spc="-1" strike="noStrike">
                <a:solidFill>
                  <a:srgbClr val="800080"/>
                </a:solidFill>
                <a:latin typeface="方正舒体"/>
                <a:ea typeface="方正舒体"/>
              </a:rPr>
              <a:t>营</a:t>
            </a:r>
            <a:r>
              <a:rPr b="1" lang="zh-TW" sz="4000" spc="-1" strike="noStrike">
                <a:solidFill>
                  <a:srgbClr val="800080"/>
                </a:solidFill>
                <a:latin typeface="方正舒体"/>
                <a:ea typeface="方正舒体"/>
              </a:rPr>
              <a:t>中武</a:t>
            </a:r>
            <a:r>
              <a:rPr b="1" lang="zh-CN" sz="4000" spc="-1" strike="noStrike">
                <a:solidFill>
                  <a:srgbClr val="800080"/>
                </a:solidFill>
                <a:latin typeface="方正舒体"/>
                <a:ea typeface="方正舒体"/>
              </a:rPr>
              <a:t>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1280" y="260280"/>
            <a:ext cx="1371600" cy="659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Comic Sans MS"/>
                <a:ea typeface="方正琥珀"/>
              </a:rPr>
              <a:t>课文分析</a:t>
            </a:r>
            <a:r>
              <a:rPr b="0" lang="zh-TW" sz="5000" spc="-1" strike="noStrike">
                <a:solidFill>
                  <a:srgbClr val="000000"/>
                </a:solidFill>
                <a:latin typeface="Comic Sans MS"/>
                <a:ea typeface="方正琥珀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(</a:t>
            </a:r>
            <a:r>
              <a:rPr b="0" lang="zh-TW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第</a:t>
            </a:r>
            <a:r>
              <a:rPr b="0" lang="zh-CN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四</a:t>
            </a:r>
            <a:r>
              <a:rPr b="0" lang="zh-TW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段</a:t>
            </a:r>
            <a:r>
              <a:rPr b="0" lang="en-US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537840" y="2057400"/>
            <a:ext cx="1703880" cy="2952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亲贤远</a:t>
            </a:r>
            <a:r>
              <a:rPr b="1" lang="zh-TW" sz="5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佞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438280" y="2438280"/>
            <a:ext cx="259092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方正行楷"/>
                <a:ea typeface="方正行楷"/>
              </a:rPr>
              <a:t>先汉</a:t>
            </a:r>
            <a:r>
              <a:rPr b="1" lang="zh-TW" sz="2800" spc="-1" strike="noStrike">
                <a:solidFill>
                  <a:srgbClr val="0000ff"/>
                </a:solidFill>
                <a:latin typeface="方正行楷"/>
                <a:ea typeface="方正行楷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方正行楷"/>
                <a:ea typeface="方正行楷"/>
              </a:rPr>
              <a:t>兴</a:t>
            </a:r>
            <a:r>
              <a:rPr b="1" lang="zh-TW" sz="2800" spc="-1" strike="noStrike">
                <a:solidFill>
                  <a:srgbClr val="ff0066"/>
                </a:solidFill>
                <a:latin typeface="方正行楷"/>
                <a:ea typeface="方正行楷"/>
              </a:rPr>
              <a:t>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38280" y="4114800"/>
            <a:ext cx="2590920" cy="5205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方正行楷"/>
                <a:ea typeface="方正行楷"/>
              </a:rPr>
              <a:t>后汉</a:t>
            </a:r>
            <a:r>
              <a:rPr b="1" lang="zh-TW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方正行楷"/>
                <a:ea typeface="方正行楷"/>
              </a:rPr>
              <a:t>倾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324480" y="533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724160" y="2743200"/>
            <a:ext cx="911880" cy="1584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正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对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99200" y="3048120"/>
            <a:ext cx="546120" cy="1079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史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934320" y="56386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76920" y="609480"/>
            <a:ext cx="316836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方正大標宋"/>
                <a:ea typeface="方正大標宋"/>
              </a:rPr>
              <a:t>劝谏后</a:t>
            </a:r>
            <a:r>
              <a:rPr b="1" lang="zh-TW" sz="4000" spc="-1" strike="noStrike">
                <a:solidFill>
                  <a:srgbClr val="00b200"/>
                </a:solidFill>
                <a:latin typeface="方正大標宋"/>
                <a:ea typeface="方正大標宋"/>
              </a:rPr>
              <a:t>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228600"/>
            <a:ext cx="1371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方正舒体"/>
                <a:ea typeface="方正舒体"/>
              </a:rPr>
              <a:t>课文分析</a:t>
            </a:r>
            <a:r>
              <a:rPr b="0" lang="zh-TW" sz="50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方正舒体"/>
                <a:ea typeface="方正舒体"/>
              </a:rPr>
              <a:t>(</a:t>
            </a:r>
            <a:r>
              <a:rPr b="0" lang="zh-TW" sz="39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900" spc="-1" strike="noStrike">
                <a:solidFill>
                  <a:srgbClr val="000000"/>
                </a:solidFill>
                <a:latin typeface="方正舒体"/>
                <a:ea typeface="方正舒体"/>
              </a:rPr>
              <a:t>五</a:t>
            </a:r>
            <a:r>
              <a:rPr b="0" lang="zh-TW" sz="3900" spc="-1" strike="noStrike">
                <a:solidFill>
                  <a:srgbClr val="000000"/>
                </a:solidFill>
                <a:latin typeface="方正舒体"/>
                <a:ea typeface="方正舒体"/>
              </a:rPr>
              <a:t>段</a:t>
            </a:r>
            <a:r>
              <a:rPr b="0" lang="en-US" sz="3900" spc="-1" strike="noStrike">
                <a:solidFill>
                  <a:srgbClr val="000000"/>
                </a:solidFill>
                <a:latin typeface="方正舒体"/>
                <a:ea typeface="方正舒体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2286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86280" y="487440"/>
            <a:ext cx="17046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200"/>
                </a:solidFill>
                <a:latin typeface="Arial"/>
                <a:ea typeface="华文行楷"/>
              </a:rPr>
              <a:t>第三条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2438280"/>
            <a:ext cx="1371600" cy="52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4417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亲贤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257800" y="4114800"/>
            <a:ext cx="1371600" cy="520560"/>
          </a:xfrm>
          <a:prstGeom prst="rect">
            <a:avLst/>
          </a:prstGeom>
          <a:solidFill>
            <a:srgbClr val="ffff00"/>
          </a:solidFill>
          <a:ln cap="sq" w="38160">
            <a:solidFill>
              <a:srgbClr val="4417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亲小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9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0880" y="5328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六段作者自述身世的目的何在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8360" y="3537720"/>
            <a:ext cx="8353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作者自叙本志，说明自己的低微的身份，淡泊的生活，无意于功名利禄的高远志趣。叙述先帝“三顾茅庐”之恩，称赞先帝宽宏气度和不耻下问的品德，也表达了自己的知恩感激之情。最后概括叙述跟先帝患难与共的历史，说明了创业的艰难，进一步表达了作者效忠刘备父子的心愿，以陈情的方式为“出师”作铺垫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27396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第七段追忆“白帝城托孤”在文中起什么作用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990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“出师”的原因，是完成先帝未竟的事业。这是他“报先帝而忠陛下”的本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3520" y="213300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出师之前作者做了哪些准备工作？</a:t>
            </a:r>
            <a:r>
              <a:rPr b="1" lang="zh-CN" sz="36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017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月渡沪，深入不毛。”“七擒孟获”，安抚夷人，“今南方已定，兵甲已足”，安定了后方，做好战备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19320" y="434268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出师的目的是什么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5391360"/>
            <a:ext cx="8001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率三军。北定中原，庶竭驽钝，攘除奸凶，兴复汉室，还于旧都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228600" y="1051920"/>
            <a:ext cx="8353440" cy="5571000"/>
            <a:chOff x="228600" y="1051920"/>
            <a:chExt cx="8353440" cy="5571000"/>
          </a:xfrm>
        </p:grpSpPr>
        <p:sp>
          <p:nvSpPr>
            <p:cNvPr id="193" name=""/>
            <p:cNvSpPr/>
            <p:nvPr/>
          </p:nvSpPr>
          <p:spPr>
            <a:xfrm>
              <a:off x="228600" y="1051920"/>
              <a:ext cx="8240760" cy="642600"/>
            </a:xfrm>
            <a:prstGeom prst="rect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诸葛亮（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1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～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34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字孔明，琅玡阳都（今山东沂南）人，是三国时著名的政治家、军事家。他年轻时躬耕陇亩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隐居隆中，刻苦攻读史书，常以管仲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80880" y="2590920"/>
              <a:ext cx="27687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252960" y="2460600"/>
              <a:ext cx="5329080" cy="642600"/>
            </a:xfrm>
            <a:prstGeom prst="rect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乐毅自比。刘备三顾茅庐后，诸葛亮为其真情所动，出山辅助刘备，联吴抗曹，败曹操于赤壁，形成魏、蜀、吴三国鼎立的局面。刘备死后，他受遗诏辅助后主刘禅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627280" y="1989000"/>
            <a:ext cx="3457440" cy="55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再三勉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励后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59280" y="2708280"/>
            <a:ext cx="410508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广开</a:t>
            </a:r>
            <a:r>
              <a:rPr b="1" lang="zh-TW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言路，多</a:t>
            </a:r>
            <a:r>
              <a:rPr b="1" lang="zh-CN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纳谏</a:t>
            </a:r>
            <a:r>
              <a:rPr b="1" lang="zh-TW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59280" y="3429000"/>
            <a:ext cx="403380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应尽国</a:t>
            </a:r>
            <a:r>
              <a:rPr b="1" lang="zh-TW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君之</a:t>
            </a:r>
            <a:r>
              <a:rPr b="1" lang="zh-CN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27280" y="4967280"/>
            <a:ext cx="3456000" cy="550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表示</a:t>
            </a:r>
            <a:r>
              <a:rPr b="1" lang="zh-CN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临</a:t>
            </a:r>
            <a:r>
              <a:rPr b="1" lang="zh-TW" sz="3000" spc="-1" strike="noStrike">
                <a:solidFill>
                  <a:srgbClr val="660066"/>
                </a:solidFill>
                <a:latin typeface="Times New Roman"/>
                <a:ea typeface="華康行書體"/>
              </a:rPr>
              <a:t>別依依之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43200" y="762120"/>
            <a:ext cx="3168720" cy="703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大標宋"/>
                <a:ea typeface="方正大標宋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55640" y="0"/>
            <a:ext cx="137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Comic Sans MS"/>
                <a:ea typeface="方正琥珀"/>
              </a:rPr>
              <a:t>课</a:t>
            </a:r>
            <a:r>
              <a:rPr b="0" lang="zh-TW" sz="5000" spc="-1" strike="noStrike">
                <a:solidFill>
                  <a:srgbClr val="000000"/>
                </a:solidFill>
                <a:latin typeface="Comic Sans MS"/>
                <a:ea typeface="方正琥珀"/>
              </a:rPr>
              <a:t>文</a:t>
            </a:r>
            <a:r>
              <a:rPr b="0" lang="zh-CN" sz="5000" spc="-1" strike="noStrike">
                <a:solidFill>
                  <a:srgbClr val="000000"/>
                </a:solidFill>
                <a:latin typeface="Comic Sans MS"/>
                <a:ea typeface="方正琥珀"/>
              </a:rPr>
              <a:t>分析</a:t>
            </a:r>
            <a:r>
              <a:rPr b="0" lang="zh-TW" sz="5000" spc="-1" strike="noStrike">
                <a:solidFill>
                  <a:srgbClr val="000000"/>
                </a:solidFill>
                <a:latin typeface="Comic Sans MS"/>
                <a:ea typeface="方正琥珀"/>
              </a:rPr>
              <a:t>  </a:t>
            </a:r>
            <a:r>
              <a:rPr b="0" lang="en-US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(</a:t>
            </a:r>
            <a:r>
              <a:rPr b="0" lang="zh-TW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第</a:t>
            </a:r>
            <a:r>
              <a:rPr b="0" lang="zh-CN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八—九</a:t>
            </a:r>
            <a:r>
              <a:rPr b="0" lang="zh-TW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段</a:t>
            </a:r>
            <a:r>
              <a:rPr b="0" lang="en-US" sz="3900" spc="-1" strike="noStrike">
                <a:solidFill>
                  <a:srgbClr val="000000"/>
                </a:solidFill>
                <a:latin typeface="Comic Sans MS"/>
                <a:ea typeface="方正琥珀"/>
              </a:rPr>
              <a:t>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87640" y="4149720"/>
            <a:ext cx="3313080" cy="550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毋忘先帝</a:t>
            </a:r>
            <a:r>
              <a:rPr b="1" lang="zh-CN" sz="3000" spc="-1" strike="noStrike">
                <a:solidFill>
                  <a:srgbClr val="660066"/>
                </a:solidFill>
                <a:latin typeface="標楷體"/>
                <a:ea typeface="華康行書體"/>
              </a:rPr>
              <a:t>遗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826920" y="7502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诸葛亮在文中向刘禅提出了哪些建议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11280" y="2316960"/>
            <a:ext cx="792000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提出了三条建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广开言路。“诚宜开张圣听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明赏罚。“宫中府中，俱为一体，陟罚臧否，不宜异同”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贤远佞。“亲贤臣，远小人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4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826920" y="33300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出师后的国内政事如何安排？推贤了哪些贤臣？目的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4360" y="2943360"/>
            <a:ext cx="79930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宫中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：推荐良实，志虑忠纯的郭攸之、费祎、董允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⑵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营中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：推荐性行淑均，晓畅军事的将军向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⑶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其他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：推荐贞良死节之臣侍中、尚书、长史、参军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的是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消除北伐的后顾之忧，使他能集中精力伐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85" dur="indefinite" restart="never" nodeType="tmRoot">
          <p:childTnLst>
            <p:seq>
              <p:cTn id="1486" dur="indefinite" nodeType="mainSeq">
                <p:childTnLst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755640" y="6786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对他所推荐的贤臣和后主提出了哪些要求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26920" y="2228400"/>
            <a:ext cx="763272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⑴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对贤臣：“斟酌损益，进尽忠言”，要有“兴德之言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⑵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对后主：“陛下亦宜自谋，以咨诹善道，察纳雅言，深追先帝遗诏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191120" y="685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28600" y="3808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55640" y="40464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流行体简体"/>
              </a:rPr>
              <a:t>反馈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" y="685800"/>
            <a:ext cx="8915400" cy="25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解释下列各组虚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忘身于外者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    )    </a:t>
            </a:r>
            <a:r>
              <a:rPr b="1" lang="zh-CN" sz="3000" spc="-1" strike="noStrike">
                <a:solidFill>
                  <a:srgbClr val="000000"/>
                </a:solidFill>
                <a:latin typeface="3"/>
              </a:rPr>
              <a:t>三顾臣于草庐之中</a:t>
            </a:r>
            <a:r>
              <a:rPr b="1" lang="zh-CN" sz="3000" spc="-1" strike="noStrike">
                <a:solidFill>
                  <a:srgbClr val="000000"/>
                </a:solidFill>
                <a:latin typeface="3"/>
              </a:rPr>
              <a:t>(      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未尝不叹息痛恨于桓、灵也！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(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09560" y="452448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9280" y="2349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59280" y="198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956720" y="1989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084720" y="2637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826920" y="3573360"/>
            <a:ext cx="7848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光先帝遗德  （     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悉以咨之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故临崩寄臣以大事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塞忠谏之路也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帝不以臣卑鄙（    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50920" y="4437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92360" y="357336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627280" y="4149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067280" y="47973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067280" y="551664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780000" y="60930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8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90720" y="1371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中隐藏了许多成语，能找出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990720" y="21337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5190f"/>
                </a:solidFill>
                <a:latin typeface="Times New Roman"/>
              </a:rPr>
              <a:t>妄自菲薄        三顾茅庐        不知所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124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有吗？请你找找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752480" y="40384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4d00"/>
                </a:solidFill>
                <a:latin typeface="Times New Roman"/>
              </a:rPr>
              <a:t>引喻失义     作奸犯科     苟全性命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4d00"/>
                </a:solidFill>
                <a:latin typeface="Times New Roman"/>
              </a:rPr>
              <a:t>裨补阙漏     指日可待     察纳雅言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glass.wav"/>
      </p:stSnd>
    </p:sndAc>
  </p:transition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3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3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015440" y="260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本文中的成语并作解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3480" y="1447920"/>
            <a:ext cx="1521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  <a:ea typeface="华文新魏"/>
              </a:rPr>
              <a:t>妄自菲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  <a:ea typeface="华文新魏"/>
              </a:rPr>
              <a:t>引喻失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  <a:ea typeface="华文新魏"/>
              </a:rPr>
              <a:t>不知所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  <a:ea typeface="华文新魏"/>
              </a:rPr>
              <a:t>作奸犯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200"/>
                </a:solidFill>
                <a:latin typeface="Arial"/>
                <a:ea typeface="华文新魏"/>
              </a:rPr>
              <a:t>优劣得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005800" y="411444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为非作歹，触犯法令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432040" y="1447200"/>
            <a:ext cx="7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分地看轻自己。形容自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89440" y="2780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22120" y="4876200"/>
            <a:ext cx="41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指知人善任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使其得到适当的位子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743200" y="2895480"/>
            <a:ext cx="60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知道说些什么。一作“不知所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743200" y="2133720"/>
            <a:ext cx="59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发表政见的时候放弃了原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04920" y="990720"/>
            <a:ext cx="2895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计日而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</a:rPr>
              <a:t>三顾茅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感激涕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Arial"/>
              </a:rPr>
              <a:t>苟全性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200"/>
                </a:solidFill>
                <a:latin typeface="Arial"/>
              </a:rPr>
              <a:t>斟酌损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43200" y="1065960"/>
            <a:ext cx="6400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可以数着日子等待。形容为时不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971600" y="17521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比喻真心诚意，一再邀请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716200" y="2513880"/>
            <a:ext cx="64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感激得掉下眼泪，形容非常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819520" y="31240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苟且保全性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895480" y="38862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权衡事情的得失利弊，处理事务时斟情酌理掌握分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68580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中两句千古名言，说尽诸葛亮一生的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3429000" cy="259416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3276720" cy="254484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914400" y="17524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受任于败军之际，奉命于危难之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38080" y="2438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中列举的使诸葛亮报先帝忠陛 下的两 件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82880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三顾茅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791320" y="6095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白帝城托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468360" y="692280"/>
          <a:ext cx="8064360" cy="59054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59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理解性默写</a:t>
            </a:r>
            <a:br>
              <a:rPr sz="2800"/>
            </a:b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  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写出文中与“先帝不以臣卑鄙”中的“卑鄙”一词相呼应的语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臣本布衣，躬耕于南阳。</a:t>
            </a:r>
            <a:br>
              <a:rPr sz="2800"/>
            </a:b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  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作者认为可以出师北伐的条件是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南方已定，兵甲已足。</a:t>
            </a:r>
            <a:br>
              <a:rPr sz="2800"/>
            </a:b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  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作者在《出师表》中写到了自己所受到的“先帝之殊遇”，把相关的文字默写出来</a:t>
            </a:r>
            <a:br>
              <a:rPr sz="2800"/>
            </a:b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“先帝不以臣卑鄙，猥自枉屈，三顾臣于草庐之中，咨臣以当世之事。”“临崩寄臣以大事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”</a:t>
            </a:r>
            <a:br>
              <a:rPr sz="2800"/>
            </a:b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  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诸葛亮劝刘禅对宫中、府中官员的赏罚要坚持同一标准的句子是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陟罚臧否，不宜异同；</a:t>
            </a:r>
            <a:br>
              <a:rPr sz="2800"/>
            </a:b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7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7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666880" y="0"/>
            <a:ext cx="426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诸葛亮年谱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31160" y="685800"/>
            <a:ext cx="23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公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：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诸葛亮诞生于琅邪阳都（今山东沂南县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44360" y="1371600"/>
            <a:ext cx="107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诸葛亮和弟、妹移居隆中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20574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刘备三顾茅庐，诸葛亮对刘备陈说三分  天下之计，即著名的“隆中对”。旋即出山辅助刘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3733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诸葛亮说服孙权与刘备结盟，参与赤壁之战获胜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58120" y="4876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刘备登基，建立蜀国。诸葛亮任丞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5562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刘备白帝城托孤诸葛亮。刘禅封诸葛亮为武乡侯，领益州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诸葛亮希望后主不要随便看轻自己的句子是：</a:t>
            </a: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不宜妄自菲薄；</a:t>
            </a:r>
            <a:br>
              <a:rPr sz="2800"/>
            </a:b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  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6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诸葛亮向后主提出严明赏罚建议的语句是：</a:t>
            </a: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若有作奸犯科及为忠善者，宜付有司论其刑赏，以昭陛下平明之理；不宜偏私，使内外异法也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　　</a:t>
            </a:r>
            <a:br>
              <a:rPr sz="2800"/>
            </a:b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  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7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《诸葛亮集》中有这样的话：“赏不可不平，罚不可不均”。这与《出师表》中的两句“       ”一致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不宜偏私，使内外异法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 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8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《出师表》中叙述诸葛亮追随先帝驱驰的原因是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先帝不以臣卑鄙，猥自枉屈，三顾臣于草庐之中，谘臣以当世之事，由是感激，遂许先帝以驱驰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　</a:t>
            </a:r>
            <a:br>
              <a:rPr sz="2800"/>
            </a:b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   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9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．指出出师战略目标的句子是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当奖率三军，北定中原，庶竭驽钝，攘除奸凶，兴复汉室，还于旧都； 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9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4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9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4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791856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10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诸荀亮分析天下形势，其中有利的主观条件是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侍卫之臣不懈于内，忠志之士忘身于外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不利的客观条件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①</a:t>
            </a: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先帝崩殂。②天下三分。③益州疲弊，此诚危急存亡之秋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11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表达了作者对刘氏父子感情的句子是：</a:t>
            </a: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此臣所以报先帝而忠陛下之职分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12“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Comic Sans MS"/>
              </a:rPr>
              <a:t>深追先帝遗昭”中“遗昭”指的是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Comic Sans MS"/>
              </a:rPr>
              <a:t>勿以恶小而为之，勿以善小而不为。惟贤惟德，能服于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只要是“恶”，即使是小恶也不做；只要是善，即使是小善也要做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6" dur="500"/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6" dur="500"/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1" dur="500"/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1" dur="500"/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533520" y="471960"/>
            <a:ext cx="194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33520" y="3094560"/>
            <a:ext cx="8100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这篇表文历来受到人们的高度评价，被视为表中的代表作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章以恳切的言辞劝说后主要继承先帝遗志，广开言路，严明赏罚，亲贤远佞，以修明政治，完成先帝未竟的大业；也表达了诸葛亮报答先主知遇之恩的真挚感情和“北定中原”“兴复汉室”的决心。</a:t>
            </a:r>
            <a:r>
              <a:rPr b="1" lang="zh-CN" sz="3600" spc="-1" strike="noStrike">
                <a:solidFill>
                  <a:srgbClr val="00b2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752" dur="indefinite" restart="never" nodeType="tmRoot">
          <p:childTnLst>
            <p:seq>
              <p:cTn id="1753" dur="indefinite" nodeType="mainSeq">
                <p:childTnLst>
                  <p:par>
                    <p:cTn id="1754" fill="hold">
                      <p:stCondLst>
                        <p:cond delay="0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f66"/>
              </a:solidFill>
              <a:latin typeface="Comic Sans MS"/>
              <a:ea typeface="华文彩云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　　请从各种书籍报刊和网上搜集关于诸葛亮的资料，以“我看诸葛亮”为题写一篇小论文，或制作一个网页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905120" y="380880"/>
            <a:ext cx="3581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布置作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362320" y="1905120"/>
            <a:ext cx="4952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谢谢</a:t>
            </a: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!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930480" y="316080"/>
            <a:ext cx="8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诸葛亮率军南征，稳定南部四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4740120"/>
            <a:ext cx="835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诸葛亮于再次北伐中病故于五丈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974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诸葛亮准备兴师讨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432080"/>
            <a:ext cx="794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诸葛亮向后主刘禅呈交《出师表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行北伐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29320" y="2525760"/>
            <a:ext cx="50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北伐街亭失守，诸葛亮挥泪斩马谡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贬为右将军，行丞相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31000" y="3592440"/>
            <a:ext cx="8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诸葛亮再次北伐夺取武都、阴平，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丞相职位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5040" y="46544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蜀建兴８年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诸葛亮再次北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68360" y="5181480"/>
            <a:ext cx="134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诸葛亮北伐，破司马仲达，大败魏将张颌。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0"/>
            <a:ext cx="4568760" cy="7642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文学常识部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1268280"/>
            <a:ext cx="863892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：古代的一种文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师表”是出兵打仗前，主帅给君主上的奏章。这种表，或表明精忠报国之心，或献攻略之策。诸葛亮写这篇表文的目的是，希望刘禅任用贤臣，采纳忠言，赏罚分明，国内政治修明，有一个稳定的战略后方，以实现先帝的“北定中原”，“兴复汉室”的宏大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张家彬</dc:creator>
  <dc:description>《出师表》最新课件ppt</dc:description>
  <cp:keywords>《出师表》最新课件ppt</cp:keywords>
  <dc:language>en-US</dc:language>
  <cp:lastModifiedBy>微软用户</cp:lastModifiedBy>
  <dcterms:modified xsi:type="dcterms:W3CDTF">2013-12-12T08:37:41Z</dcterms:modified>
  <cp:revision>185</cp:revision>
  <dc:subject>《出师表》最新课件ppt</dc:subject>
  <dc:title>《出师表》最新课件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