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6.jpeg" ContentType="image/jpeg"/>
  <Override PartName="/ppt/media/image7.wmf" ContentType="image/x-wmf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533-A743-492B-922A-C1C25320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A7B-E21B-41B6-913B-722A7635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F22-1284-4CE4-BE6C-8660C077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1DC-C971-49F3-B58C-A155DCBB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A17-D036-4630-9EAC-5D5B4630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9FA-5AEA-4034-8C63-CF31431B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5E4-4856-4CE6-832F-0BF07FC0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A28-AE36-499F-A85D-5491F547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B90-5DE4-4ADC-AAC5-533F015E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D8F-1C85-48E3-868A-6931987C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E19-E018-4623-86EB-B77E7181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E83-E5C3-4DCA-B06F-13492ED0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544C-0D3A-4EFF-B440-056E7659F2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195120"/>
            <a:ext cx="9180360" cy="7053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03280" y="907920"/>
            <a:ext cx="6408720" cy="428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新同学，欢迎你们！</a:t>
            </a:r>
            <a:endParaRPr b="0" lang="en-US" sz="5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748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、课前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首先，做好课文的预习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1" lang="zh-CN" sz="33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粗读课文一遍</a:t>
            </a:r>
            <a:r>
              <a:rPr b="1" lang="zh-CN" sz="33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利用注释或工具书读准字音，写在书上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33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再读</a:t>
            </a:r>
            <a:r>
              <a:rPr b="1" lang="zh-CN" sz="33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课文，试着了解作者写了哪些</a:t>
            </a:r>
            <a:r>
              <a:rPr b="1" lang="zh-CN" sz="33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内容</a:t>
            </a:r>
            <a:r>
              <a:rPr b="1" lang="zh-CN" sz="33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然后明晰作者的</a:t>
            </a:r>
            <a:r>
              <a:rPr b="1" lang="zh-CN" sz="33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思路</a:t>
            </a:r>
            <a:r>
              <a:rPr b="1" lang="zh-CN" sz="33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什么，文章的</a:t>
            </a:r>
            <a:r>
              <a:rPr b="1" lang="zh-CN" sz="33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主要观点</a:t>
            </a:r>
            <a:r>
              <a:rPr b="1" lang="zh-CN" sz="33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什么，读后受到的</a:t>
            </a:r>
            <a:r>
              <a:rPr b="1" lang="zh-CN" sz="33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启发</a:t>
            </a:r>
            <a:r>
              <a:rPr b="1" lang="zh-CN" sz="33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哪些，如果是名家名篇，还需要查找资料了解</a:t>
            </a:r>
            <a:r>
              <a:rPr b="1" lang="zh-CN" sz="33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作者情况</a:t>
            </a:r>
            <a:r>
              <a:rPr b="1" lang="zh-CN" sz="33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及文章的</a:t>
            </a:r>
            <a:r>
              <a:rPr b="1" lang="zh-CN" sz="33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写作背景</a:t>
            </a:r>
            <a:r>
              <a:rPr b="1" lang="zh-CN" sz="33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1" lang="zh-CN" sz="33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三读</a:t>
            </a:r>
            <a:r>
              <a:rPr b="1" lang="zh-CN" sz="33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课文，试着用有声的语言表达出作品的意境和思想情绪。特别是抒情性强的作品，如诗歌、抒情散文等，吟诵得好，就学好了一大半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面我就针对初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语文学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提几点建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二、课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89280"/>
            <a:ext cx="8305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其次，有目的的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认真听课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做好笔记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争取课堂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多发言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积极参加课堂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讨论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注意要收放自如。有疑问的地方先做好记号，等合适的时机再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最后，整理思路和笔记，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写写学习心得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按时的、保质保量完成作业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5" descr="小图01"/>
          <p:cNvPicPr/>
          <p:nvPr/>
        </p:nvPicPr>
        <p:blipFill>
          <a:blip r:embed="rId2"/>
          <a:stretch/>
        </p:blipFill>
        <p:spPr>
          <a:xfrm>
            <a:off x="755640" y="5548320"/>
            <a:ext cx="1281240" cy="13096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6" descr="小图01"/>
          <p:cNvPicPr/>
          <p:nvPr/>
        </p:nvPicPr>
        <p:blipFill>
          <a:blip r:embed="rId3"/>
          <a:stretch/>
        </p:blipFill>
        <p:spPr>
          <a:xfrm>
            <a:off x="6804000" y="404640"/>
            <a:ext cx="1282680" cy="13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000" y="1557000"/>
            <a:ext cx="788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以书为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尔基先生说过：“书籍是人类进步的阶梯。”希望同学们在学习中能多读书，读好书。要多阅读文章、报刊、文学作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生活中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来源于生活，或直接或间接。学语言、学文章都不能离开生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6320" y="620640"/>
            <a:ext cx="436680" cy="630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课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5" descr="小图01"/>
          <p:cNvPicPr/>
          <p:nvPr/>
        </p:nvPicPr>
        <p:blipFill>
          <a:blip r:embed="rId2"/>
          <a:stretch/>
        </p:blipFill>
        <p:spPr>
          <a:xfrm>
            <a:off x="6723000" y="458640"/>
            <a:ext cx="1281240" cy="13096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6" descr="小图01"/>
          <p:cNvPicPr/>
          <p:nvPr/>
        </p:nvPicPr>
        <p:blipFill>
          <a:blip r:embed="rId3"/>
          <a:stretch/>
        </p:blipFill>
        <p:spPr>
          <a:xfrm>
            <a:off x="6300720" y="0"/>
            <a:ext cx="1282680" cy="1309680"/>
          </a:xfrm>
          <a:prstGeom prst="rect">
            <a:avLst/>
          </a:prstGeom>
          <a:ln w="0">
            <a:noFill/>
          </a:ln>
        </p:spPr>
      </p:pic>
      <p:pic>
        <p:nvPicPr>
          <p:cNvPr id="68" name="小图01" descr="小图01"/>
          <p:cNvPicPr/>
          <p:nvPr/>
        </p:nvPicPr>
        <p:blipFill>
          <a:blip r:embed="rId4"/>
          <a:stretch/>
        </p:blipFill>
        <p:spPr>
          <a:xfrm>
            <a:off x="4633920" y="458640"/>
            <a:ext cx="1281240" cy="1309680"/>
          </a:xfrm>
          <a:prstGeom prst="rect">
            <a:avLst/>
          </a:prstGeom>
          <a:ln w="0">
            <a:noFill/>
          </a:ln>
        </p:spPr>
      </p:pic>
      <p:pic>
        <p:nvPicPr>
          <p:cNvPr id="69" name="小图01" descr="小图01"/>
          <p:cNvPicPr/>
          <p:nvPr/>
        </p:nvPicPr>
        <p:blipFill>
          <a:blip r:embed="rId5"/>
          <a:stretch/>
        </p:blipFill>
        <p:spPr>
          <a:xfrm>
            <a:off x="4211640" y="0"/>
            <a:ext cx="128268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课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53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优秀诗文勤记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的背诵有两个方面，一个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古诗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背诵，一个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现代美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背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勤于练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读胸中有本，多写笔下生花。写真事、描真景、抒真情，写下丰富多彩的生活，写出生活的丰富多彩；写出自己的真情实感；努力使文章情文并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1280" y="1905120"/>
            <a:ext cx="8532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真书写的习惯（作业不过关，重写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勤查字典、词典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积极思考、质疑问难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课积极积极回答问题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前预习、课堂认真听讲、课后认真完成作业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为此，我们要养成以下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复习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批注、做笔记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记笔记、随笔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修改作文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沉着冷静、积极应考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让优秀成为一种习惯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544500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让优秀的习惯帮助我们成为优秀的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" descr="边纹6"/>
          <p:cNvPicPr/>
          <p:nvPr/>
        </p:nvPicPr>
        <p:blipFill>
          <a:blip r:embed="rId2"/>
          <a:stretch/>
        </p:blipFill>
        <p:spPr>
          <a:xfrm>
            <a:off x="2050920" y="1197000"/>
            <a:ext cx="5451480" cy="6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我们承诺做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71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人准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本语文学习笔记（软皮本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人准备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本语文练习本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人准备好一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读书笔记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坚持每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阅读课外读物不少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字，并写一份读书笔记，随时整理积累好词佳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85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目标：人人争当“五一居士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2692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一手好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一张铁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一笔好文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一肚子名篇佳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一颗永远年轻的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" descr="边纹6"/>
          <p:cNvPicPr/>
          <p:nvPr/>
        </p:nvPicPr>
        <p:blipFill>
          <a:blip r:embed="rId2"/>
          <a:stretch/>
        </p:blipFill>
        <p:spPr>
          <a:xfrm>
            <a:off x="1908000" y="0"/>
            <a:ext cx="545148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方正舒体"/>
                <a:ea typeface="隶书"/>
              </a:rPr>
              <a:t>第三，让我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42667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ff"/>
                </a:solidFill>
                <a:latin typeface="宋体"/>
              </a:rPr>
              <a:t>      ——</a:t>
            </a:r>
            <a:r>
              <a:rPr b="1" i="1" lang="zh-CN" sz="4800" spc="-1" strike="noStrike">
                <a:solidFill>
                  <a:srgbClr val="ff00ff"/>
                </a:solidFill>
                <a:latin typeface="宋体"/>
              </a:rPr>
              <a:t>做一名合格的初一学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1844640"/>
            <a:ext cx="56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方正舒体"/>
                <a:ea typeface="隶书"/>
              </a:rPr>
              <a:t>与不良的行为习惯告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27080" y="227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81360" y="12682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什么是不良行为习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26370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自己和他人的身心有害，不利于自己和他人的身心健康；妨碍他人；影响自己和他人成长；不雅，有碍观瞻等等一些行为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63120" cy="6597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43200" y="1600200"/>
            <a:ext cx="541008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方正舒体"/>
              </a:rPr>
              <a:t>走进初中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方正舒体"/>
              </a:rPr>
              <a:t>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也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感受酸甜苦辣的滋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也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历经风霜雷电的洗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也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学会从蛹到蝶的等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初中将是人生的第二起跑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9900"/>
                </a:solidFill>
                <a:latin typeface="Times New Roman"/>
              </a:rPr>
              <a:t>中学生常见的不良行为习惯有哪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9900"/>
                </a:solidFill>
                <a:latin typeface="Times New Roman"/>
              </a:rPr>
              <a:t>看看你符合哪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907920"/>
            <a:ext cx="883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就校内生活而言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堂上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东张西望，精神不集中；不动手，不动脑，呆若木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专心听讲，讲小话；老师或同学发言时，插嘴打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做跟课堂无关的事，涂鸦、写信、写字条，传送字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吃东西，喝水；跟同桌或前后左右桌的同学嬉戏玩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做练习，不积极发言；不记笔记，不懂的知识不记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60" y="457200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课间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追逐打闹，大声喧哗，乱丢果皮纸屑，还有那令人厌恶的泡泡糖屑；说脏话，使用不文明语言；接水时，东张西望，水流得一地都是；用粉笔头掷人；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70360" y="-50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就校外生活而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1125360"/>
            <a:ext cx="698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按时回家， 上学、放学路上追逐打闹；不遵守交通法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文明语言出口成“脏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抽烟、酗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架斗殴；不遵守法令条规，进网吧打游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到家中，摆少爷、小姐脾气，不知老、不知幼，惟我独尊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书从来不看，字从来不写，不听父母的教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770436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据科学家证实，一件行为连续重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次即可成为习惯（一般也以三十天为准），成为习惯即可成为自然，直至终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习惯是一个人的资本，你有了好习惯，你一辈子都有用不完的利息，你有了坏习惯，你一辈子有偿还不了的债务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04560" y="56754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下面是我给你们的一些好的建议，请认真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87280" y="11800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初一是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最好的重新塑造自己形象的时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以全新的好的形象出现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60660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0000" y="606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294084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是谁？我来做什么？该怎么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66560" y="276552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21280" y="2765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43664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学生。学习。学习上，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上进、勤奋、拼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生活上，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快乐、健康、自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146268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将到哪里去？改变命运的钥匙掌握在自己手里。三年后你是继续读高中还是就此走向社会，相信你会有自己的选择。记住：成功只偏爱有准备、会思考的人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5280" y="60660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0000" y="606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46854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会是你的朋友。是教你知识的人，指点你前进的长者，和你一起探讨的伙伴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5889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0000" y="386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87280" y="837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优秀是一种习惯。学会学习，自主学习。好习惯受益终身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60660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0000" y="606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361224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安全是你做任何事情的第一要素！爱护、珍惜自己，非常重要！没有什么比生命和健康更重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66560" y="276552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1280" y="2765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7280" y="837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万别迷恋网络游戏！千万！要知道玩物一定丧志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60660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0000" y="606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294084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道酬勤。努力了不一定成功，但不努力一定不能成功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6560" y="276552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21280" y="2765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87280" y="110268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论男生女生，如果在中学里把容貌当作重要的东西而过分重视的话，可能现在不会吃亏，但早晚会吃亏，也可以说是一定会吃亏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29052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0000" y="290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389304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天抽时间锻炼身体，根据自己特长有效地选择。 坚持下去，好处多多，这太重要了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6560" y="342900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9240" y="343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87280" y="13071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对不公平的东西，不要抱怨。你的不公平可能恰恰是别人的公平。所以，你不如努力的奋斗，争取你自己最合适的公平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7960" y="47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420444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空闲的时候别忘了去图书室，不读书就等于浪费了一大笔一大笔财富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66560" y="3632040"/>
            <a:ext cx="588960" cy="660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9240" y="3632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1088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别挑老师。如果你认为老师对你不好，就努力学好这门课，让他对你刮目相看吧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5280" y="60660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7960" y="606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33012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要动不动就生气。有时生气是拿别人的错误来惩罚自己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66560" y="312912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9240" y="3129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线 3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艺术字 5"/>
          <p:cNvSpPr txBox="1"/>
          <p:nvPr/>
        </p:nvSpPr>
        <p:spPr>
          <a:xfrm>
            <a:off x="826920" y="1557360"/>
            <a:ext cx="7777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新学期，新起点，你准备好了没有？</a:t>
            </a:r>
            <a:endParaRPr b="0" lang="en-US" sz="1800" spc="-1" strike="noStrike">
              <a:ln w="9360">
                <a:solidFill>
                  <a:srgbClr val="ff99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87280" y="11088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临渊羡鱼，不如退而结网。嫉妒别人，不如虚心学他人之长增自己实力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60660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7960" y="606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30852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信自己，没有不可能！奇迹是自己创造出来的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66560" y="291312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99240" y="2913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87280" y="145152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远离霸占你大量时间的电视和无聊小说。有多远躲多远。人的时间与精力都太有限，应多做有益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60660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7960" y="606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58920" y="37566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别抱怨大考、小考之类的东西，那是证明你能力的很好东西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66560" y="348948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9240" y="3489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16000" y="12294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让自己奔跑起来！铁不磨要生锈，人不学习要落后。落后一定要挨打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95280" y="60660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7960" y="606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58920" y="37566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考，早点准备比晚点准备肯定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6560" y="348948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9240" y="3489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32000" y="33246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课发言，有机会展示或锻炼讲话能力，都是难得的机会，对以后有很大的帮助。好好利用在讲台演讲的机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95280" y="60660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27960" y="606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4864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愚蠢的人放脱机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庸的人抓住机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聪明的人创造机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66560" y="2565360"/>
            <a:ext cx="588960" cy="660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9240" y="256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87280" y="145152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家庭一般，记得为了家人和你自己的前途，永远别乱花钱。家庭富足，也要永远记住你用的钱是父母的血汗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95280" y="60660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7960" y="606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402840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别说脏话！做一个有修养的人！你随便的一个字或几个字，会让你在别人心中的形象大打折扣（尤其在长大后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66560" y="348948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9240" y="3489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87280" y="80388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手机是否应该用，有没有必要用，只有你自己知道！你也应该知道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95280" y="60660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7960" y="606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58920" y="36774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年绝对不要放松，先确立自己的领先位置，这样对以后的学习比较有好处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66560" y="3213000"/>
            <a:ext cx="588960" cy="660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99240" y="321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87280" y="114696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万不要把贵重物品随手放在桌上、书包里、床上。防人之心不可无，也不要给别人犯错的机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95280" y="60660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7960" y="606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337248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什么不懂的，一定要及时去问！不要不好意思，不要怕丢面子！要知道死要面子活受罪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66560" y="3213000"/>
            <a:ext cx="588960" cy="6606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9240" y="321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87280" y="114696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弊要靠别人，慢慢地你就会明白有时别人是靠不住的，那时就晚了！相信自己，做个诚实守信的人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95280" y="60660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27960" y="606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46788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遇到困难，应该在策略上重视它，在战略上渺视它！你强它就弱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66560" y="3213000"/>
            <a:ext cx="588960" cy="660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9240" y="321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87280" y="145152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属于你应该干好的任务（如打扫卫生、交作业等），一定要保质保量完成，别让你的小组同伴因你的懒惰自私而一块受到惩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588960" cy="660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27960" y="33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46137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早起的鸟儿有虫吃，早晨早点到校读书，你会发现你的进步和收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588960" cy="660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9240" y="37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首先，我们要重新定位打造自己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7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初中这个新起点上，首先要重新定位自己，调整好心态。也许你是踌躇满志的来到新的班级，希望能展现自我的风采，但在我们的新集体里人才济济，以前出色的你不再拔尖，还可能评不上班干部，成绩不尽如人意，名次下滑……每个人都可能遇到这些挫折，但你千万要记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就此心灰意冷、一蹶不振，我们要用不懈的努力一点点证明自己。也许你在小学时表现一般，入学成绩比别人低，但不能就此盲目断定自己不行而自暴自弃，因为入学成绩只是代表过去，证明不了现在和将来，新的竞争刚刚开始，孰胜孰负还看今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一起迈入初中大门的，是站在同一起跑线上的，不管小学是否优秀那都已成为过去，过高或过低的自我评价都会困住前行的脚步，新的生活面前需要我们重新定位自己打造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796000" y="907920"/>
            <a:ext cx="3097080" cy="4876920"/>
          </a:xfrm>
          <a:prstGeom prst="wedgeRoundRectCallout">
            <a:avLst>
              <a:gd name="adj1" fmla="val -90541"/>
              <a:gd name="adj2" fmla="val -3554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们班级的目标：争取每次考试总体位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全年级前三名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1295280" cy="62485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692360" y="1268280"/>
            <a:ext cx="6095880" cy="19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华文中宋"/>
              </a:rPr>
              <a:t>同学们，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华文中宋"/>
              <a:ea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华文中宋"/>
              </a:rPr>
              <a:t>有没有信心？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8064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习第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散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习要求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确认读和默写“读一读，写一写”中的字词，并用中方格本按要求抄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感情的朗读</a:t>
            </a:r>
            <a:r>
              <a:rPr b="1" lang="zh-CN" sz="2800" spc="-1" strike="noStrike">
                <a:solidFill>
                  <a:srgbClr val="c91603"/>
                </a:solidFill>
                <a:latin typeface="Arial"/>
              </a:rPr>
              <a:t>诗歌</a:t>
            </a:r>
            <a:r>
              <a:rPr b="1" lang="en-US" sz="2800" spc="-1" strike="noStrike">
                <a:solidFill>
                  <a:srgbClr val="c91603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91603"/>
                </a:solidFill>
                <a:latin typeface="Arial"/>
              </a:rPr>
              <a:t>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要求：第一遍读准字音；第二遍读出节奏；第三遍读懂内容，读出情感，划出喜爱的语段，背诵并写出感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初步感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中写了一件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：             地点：        人物：      事件：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文章那几个段落有写景物的片段？分别写了哪些景物？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什么作者说“我背上的同她背上的加起来，就是整个世界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250920" y="213372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请同学们谈谈初中的学习、生活和小学有什么不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其次，要改变改变学习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你们眼中的初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多一少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即课程多，书本多，老师多，玩的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1814400"/>
            <a:ext cx="896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学主要是语、数、英三门课，而到了中学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课程增多，难度加大，进度加快，猛增的学习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往往让我们应接不暇，再沿用小学的学习方法和方式显然无法适应。因此要学好中学课程，不但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要记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更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要思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；不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要跟老师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更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要自己主动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要改变自己的学习方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7628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，要主动适应老师的授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学改变了小学那种事无巨细式的教学方式，老师往往集中讲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难点、要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并且讲过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再重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们要主动去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适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的授课方式，包括上课思路、要求以及某些教学习惯。想做到这一点有两个诀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是预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拿着书本随便翻看不是预习，预习是把第二天的功课尽可能看懂，并找出不懂的地方，在课堂上做为重点听，这可以提高我们的听课效率培养自学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多请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主动把自己的学习状况向老师介绍，有问题就大胆问，千万不要碍于面子而把听不懂的知识留到明天，从一开始就不能欠学习账，否则学习中的漏洞越来越多，到了高年级就难以弥补了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二要制订科学的学习计划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解决科目多学习量大的问题，最好方法就是制定学习计划。包括长期计划，新学期我的目标是什么，到期中期末我要达到什么水平，还可以找个竞争对手来激励自己；此外还有短期计划，也就是周计划、天计划，比如：我怎样安排这一天的学习和玩耍时间，利用什么时间做哪门作业，何时预习，何时做系统复习等等。只要这样踏踏实实完成每天的计划和小目标，就可以自如地应对新学习，达到长远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要注意摸索适合自己的学法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初中阶段学习方法的重要性体现的尤为突出，因为学习的难度加深、灵活性加大，不能单凭死记、死学，要讲究记忆的方法，注意对知识的消化和理解。而且各学科的特点不同，学法也有区别，我们在新的学习过程中要注意不断反思和调整，逐渐摸索出适合自己的学法，做到事半功倍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05:05:54Z</dcterms:created>
  <dc:creator>雨林木风</dc:creator>
  <dc:description/>
  <dc:language>en-US</dc:language>
  <cp:lastModifiedBy>User</cp:lastModifiedBy>
  <dcterms:modified xsi:type="dcterms:W3CDTF">2013-08-31T13:22:40Z</dcterms:modified>
  <cp:revision>56</cp:revision>
  <dc:subject/>
  <dc:title>幻灯片 1</dc:title>
</cp:coreProperties>
</file>