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F14-2A18-426B-852B-66D150F2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D3D-8699-4695-86BD-EC088E50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915-0517-4471-8CFF-C2E0161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B66-755E-4F93-ACB2-FF95CD05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114-1643-4836-9875-6485E89E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050-7B9B-48E4-AD30-FF9C62C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0A3-328D-45BD-AF0A-CAF9D2F6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1FF-117D-4623-913D-0DF1BF0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43C-D62D-435A-81CB-2E1BC145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A1B-2C0A-4F3E-AC83-C50A34E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28A-0BF5-4F20-80CA-B3015B6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766-E63B-4490-A62F-A180AA6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BF9-282D-4FB5-A860-A92EFA133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8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6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4" descr="2.png"/>
          <p:cNvPicPr/>
          <p:nvPr/>
        </p:nvPicPr>
        <p:blipFill>
          <a:blip r:embed="rId2"/>
          <a:stretch/>
        </p:blipFill>
        <p:spPr>
          <a:xfrm>
            <a:off x="4175280" y="0"/>
            <a:ext cx="4968720" cy="5388120"/>
          </a:xfrm>
          <a:prstGeom prst="rect">
            <a:avLst/>
          </a:prstGeom>
          <a:ln w="0">
            <a:noFill/>
          </a:ln>
        </p:spPr>
      </p:pic>
      <p:sp>
        <p:nvSpPr>
          <p:cNvPr id="44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7"/>
          <p:cNvSpPr/>
          <p:nvPr/>
        </p:nvSpPr>
        <p:spPr>
          <a:xfrm>
            <a:off x="266760" y="0"/>
            <a:ext cx="1498680" cy="571500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5"/>
          <p:cNvSpPr/>
          <p:nvPr/>
        </p:nvSpPr>
        <p:spPr>
          <a:xfrm>
            <a:off x="4324320" y="0"/>
            <a:ext cx="692280" cy="464832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6"/>
          <p:cNvSpPr/>
          <p:nvPr/>
        </p:nvSpPr>
        <p:spPr>
          <a:xfrm>
            <a:off x="5011560" y="0"/>
            <a:ext cx="692280" cy="464832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5700600" y="0"/>
            <a:ext cx="692280" cy="464832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8"/>
          <p:cNvSpPr/>
          <p:nvPr/>
        </p:nvSpPr>
        <p:spPr>
          <a:xfrm>
            <a:off x="6388200" y="0"/>
            <a:ext cx="691920" cy="46483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9"/>
          <p:cNvSpPr/>
          <p:nvPr/>
        </p:nvSpPr>
        <p:spPr>
          <a:xfrm>
            <a:off x="7075440" y="0"/>
            <a:ext cx="692280" cy="464832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0"/>
          <p:cNvSpPr/>
          <p:nvPr/>
        </p:nvSpPr>
        <p:spPr>
          <a:xfrm>
            <a:off x="7764480" y="0"/>
            <a:ext cx="692280" cy="464832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1"/>
          <p:cNvSpPr/>
          <p:nvPr/>
        </p:nvSpPr>
        <p:spPr>
          <a:xfrm>
            <a:off x="8451720" y="0"/>
            <a:ext cx="692280" cy="464832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44"/>
          <p:cNvSpPr/>
          <p:nvPr/>
        </p:nvSpPr>
        <p:spPr>
          <a:xfrm>
            <a:off x="1285920" y="4638600"/>
            <a:ext cx="4419720" cy="795240"/>
          </a:xfrm>
          <a:custGeom>
            <a:avLst/>
            <a:gdLst/>
            <a:ahLst/>
            <a:rect l="l" t="t" r="r" b="b"/>
            <a:pathLst>
              <a:path w="4419600" h="795338">
                <a:moveTo>
                  <a:pt x="3724275" y="0"/>
                </a:moveTo>
                <a:lnTo>
                  <a:pt x="0" y="776288"/>
                </a:lnTo>
                <a:lnTo>
                  <a:pt x="14288" y="795338"/>
                </a:lnTo>
                <a:lnTo>
                  <a:pt x="19050" y="795338"/>
                </a:lnTo>
                <a:lnTo>
                  <a:pt x="1319213" y="790575"/>
                </a:lnTo>
                <a:lnTo>
                  <a:pt x="4419600" y="4763"/>
                </a:lnTo>
                <a:lnTo>
                  <a:pt x="3724275" y="0"/>
                </a:lnTo>
                <a:close/>
              </a:path>
            </a:pathLst>
          </a:cu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45"/>
          <p:cNvSpPr/>
          <p:nvPr/>
        </p:nvSpPr>
        <p:spPr>
          <a:xfrm>
            <a:off x="2600280" y="4638600"/>
            <a:ext cx="3791160" cy="795240"/>
          </a:xfrm>
          <a:prstGeom prst="pie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46"/>
          <p:cNvSpPr/>
          <p:nvPr/>
        </p:nvSpPr>
        <p:spPr>
          <a:xfrm>
            <a:off x="3900600" y="4638600"/>
            <a:ext cx="3186000" cy="800280"/>
          </a:xfrm>
          <a:custGeom>
            <a:avLst/>
            <a:gdLst/>
            <a:ahLst/>
            <a:rect l="l" t="t" r="r" b="b"/>
            <a:pathLst>
              <a:path w="3186112" h="800100">
                <a:moveTo>
                  <a:pt x="2481262" y="0"/>
                </a:moveTo>
                <a:lnTo>
                  <a:pt x="0" y="800100"/>
                </a:lnTo>
                <a:lnTo>
                  <a:pt x="1309687" y="795338"/>
                </a:lnTo>
                <a:lnTo>
                  <a:pt x="3186112" y="4763"/>
                </a:lnTo>
                <a:lnTo>
                  <a:pt x="2481262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47"/>
          <p:cNvSpPr/>
          <p:nvPr/>
        </p:nvSpPr>
        <p:spPr>
          <a:xfrm>
            <a:off x="5200560" y="4633920"/>
            <a:ext cx="2567160" cy="795240"/>
          </a:xfrm>
          <a:custGeom>
            <a:avLst/>
            <a:gdLst/>
            <a:ahLst/>
            <a:rect l="l" t="t" r="r" b="b"/>
            <a:pathLst>
              <a:path w="2566988" h="795337">
                <a:moveTo>
                  <a:pt x="1876425" y="0"/>
                </a:moveTo>
                <a:lnTo>
                  <a:pt x="0" y="795337"/>
                </a:lnTo>
                <a:lnTo>
                  <a:pt x="1314450" y="795337"/>
                </a:lnTo>
                <a:lnTo>
                  <a:pt x="2566988" y="4762"/>
                </a:lnTo>
                <a:lnTo>
                  <a:pt x="1876425" y="0"/>
                </a:lnTo>
                <a:close/>
              </a:path>
            </a:pathLst>
          </a:cu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48"/>
          <p:cNvSpPr/>
          <p:nvPr/>
        </p:nvSpPr>
        <p:spPr>
          <a:xfrm>
            <a:off x="6510240" y="4638600"/>
            <a:ext cx="1943280" cy="795240"/>
          </a:xfrm>
          <a:custGeom>
            <a:avLst/>
            <a:gdLst/>
            <a:ahLst/>
            <a:rect l="l" t="t" r="r" b="b"/>
            <a:pathLst>
              <a:path w="1943100" h="795338">
                <a:moveTo>
                  <a:pt x="0" y="790575"/>
                </a:moveTo>
                <a:lnTo>
                  <a:pt x="1262062" y="0"/>
                </a:lnTo>
                <a:lnTo>
                  <a:pt x="1943100" y="0"/>
                </a:lnTo>
                <a:lnTo>
                  <a:pt x="1300162" y="795338"/>
                </a:lnTo>
                <a:lnTo>
                  <a:pt x="0" y="790575"/>
                </a:lnTo>
                <a:close/>
              </a:path>
            </a:pathLst>
          </a:cu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49"/>
          <p:cNvSpPr/>
          <p:nvPr/>
        </p:nvSpPr>
        <p:spPr>
          <a:xfrm>
            <a:off x="7805880" y="4633920"/>
            <a:ext cx="1347480" cy="809640"/>
          </a:xfrm>
          <a:custGeom>
            <a:avLst/>
            <a:gdLst/>
            <a:ahLst/>
            <a:rect l="l" t="t" r="r" b="b"/>
            <a:pathLst>
              <a:path w="1347787" h="809625">
                <a:moveTo>
                  <a:pt x="642937" y="0"/>
                </a:moveTo>
                <a:lnTo>
                  <a:pt x="0" y="809625"/>
                </a:lnTo>
                <a:lnTo>
                  <a:pt x="1347787" y="795337"/>
                </a:lnTo>
                <a:lnTo>
                  <a:pt x="1347787" y="4762"/>
                </a:lnTo>
                <a:lnTo>
                  <a:pt x="642937" y="0"/>
                </a:lnTo>
                <a:close/>
              </a:path>
            </a:pathLst>
          </a:cu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50"/>
          <p:cNvSpPr/>
          <p:nvPr/>
        </p:nvSpPr>
        <p:spPr>
          <a:xfrm>
            <a:off x="-6480" y="4635360"/>
            <a:ext cx="5023080" cy="793800"/>
          </a:xfrm>
          <a:custGeom>
            <a:avLst/>
            <a:gdLst/>
            <a:ahLst/>
            <a:rect l="l" t="t" r="r" b="b"/>
            <a:pathLst>
              <a:path w="5022850" h="793750">
                <a:moveTo>
                  <a:pt x="4330700" y="0"/>
                </a:moveTo>
                <a:lnTo>
                  <a:pt x="5022850" y="6350"/>
                </a:lnTo>
                <a:lnTo>
                  <a:pt x="1308100" y="793750"/>
                </a:lnTo>
                <a:lnTo>
                  <a:pt x="0" y="787400"/>
                </a:lnTo>
                <a:lnTo>
                  <a:pt x="4330700" y="0"/>
                </a:lnTo>
                <a:close/>
              </a:path>
            </a:pathLst>
          </a:cu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9" descr="4.png"/>
          <p:cNvPicPr/>
          <p:nvPr/>
        </p:nvPicPr>
        <p:blipFill>
          <a:blip r:embed="rId3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152280" y="271296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204840" y="177624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POWER POINT </a:t>
            </a:r>
            <a:r>
              <a:rPr b="1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3" descr="6.png"/>
          <p:cNvPicPr/>
          <p:nvPr/>
        </p:nvPicPr>
        <p:blipFill>
          <a:blip r:embed="rId4"/>
          <a:stretch/>
        </p:blipFill>
        <p:spPr>
          <a:xfrm>
            <a:off x="274680" y="3495600"/>
            <a:ext cx="291960" cy="17640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53"/>
          <p:cNvGrpSpPr/>
          <p:nvPr/>
        </p:nvGrpSpPr>
        <p:grpSpPr>
          <a:xfrm>
            <a:off x="0" y="5043600"/>
            <a:ext cx="9144000" cy="350640"/>
            <a:chOff x="0" y="5043600"/>
            <a:chExt cx="9144000" cy="350640"/>
          </a:xfrm>
        </p:grpSpPr>
        <p:sp>
          <p:nvSpPr>
            <p:cNvPr id="72" name="矩形 42"/>
            <p:cNvSpPr/>
            <p:nvPr/>
          </p:nvSpPr>
          <p:spPr>
            <a:xfrm>
              <a:off x="0" y="5043600"/>
              <a:ext cx="9144000" cy="350640"/>
            </a:xfrm>
            <a:prstGeom prst="rect">
              <a:avLst/>
            </a:prstGeom>
            <a:solidFill>
              <a:srgbClr val="595959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图片 51" descr="7.png"/>
            <p:cNvPicPr/>
            <p:nvPr/>
          </p:nvPicPr>
          <p:blipFill>
            <a:blip r:embed="rId5"/>
            <a:stretch/>
          </p:blipFill>
          <p:spPr>
            <a:xfrm>
              <a:off x="7201440" y="5098320"/>
              <a:ext cx="286200" cy="2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52"/>
            <p:cNvSpPr/>
            <p:nvPr/>
          </p:nvSpPr>
          <p:spPr>
            <a:xfrm>
              <a:off x="7411320" y="5102280"/>
              <a:ext cx="17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57575"/>
                  </a:solidFill>
                  <a:latin typeface="Calibri"/>
                </a:rPr>
                <a:t>http://www.ppthi-hoo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30"/>
          <p:cNvSpPr/>
          <p:nvPr/>
        </p:nvSpPr>
        <p:spPr>
          <a:xfrm>
            <a:off x="152280" y="194148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SUCC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1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1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77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97"/>
          <p:cNvSpPr/>
          <p:nvPr/>
        </p:nvSpPr>
        <p:spPr>
          <a:xfrm>
            <a:off x="5600880" y="1992240"/>
            <a:ext cx="452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LIFE </a:t>
            </a:r>
            <a:r>
              <a:rPr b="0" lang="en-US" sz="40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5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sp>
        <p:nvSpPr>
          <p:cNvPr id="99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02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70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105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0920"/>
                <a:gd name="textAreaBottom" fmla="*/ 2045520 h 205092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183356" y="2636843"/>
                  </a:moveTo>
                  <a:lnTo>
                    <a:pt x="1183356" y="2636843"/>
                  </a:lnTo>
                  <a:arcTo wR="1322072" hR="1322070" stAng="5761365" swAng="15729668"/>
                  <a:lnTo>
                    <a:pt x="2476956" y="1285451"/>
                  </a:lnTo>
                  <a:lnTo>
                    <a:pt x="2476956" y="1285451"/>
                  </a:lnTo>
                  <a:arcTo wR="1155465" hR="1155463" stAng="-108967" swAng="-15729668"/>
                  <a:close/>
                </a:path>
              </a:pathLst>
            </a:cu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65"/>
            <p:cNvSpPr/>
            <p:nvPr/>
          </p:nvSpPr>
          <p:spPr>
            <a:xfrm rot="18533400">
              <a:off x="853560" y="1901880"/>
              <a:ext cx="1759320" cy="1758960"/>
            </a:xfrm>
            <a:custGeom>
              <a:avLst/>
              <a:gdLst>
                <a:gd name="textAreaLeft" fmla="*/ 0 w 1759320"/>
                <a:gd name="textAreaRight" fmla="*/ 1758960 w 1759320"/>
                <a:gd name="textAreaTop" fmla="*/ 0 h 1758960"/>
                <a:gd name="textAreaBottom" fmla="*/ 1754640 h 1758960"/>
              </a:gdLst>
              <a:ahLst/>
              <a:rect l="textAreaLeft" t="textAreaTop" r="textAreaRight" b="textAreaBottom"/>
              <a:pathLst>
                <a:path w="2267579" h="2267575">
                  <a:moveTo>
                    <a:pt x="1019610" y="2261811"/>
                  </a:moveTo>
                  <a:lnTo>
                    <a:pt x="1019610" y="2261811"/>
                  </a:lnTo>
                  <a:arcTo wR="1133790" hR="1133788" stAng="5746789" swAng="15739891"/>
                  <a:lnTo>
                    <a:pt x="2086154" y="1102383"/>
                  </a:lnTo>
                  <a:lnTo>
                    <a:pt x="2086154" y="1102383"/>
                  </a:lnTo>
                  <a:arcTo wR="952882" hR="952880" stAng="-113322" swAng="-15739888"/>
                  <a:close/>
                </a:path>
              </a:pathLst>
            </a:cu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空心弧 66"/>
            <p:cNvSpPr/>
            <p:nvPr/>
          </p:nvSpPr>
          <p:spPr>
            <a:xfrm rot="18533400">
              <a:off x="1001160" y="2049120"/>
              <a:ext cx="1463760" cy="1463760"/>
            </a:xfrm>
            <a:custGeom>
              <a:avLst/>
              <a:gdLst>
                <a:gd name="textAreaLeft" fmla="*/ 0 w 1463760"/>
                <a:gd name="textAreaRight" fmla="*/ 1463400 w 1463760"/>
                <a:gd name="textAreaTop" fmla="*/ 0 h 1463760"/>
                <a:gd name="textAreaBottom" fmla="*/ 1460160 h 1463760"/>
              </a:gdLst>
              <a:ahLst/>
              <a:rect l="textAreaLeft" t="textAreaTop" r="textAreaRight" b="textAreaBottom"/>
              <a:pathLst>
                <a:path w="1886920" h="1886917">
                  <a:moveTo>
                    <a:pt x="848758" y="1882152"/>
                  </a:moveTo>
                  <a:lnTo>
                    <a:pt x="848758" y="1882152"/>
                  </a:lnTo>
                  <a:arcTo wR="943460" hR="943459" stAng="5745654" swAng="15741026"/>
                  <a:lnTo>
                    <a:pt x="1735951" y="917326"/>
                  </a:lnTo>
                  <a:lnTo>
                    <a:pt x="1735951" y="917326"/>
                  </a:lnTo>
                  <a:arcTo wR="792922" hR="792920" stAng="-113321" swAng="-15741025"/>
                  <a:close/>
                </a:path>
              </a:pathLst>
            </a:cu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67"/>
            <p:cNvSpPr/>
            <p:nvPr/>
          </p:nvSpPr>
          <p:spPr>
            <a:xfrm rot="18533400">
              <a:off x="1126800" y="2174760"/>
              <a:ext cx="1212840" cy="1212840"/>
            </a:xfrm>
            <a:custGeom>
              <a:avLst/>
              <a:gdLst>
                <a:gd name="textAreaLeft" fmla="*/ 0 w 1212840"/>
                <a:gd name="textAreaRight" fmla="*/ 1212840 w 1212840"/>
                <a:gd name="textAreaTop" fmla="*/ 0 h 1212840"/>
                <a:gd name="textAreaBottom" fmla="*/ 1209960 h 1212840"/>
              </a:gdLst>
              <a:ahLst/>
              <a:rect l="textAreaLeft" t="textAreaTop" r="textAreaRight" b="textAreaBottom"/>
              <a:pathLst>
                <a:path w="1563565" h="1563563">
                  <a:moveTo>
                    <a:pt x="702348" y="1559517"/>
                  </a:moveTo>
                  <a:lnTo>
                    <a:pt x="702348" y="1559517"/>
                  </a:lnTo>
                  <a:arcTo wR="781783" hR="781782" stAng="5749901" swAng="15736778"/>
                  <a:lnTo>
                    <a:pt x="1438467" y="760127"/>
                  </a:lnTo>
                  <a:lnTo>
                    <a:pt x="1438467" y="760127"/>
                  </a:lnTo>
                  <a:arcTo wR="657041" hR="657040" stAng="-113318" swAng="-15736779"/>
                  <a:close/>
                </a:path>
              </a:pathLst>
            </a:cu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空心弧 68"/>
            <p:cNvSpPr/>
            <p:nvPr/>
          </p:nvSpPr>
          <p:spPr>
            <a:xfrm rot="18533400">
              <a:off x="1231920" y="2279520"/>
              <a:ext cx="1003320" cy="100332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1003320"/>
                <a:gd name="textAreaBottom" fmla="*/ 1001160 h 1003320"/>
              </a:gdLst>
              <a:ahLst/>
              <a:rect l="textAreaLeft" t="textAreaTop" r="textAreaRight" b="textAreaBottom"/>
              <a:pathLst>
                <a:path w="1293420" h="1293418">
                  <a:moveTo>
                    <a:pt x="582918" y="1290264"/>
                  </a:moveTo>
                  <a:lnTo>
                    <a:pt x="582918" y="1290264"/>
                  </a:lnTo>
                  <a:arcTo wR="646710" hR="646709" stAng="5739655" swAng="15747025"/>
                  <a:lnTo>
                    <a:pt x="1189936" y="628796"/>
                  </a:lnTo>
                  <a:lnTo>
                    <a:pt x="1189936" y="628796"/>
                  </a:lnTo>
                  <a:arcTo wR="543521" hR="543520" stAng="-113319" swAng="-15747028"/>
                  <a:close/>
                </a:path>
              </a:pathLst>
            </a:cu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空心弧 69"/>
            <p:cNvSpPr/>
            <p:nvPr/>
          </p:nvSpPr>
          <p:spPr>
            <a:xfrm rot="18533400">
              <a:off x="1318680" y="2366640"/>
              <a:ext cx="828720" cy="828720"/>
            </a:xfrm>
            <a:custGeom>
              <a:avLst/>
              <a:gdLst>
                <a:gd name="textAreaLeft" fmla="*/ 0 w 828720"/>
                <a:gd name="textAreaRight" fmla="*/ 828720 w 828720"/>
                <a:gd name="textAreaTop" fmla="*/ 0 h 828720"/>
                <a:gd name="textAreaBottom" fmla="*/ 826560 h 828720"/>
              </a:gdLst>
              <a:ahLst/>
              <a:rect l="textAreaLeft" t="textAreaTop" r="textAreaRight" b="textAreaBottom"/>
              <a:pathLst>
                <a:path w="1068300" h="1068298">
                  <a:moveTo>
                    <a:pt x="479484" y="1065493"/>
                  </a:moveTo>
                  <a:lnTo>
                    <a:pt x="479484" y="1065493"/>
                  </a:lnTo>
                  <a:arcTo wR="534150" hR="534149" stAng="5752444" swAng="15734231"/>
                  <a:lnTo>
                    <a:pt x="982827" y="519354"/>
                  </a:lnTo>
                  <a:lnTo>
                    <a:pt x="982827" y="519354"/>
                  </a:lnTo>
                  <a:arcTo wR="448921" hR="448920" stAng="-113318" swAng="-15734242"/>
                  <a:close/>
                </a:path>
              </a:pathLst>
            </a:cu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71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112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965305" y="2477112"/>
                  </a:moveTo>
                  <a:lnTo>
                    <a:pt x="1965305" y="2477112"/>
                  </a:lnTo>
                  <a:arcTo wR="1322072" hR="1322070" stAng="3653216" swAng="17837816"/>
                  <a:lnTo>
                    <a:pt x="2476956" y="1285451"/>
                  </a:lnTo>
                  <a:lnTo>
                    <a:pt x="2476956" y="1285451"/>
                  </a:lnTo>
                  <a:arcTo wR="1155465" hR="1155463" stAng="-108967" swAng="-17837819"/>
                  <a:close/>
                </a:path>
              </a:pathLst>
            </a:cu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空心弧 73"/>
            <p:cNvSpPr/>
            <p:nvPr/>
          </p:nvSpPr>
          <p:spPr>
            <a:xfrm rot="19563000">
              <a:off x="3393720" y="1901520"/>
              <a:ext cx="1759320" cy="1759320"/>
            </a:xfrm>
            <a:custGeom>
              <a:avLst/>
              <a:gdLst>
                <a:gd name="textAreaLeft" fmla="*/ 0 w 1759320"/>
                <a:gd name="textAreaRight" fmla="*/ 1758960 w 175932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2267579" h="2267575">
                  <a:moveTo>
                    <a:pt x="1688495" y="2122614"/>
                  </a:moveTo>
                  <a:lnTo>
                    <a:pt x="1688495" y="2122614"/>
                  </a:lnTo>
                  <a:arcTo wR="1133790" hR="1133788" stAng="3642522" swAng="17844158"/>
                  <a:lnTo>
                    <a:pt x="2086154" y="1102383"/>
                  </a:lnTo>
                  <a:lnTo>
                    <a:pt x="2086154" y="1102383"/>
                  </a:lnTo>
                  <a:arcTo wR="952882" hR="952880" stAng="-113322" swAng="-17844155"/>
                  <a:close/>
                </a:path>
              </a:pathLst>
            </a:cu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空心弧 74"/>
            <p:cNvSpPr/>
            <p:nvPr/>
          </p:nvSpPr>
          <p:spPr>
            <a:xfrm rot="19563000">
              <a:off x="3541320" y="2049480"/>
              <a:ext cx="1463760" cy="1463760"/>
            </a:xfrm>
            <a:custGeom>
              <a:avLst/>
              <a:gdLst>
                <a:gd name="textAreaLeft" fmla="*/ 0 w 1463760"/>
                <a:gd name="textAreaRight" fmla="*/ 1463400 w 1463760"/>
                <a:gd name="textAreaTop" fmla="*/ 0 h 1463760"/>
                <a:gd name="textAreaBottom" fmla="*/ 1463760 h 1463760"/>
              </a:gdLst>
              <a:ahLst/>
              <a:rect l="textAreaLeft" t="textAreaTop" r="textAreaRight" b="textAreaBottom"/>
              <a:pathLst>
                <a:path w="1886920" h="1886917">
                  <a:moveTo>
                    <a:pt x="1406347" y="1765560"/>
                  </a:moveTo>
                  <a:lnTo>
                    <a:pt x="1406347" y="1765560"/>
                  </a:lnTo>
                  <a:arcTo wR="943460" hR="943459" stAng="3637091" swAng="17849589"/>
                  <a:lnTo>
                    <a:pt x="1735951" y="917326"/>
                  </a:lnTo>
                  <a:lnTo>
                    <a:pt x="1735951" y="917326"/>
                  </a:lnTo>
                  <a:arcTo wR="792922" hR="792920" stAng="-113321" swAng="-17849588"/>
                  <a:close/>
                </a:path>
              </a:pathLst>
            </a:cu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空心弧 75"/>
            <p:cNvSpPr/>
            <p:nvPr/>
          </p:nvSpPr>
          <p:spPr>
            <a:xfrm rot="19563000">
              <a:off x="3666600" y="2174760"/>
              <a:ext cx="1212840" cy="1212840"/>
            </a:xfrm>
            <a:custGeom>
              <a:avLst/>
              <a:gdLst/>
              <a:ahLst/>
              <a:rect l="l" t="t" r="r" b="b"/>
              <a:pathLst>
                <a:path w="1563565" h="1563563">
                  <a:moveTo>
                    <a:pt x="1162698" y="1464486"/>
                  </a:moveTo>
                  <a:lnTo>
                    <a:pt x="1162698" y="1464486"/>
                  </a:lnTo>
                  <a:arcTo wR="781783" hR="781782" stAng="3650437" swAng="17836241"/>
                  <a:lnTo>
                    <a:pt x="1438467" y="760127"/>
                  </a:lnTo>
                  <a:lnTo>
                    <a:pt x="1438467" y="760127"/>
                  </a:lnTo>
                  <a:arcTo wR="657041" hR="657040" stAng="-113318" swAng="-17836246"/>
                  <a:close/>
                </a:path>
              </a:pathLst>
            </a:cu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空心弧 76"/>
            <p:cNvSpPr/>
            <p:nvPr/>
          </p:nvSpPr>
          <p:spPr>
            <a:xfrm rot="19563000">
              <a:off x="3771360" y="2279520"/>
              <a:ext cx="1003320" cy="100332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1293420" h="1293418">
                  <a:moveTo>
                    <a:pt x="959486" y="1212752"/>
                  </a:moveTo>
                  <a:lnTo>
                    <a:pt x="959486" y="1212752"/>
                  </a:lnTo>
                  <a:arcTo wR="646710" hR="646709" stAng="3664588" swAng="17822092"/>
                  <a:lnTo>
                    <a:pt x="1189936" y="628796"/>
                  </a:lnTo>
                  <a:lnTo>
                    <a:pt x="1189936" y="628796"/>
                  </a:lnTo>
                  <a:arcTo wR="543521" hR="543520" stAng="-113319" swAng="-17822091"/>
                  <a:close/>
                </a:path>
              </a:pathLst>
            </a:cu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空心弧 77"/>
            <p:cNvSpPr/>
            <p:nvPr/>
          </p:nvSpPr>
          <p:spPr>
            <a:xfrm rot="19563000">
              <a:off x="3858840" y="2366640"/>
              <a:ext cx="828720" cy="828720"/>
            </a:xfrm>
            <a:custGeom>
              <a:avLst/>
              <a:gdLst>
                <a:gd name="textAreaLeft" fmla="*/ 0 w 828720"/>
                <a:gd name="textAreaRight" fmla="*/ 828720 w 8287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068300" h="1068298">
                  <a:moveTo>
                    <a:pt x="784666" y="1005909"/>
                  </a:moveTo>
                  <a:lnTo>
                    <a:pt x="784666" y="1005909"/>
                  </a:lnTo>
                  <a:arcTo wR="534150" hR="534149" stAng="3721837" swAng="17764845"/>
                  <a:lnTo>
                    <a:pt x="982827" y="519354"/>
                  </a:lnTo>
                  <a:lnTo>
                    <a:pt x="982827" y="519354"/>
                  </a:lnTo>
                  <a:arcTo wR="448921" hR="448920" stAng="-113318" swAng="-17764848"/>
                  <a:close/>
                </a:path>
              </a:pathLst>
            </a:cu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78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19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custGeom>
              <a:avLst/>
              <a:gdLst>
                <a:gd name="textAreaLeft" fmla="*/ 0 w 2050920"/>
                <a:gd name="textAreaRight" fmla="*/ 2050560 w 205092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2408899" y="2074852"/>
                  </a:moveTo>
                  <a:lnTo>
                    <a:pt x="2408899" y="2074852"/>
                  </a:lnTo>
                  <a:arcTo wR="1322072" hR="1322070" stAng="2082484" swAng="19408547"/>
                  <a:lnTo>
                    <a:pt x="2476956" y="1285451"/>
                  </a:lnTo>
                  <a:lnTo>
                    <a:pt x="2476956" y="1285451"/>
                  </a:lnTo>
                  <a:arcTo wR="1155465" hR="1155463" stAng="-108967" swAng="-19408547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80"/>
            <p:cNvSpPr/>
            <p:nvPr/>
          </p:nvSpPr>
          <p:spPr>
            <a:xfrm rot="20404800">
              <a:off x="6162120" y="1901520"/>
              <a:ext cx="1758960" cy="1759320"/>
            </a:xfrm>
            <a:custGeom>
              <a:avLst/>
              <a:gdLst>
                <a:gd name="textAreaLeft" fmla="*/ 0 w 1758960"/>
                <a:gd name="textAreaRight" fmla="*/ 1758600 w 1758960"/>
                <a:gd name="textAreaTop" fmla="*/ 0 h 1759320"/>
                <a:gd name="textAreaBottom" fmla="*/ 1759680 h 1759320"/>
              </a:gdLst>
              <a:ahLst/>
              <a:rect l="textAreaLeft" t="textAreaTop" r="textAreaRight" b="textAreaBottom"/>
              <a:pathLst>
                <a:path w="2267579" h="2267575">
                  <a:moveTo>
                    <a:pt x="2065836" y="1779362"/>
                  </a:moveTo>
                  <a:lnTo>
                    <a:pt x="2065836" y="1779362"/>
                  </a:lnTo>
                  <a:arcTo wR="1133790" hR="1133788" stAng="2082486" swAng="19404193"/>
                  <a:lnTo>
                    <a:pt x="2086154" y="1102383"/>
                  </a:lnTo>
                  <a:lnTo>
                    <a:pt x="2086154" y="1102383"/>
                  </a:lnTo>
                  <a:arcTo wR="952882" hR="952880" stAng="-113322" swAng="-19404194"/>
                  <a:close/>
                </a:path>
              </a:pathLst>
            </a:cu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81"/>
            <p:cNvSpPr/>
            <p:nvPr/>
          </p:nvSpPr>
          <p:spPr>
            <a:xfrm rot="20404800">
              <a:off x="6310080" y="2049120"/>
              <a:ext cx="1463760" cy="1463760"/>
            </a:xfrm>
            <a:custGeom>
              <a:avLst/>
              <a:gdLst>
                <a:gd name="textAreaLeft" fmla="*/ 0 w 1463760"/>
                <a:gd name="textAreaRight" fmla="*/ 1463400 w 1463760"/>
                <a:gd name="textAreaTop" fmla="*/ 0 h 1463760"/>
                <a:gd name="textAreaBottom" fmla="*/ 1463760 h 1463760"/>
              </a:gdLst>
              <a:ahLst/>
              <a:rect l="textAreaLeft" t="textAreaTop" r="textAreaRight" b="textAreaBottom"/>
              <a:pathLst>
                <a:path w="1886920" h="1886917">
                  <a:moveTo>
                    <a:pt x="1719044" y="1480660"/>
                  </a:moveTo>
                  <a:lnTo>
                    <a:pt x="1719044" y="1480660"/>
                  </a:lnTo>
                  <a:arcTo wR="943460" hR="943459" stAng="2082486" swAng="19404194"/>
                  <a:lnTo>
                    <a:pt x="1735951" y="917326"/>
                  </a:lnTo>
                  <a:lnTo>
                    <a:pt x="1735951" y="917326"/>
                  </a:lnTo>
                  <a:arcTo wR="792922" hR="792920" stAng="-113321" swAng="-19404191"/>
                  <a:close/>
                </a:path>
              </a:pathLst>
            </a:cu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82"/>
            <p:cNvSpPr/>
            <p:nvPr/>
          </p:nvSpPr>
          <p:spPr>
            <a:xfrm rot="20404800">
              <a:off x="6435720" y="2174760"/>
              <a:ext cx="1212840" cy="1212840"/>
            </a:xfrm>
            <a:custGeom>
              <a:avLst/>
              <a:gdLst/>
              <a:ahLst/>
              <a:rect l="l" t="t" r="r" b="b"/>
              <a:pathLst>
                <a:path w="1563565" h="1563563">
                  <a:moveTo>
                    <a:pt x="1424457" y="1226925"/>
                  </a:moveTo>
                  <a:lnTo>
                    <a:pt x="1424457" y="1226925"/>
                  </a:lnTo>
                  <a:arcTo wR="781783" hR="781782" stAng="2082487" swAng="19404196"/>
                  <a:lnTo>
                    <a:pt x="1438467" y="760127"/>
                  </a:lnTo>
                  <a:lnTo>
                    <a:pt x="1438467" y="760127"/>
                  </a:lnTo>
                  <a:arcTo wR="657041" hR="657040" stAng="-113318" swAng="-19404192"/>
                  <a:close/>
                </a:path>
              </a:pathLst>
            </a:cu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空心弧 83"/>
            <p:cNvSpPr/>
            <p:nvPr/>
          </p:nvSpPr>
          <p:spPr>
            <a:xfrm rot="20404800">
              <a:off x="6540120" y="2279160"/>
              <a:ext cx="1003320" cy="1003320"/>
            </a:xfrm>
            <a:custGeom>
              <a:avLst/>
              <a:gdLst>
                <a:gd name="textAreaLeft" fmla="*/ 0 w 1003320"/>
                <a:gd name="textAreaRight" fmla="*/ 1003320 w 10033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1293420" h="1293418">
                  <a:moveTo>
                    <a:pt x="1178347" y="1014943"/>
                  </a:moveTo>
                  <a:lnTo>
                    <a:pt x="1178347" y="1014943"/>
                  </a:lnTo>
                  <a:arcTo wR="646710" hR="646709" stAng="2082485" swAng="19404194"/>
                  <a:lnTo>
                    <a:pt x="1189936" y="628796"/>
                  </a:lnTo>
                  <a:lnTo>
                    <a:pt x="1189936" y="628796"/>
                  </a:lnTo>
                  <a:arcTo wR="543521" hR="543520" stAng="-113319" swAng="-19404198"/>
                  <a:close/>
                </a:path>
              </a:pathLst>
            </a:cu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空心弧 84"/>
            <p:cNvSpPr/>
            <p:nvPr/>
          </p:nvSpPr>
          <p:spPr>
            <a:xfrm rot="20404800">
              <a:off x="6627600" y="2366640"/>
              <a:ext cx="828720" cy="828720"/>
            </a:xfrm>
            <a:custGeom>
              <a:avLst/>
              <a:gdLst>
                <a:gd name="textAreaLeft" fmla="*/ 0 w 828720"/>
                <a:gd name="textAreaRight" fmla="*/ 828720 w 8287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1068300" h="1068298">
                  <a:moveTo>
                    <a:pt x="973255" y="838291"/>
                  </a:moveTo>
                  <a:lnTo>
                    <a:pt x="973255" y="838291"/>
                  </a:lnTo>
                  <a:arcTo wR="534150" hR="534149" stAng="2082483" swAng="19404192"/>
                  <a:lnTo>
                    <a:pt x="982827" y="519354"/>
                  </a:lnTo>
                  <a:lnTo>
                    <a:pt x="982827" y="519354"/>
                  </a:lnTo>
                  <a:arcTo wR="448921" hR="448920" stAng="-113318" swAng="-19404192"/>
                  <a:close/>
                </a:path>
              </a:pathLst>
            </a:cu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87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26" name="矩形 85"/>
            <p:cNvSpPr/>
            <p:nvPr/>
          </p:nvSpPr>
          <p:spPr>
            <a:xfrm>
              <a:off x="100476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88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29" name="矩形 89"/>
            <p:cNvSpPr/>
            <p:nvPr/>
          </p:nvSpPr>
          <p:spPr>
            <a:xfrm>
              <a:off x="371160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91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32" name="矩形 92"/>
            <p:cNvSpPr/>
            <p:nvPr/>
          </p:nvSpPr>
          <p:spPr>
            <a:xfrm>
              <a:off x="6418440" y="4082760"/>
              <a:ext cx="130464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5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sp>
        <p:nvSpPr>
          <p:cNvPr id="147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88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51" name="矩形 89"/>
            <p:cNvSpPr/>
            <p:nvPr/>
          </p:nvSpPr>
          <p:spPr>
            <a:xfrm>
              <a:off x="2478240" y="4273200"/>
              <a:ext cx="418752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5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sp>
        <p:nvSpPr>
          <p:cNvPr id="16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5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sp>
        <p:nvSpPr>
          <p:cNvPr id="190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93" name="组合 27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94" name="组合 1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95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32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200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10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202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3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208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组合 7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210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4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216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13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18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5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sp>
        <p:nvSpPr>
          <p:cNvPr id="232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28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36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00b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26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45" name="任意多边形 167"/>
            <p:cNvSpPr/>
            <p:nvPr/>
          </p:nvSpPr>
          <p:spPr>
            <a:xfrm>
              <a:off x="2730600" y="20829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173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52" name="饼形 17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527509" y="691489"/>
                  </a:moveTo>
                  <a:lnTo>
                    <a:pt x="2527509" y="691489"/>
                  </a:lnTo>
                  <a:arcTo wR="1349375" hR="1349375" stAng="-1750775" swAng="1743983"/>
                  <a:lnTo>
                    <a:pt x="1349375" y="1349375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饼形 17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98748" y="1346973"/>
                  </a:moveTo>
                  <a:lnTo>
                    <a:pt x="2698748" y="1346973"/>
                  </a:lnTo>
                  <a:arcTo wR="1349375" hR="1349375" stAng="-6119" swAng="2420133"/>
                  <a:lnTo>
                    <a:pt x="1349375" y="1349375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饼形 176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379564" y="2220881"/>
                  </a:moveTo>
                  <a:lnTo>
                    <a:pt x="2379564" y="2220881"/>
                  </a:lnTo>
                  <a:arcTo wR="1349375" hR="1349375" stAng="2413807" swAng="3010016"/>
                  <a:lnTo>
                    <a:pt x="1349375" y="1349375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饼形 177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3161" y="2698736"/>
                  </a:moveTo>
                  <a:lnTo>
                    <a:pt x="1343161" y="2698736"/>
                  </a:lnTo>
                  <a:arcTo wR="1349375" hR="1349375" stAng="5415831" swAng="3191733"/>
                  <a:lnTo>
                    <a:pt x="1349375" y="1349375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饼形 17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8955" y="2157772"/>
                  </a:moveTo>
                  <a:lnTo>
                    <a:pt x="268955" y="2157772"/>
                  </a:lnTo>
                  <a:arcTo wR="1349375" hR="1349375" stAng="8591715" swAng="3223288"/>
                  <a:lnTo>
                    <a:pt x="1349375" y="1349375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饼形 17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60004" y="951462"/>
                  </a:moveTo>
                  <a:lnTo>
                    <a:pt x="60004" y="951462"/>
                  </a:lnTo>
                  <a:arcTo wR="1349375" hR="1349375" stAng="-9770955" swAng="4370960"/>
                  <a:lnTo>
                    <a:pt x="1349375" y="1349375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饼形 180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8136" y="1"/>
                  </a:moveTo>
                  <a:lnTo>
                    <a:pt x="1348136" y="1"/>
                  </a:lnTo>
                  <a:arcTo wR="1349375" hR="1349375" stAng="-5403157" swAng="3662413"/>
                  <a:lnTo>
                    <a:pt x="1349375" y="1349375"/>
                  </a:lnTo>
                  <a:close/>
                </a:path>
              </a:pathLst>
            </a:custGeom>
            <a:solidFill>
              <a:srgbClr val="00be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28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6" descr="3.png"/>
          <p:cNvPicPr/>
          <p:nvPr/>
        </p:nvPicPr>
        <p:blipFill>
          <a:blip r:embed="rId1"/>
          <a:stretch/>
        </p:blipFill>
        <p:spPr>
          <a:xfrm>
            <a:off x="154080" y="173160"/>
            <a:ext cx="1724040" cy="822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4" descr="2.png"/>
          <p:cNvPicPr/>
          <p:nvPr/>
        </p:nvPicPr>
        <p:blipFill>
          <a:blip r:embed="rId2"/>
          <a:stretch/>
        </p:blipFill>
        <p:spPr>
          <a:xfrm>
            <a:off x="4175280" y="0"/>
            <a:ext cx="4968720" cy="5388120"/>
          </a:xfrm>
          <a:prstGeom prst="rect">
            <a:avLst/>
          </a:prstGeom>
          <a:ln w="0">
            <a:noFill/>
          </a:ln>
        </p:spPr>
      </p:pic>
      <p:sp>
        <p:nvSpPr>
          <p:cNvPr id="265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7"/>
          <p:cNvSpPr/>
          <p:nvPr/>
        </p:nvSpPr>
        <p:spPr>
          <a:xfrm>
            <a:off x="266760" y="0"/>
            <a:ext cx="1498680" cy="571500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5"/>
          <p:cNvSpPr/>
          <p:nvPr/>
        </p:nvSpPr>
        <p:spPr>
          <a:xfrm>
            <a:off x="4324320" y="0"/>
            <a:ext cx="692280" cy="464832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6"/>
          <p:cNvSpPr/>
          <p:nvPr/>
        </p:nvSpPr>
        <p:spPr>
          <a:xfrm>
            <a:off x="5011560" y="0"/>
            <a:ext cx="692280" cy="464832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7"/>
          <p:cNvSpPr/>
          <p:nvPr/>
        </p:nvSpPr>
        <p:spPr>
          <a:xfrm>
            <a:off x="5700600" y="0"/>
            <a:ext cx="692280" cy="464832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8"/>
          <p:cNvSpPr/>
          <p:nvPr/>
        </p:nvSpPr>
        <p:spPr>
          <a:xfrm>
            <a:off x="6388200" y="0"/>
            <a:ext cx="691920" cy="46483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9"/>
          <p:cNvSpPr/>
          <p:nvPr/>
        </p:nvSpPr>
        <p:spPr>
          <a:xfrm>
            <a:off x="7075440" y="0"/>
            <a:ext cx="692280" cy="464832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0"/>
          <p:cNvSpPr/>
          <p:nvPr/>
        </p:nvSpPr>
        <p:spPr>
          <a:xfrm>
            <a:off x="7764480" y="0"/>
            <a:ext cx="692280" cy="464832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1"/>
          <p:cNvSpPr/>
          <p:nvPr/>
        </p:nvSpPr>
        <p:spPr>
          <a:xfrm>
            <a:off x="8451720" y="0"/>
            <a:ext cx="692280" cy="464832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4"/>
          <p:cNvSpPr/>
          <p:nvPr/>
        </p:nvSpPr>
        <p:spPr>
          <a:xfrm>
            <a:off x="1285920" y="4638600"/>
            <a:ext cx="4419720" cy="795240"/>
          </a:xfrm>
          <a:custGeom>
            <a:avLst/>
            <a:gdLst/>
            <a:ahLst/>
            <a:rect l="l" t="t" r="r" b="b"/>
            <a:pathLst>
              <a:path w="4419600" h="795338">
                <a:moveTo>
                  <a:pt x="3724275" y="0"/>
                </a:moveTo>
                <a:lnTo>
                  <a:pt x="0" y="776288"/>
                </a:lnTo>
                <a:lnTo>
                  <a:pt x="14288" y="795338"/>
                </a:lnTo>
                <a:lnTo>
                  <a:pt x="19050" y="795338"/>
                </a:lnTo>
                <a:lnTo>
                  <a:pt x="1319213" y="790575"/>
                </a:lnTo>
                <a:lnTo>
                  <a:pt x="4419600" y="4763"/>
                </a:lnTo>
                <a:lnTo>
                  <a:pt x="3724275" y="0"/>
                </a:lnTo>
                <a:close/>
              </a:path>
            </a:pathLst>
          </a:cu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2600280" y="4638600"/>
            <a:ext cx="3791160" cy="795240"/>
          </a:xfrm>
          <a:prstGeom prst="pie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任意多边形 46"/>
          <p:cNvSpPr/>
          <p:nvPr/>
        </p:nvSpPr>
        <p:spPr>
          <a:xfrm>
            <a:off x="3900600" y="4638600"/>
            <a:ext cx="3186000" cy="800280"/>
          </a:xfrm>
          <a:custGeom>
            <a:avLst/>
            <a:gdLst/>
            <a:ahLst/>
            <a:rect l="l" t="t" r="r" b="b"/>
            <a:pathLst>
              <a:path w="3186112" h="800100">
                <a:moveTo>
                  <a:pt x="2481262" y="0"/>
                </a:moveTo>
                <a:lnTo>
                  <a:pt x="0" y="800100"/>
                </a:lnTo>
                <a:lnTo>
                  <a:pt x="1309687" y="795338"/>
                </a:lnTo>
                <a:lnTo>
                  <a:pt x="3186112" y="4763"/>
                </a:lnTo>
                <a:lnTo>
                  <a:pt x="2481262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任意多边形 47"/>
          <p:cNvSpPr/>
          <p:nvPr/>
        </p:nvSpPr>
        <p:spPr>
          <a:xfrm>
            <a:off x="5200560" y="4633920"/>
            <a:ext cx="2567160" cy="795240"/>
          </a:xfrm>
          <a:custGeom>
            <a:avLst/>
            <a:gdLst/>
            <a:ahLst/>
            <a:rect l="l" t="t" r="r" b="b"/>
            <a:pathLst>
              <a:path w="2566988" h="795337">
                <a:moveTo>
                  <a:pt x="1876425" y="0"/>
                </a:moveTo>
                <a:lnTo>
                  <a:pt x="0" y="795337"/>
                </a:lnTo>
                <a:lnTo>
                  <a:pt x="1314450" y="795337"/>
                </a:lnTo>
                <a:lnTo>
                  <a:pt x="2566988" y="4762"/>
                </a:lnTo>
                <a:lnTo>
                  <a:pt x="1876425" y="0"/>
                </a:lnTo>
                <a:close/>
              </a:path>
            </a:pathLst>
          </a:cu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48"/>
          <p:cNvSpPr/>
          <p:nvPr/>
        </p:nvSpPr>
        <p:spPr>
          <a:xfrm>
            <a:off x="6510240" y="4638600"/>
            <a:ext cx="1943280" cy="795240"/>
          </a:xfrm>
          <a:custGeom>
            <a:avLst/>
            <a:gdLst/>
            <a:ahLst/>
            <a:rect l="l" t="t" r="r" b="b"/>
            <a:pathLst>
              <a:path w="1943100" h="795338">
                <a:moveTo>
                  <a:pt x="0" y="790575"/>
                </a:moveTo>
                <a:lnTo>
                  <a:pt x="1262062" y="0"/>
                </a:lnTo>
                <a:lnTo>
                  <a:pt x="1943100" y="0"/>
                </a:lnTo>
                <a:lnTo>
                  <a:pt x="1300162" y="795338"/>
                </a:lnTo>
                <a:lnTo>
                  <a:pt x="0" y="790575"/>
                </a:lnTo>
                <a:close/>
              </a:path>
            </a:pathLst>
          </a:cu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49"/>
          <p:cNvSpPr/>
          <p:nvPr/>
        </p:nvSpPr>
        <p:spPr>
          <a:xfrm>
            <a:off x="7805880" y="4633920"/>
            <a:ext cx="1347480" cy="809640"/>
          </a:xfrm>
          <a:custGeom>
            <a:avLst/>
            <a:gdLst/>
            <a:ahLst/>
            <a:rect l="l" t="t" r="r" b="b"/>
            <a:pathLst>
              <a:path w="1347787" h="809625">
                <a:moveTo>
                  <a:pt x="642937" y="0"/>
                </a:moveTo>
                <a:lnTo>
                  <a:pt x="0" y="809625"/>
                </a:lnTo>
                <a:lnTo>
                  <a:pt x="1347787" y="795337"/>
                </a:lnTo>
                <a:lnTo>
                  <a:pt x="1347787" y="4762"/>
                </a:lnTo>
                <a:lnTo>
                  <a:pt x="642937" y="0"/>
                </a:lnTo>
                <a:close/>
              </a:path>
            </a:pathLst>
          </a:cu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50"/>
          <p:cNvSpPr/>
          <p:nvPr/>
        </p:nvSpPr>
        <p:spPr>
          <a:xfrm>
            <a:off x="-6480" y="4635360"/>
            <a:ext cx="5023080" cy="793800"/>
          </a:xfrm>
          <a:custGeom>
            <a:avLst/>
            <a:gdLst/>
            <a:ahLst/>
            <a:rect l="l" t="t" r="r" b="b"/>
            <a:pathLst>
              <a:path w="5022850" h="793750">
                <a:moveTo>
                  <a:pt x="4330700" y="0"/>
                </a:moveTo>
                <a:lnTo>
                  <a:pt x="5022850" y="6350"/>
                </a:lnTo>
                <a:lnTo>
                  <a:pt x="1308100" y="793750"/>
                </a:lnTo>
                <a:lnTo>
                  <a:pt x="0" y="787400"/>
                </a:lnTo>
                <a:lnTo>
                  <a:pt x="4330700" y="0"/>
                </a:lnTo>
                <a:close/>
              </a:path>
            </a:pathLst>
          </a:cu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29" descr="4.png"/>
          <p:cNvPicPr/>
          <p:nvPr/>
        </p:nvPicPr>
        <p:blipFill>
          <a:blip r:embed="rId3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1"/>
          <p:cNvSpPr/>
          <p:nvPr/>
        </p:nvSpPr>
        <p:spPr>
          <a:xfrm>
            <a:off x="152280" y="25606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43" descr="6.png"/>
          <p:cNvPicPr/>
          <p:nvPr/>
        </p:nvPicPr>
        <p:blipFill>
          <a:blip r:embed="rId4"/>
          <a:stretch/>
        </p:blipFill>
        <p:spPr>
          <a:xfrm>
            <a:off x="274680" y="3343320"/>
            <a:ext cx="291960" cy="176040"/>
          </a:xfrm>
          <a:prstGeom prst="rect">
            <a:avLst/>
          </a:prstGeom>
          <a:ln w="0">
            <a:noFill/>
          </a:ln>
        </p:spPr>
      </p:pic>
      <p:grpSp>
        <p:nvGrpSpPr>
          <p:cNvPr id="291" name="组合 53"/>
          <p:cNvGrpSpPr/>
          <p:nvPr/>
        </p:nvGrpSpPr>
        <p:grpSpPr>
          <a:xfrm>
            <a:off x="0" y="5043600"/>
            <a:ext cx="9144000" cy="350640"/>
            <a:chOff x="0" y="5043600"/>
            <a:chExt cx="9144000" cy="350640"/>
          </a:xfrm>
        </p:grpSpPr>
        <p:sp>
          <p:nvSpPr>
            <p:cNvPr id="292" name="矩形 42"/>
            <p:cNvSpPr/>
            <p:nvPr/>
          </p:nvSpPr>
          <p:spPr>
            <a:xfrm>
              <a:off x="0" y="5043600"/>
              <a:ext cx="9144000" cy="350640"/>
            </a:xfrm>
            <a:prstGeom prst="rect">
              <a:avLst/>
            </a:prstGeom>
            <a:solidFill>
              <a:srgbClr val="595959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图片 51" descr="7.png"/>
            <p:cNvPicPr/>
            <p:nvPr/>
          </p:nvPicPr>
          <p:blipFill>
            <a:blip r:embed="rId5"/>
            <a:stretch/>
          </p:blipFill>
          <p:spPr>
            <a:xfrm>
              <a:off x="7201440" y="5098320"/>
              <a:ext cx="286200" cy="2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52"/>
            <p:cNvSpPr/>
            <p:nvPr/>
          </p:nvSpPr>
          <p:spPr>
            <a:xfrm>
              <a:off x="7411320" y="5102280"/>
              <a:ext cx="172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57575"/>
                  </a:solidFill>
                  <a:latin typeface="Calibri"/>
                </a:rPr>
                <a:t>http://www.ppthi-hoo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30"/>
          <p:cNvSpPr/>
          <p:nvPr/>
        </p:nvSpPr>
        <p:spPr>
          <a:xfrm>
            <a:off x="152280" y="178920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4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1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1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5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DADI</dc:creator>
  <dc:description/>
  <dc:language>en-US</dc:language>
  <cp:lastModifiedBy>Administrator</cp:lastModifiedBy>
  <dcterms:modified xsi:type="dcterms:W3CDTF">2015-09-30T01:03:23Z</dcterms:modified>
  <cp:revision>56</cp:revision>
  <dc:subject/>
  <dc:title>幻灯片 1</dc:title>
</cp:coreProperties>
</file>