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A6B-81A5-42E1-81FE-30B6F693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9AF-D585-403E-90D2-E20DD8C8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9DB-D25A-44C5-A25E-D1583C9F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CB3-1BCB-4A50-9E88-7A64A223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E3C-8F82-4E3E-BDD4-3EC42D96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4AA-F5B3-4E14-9E3B-25EE9A0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B20-1569-4CD4-AC42-CDC0850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3B5-FB8C-4FED-A64A-18BDA2ED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352-D041-492C-8A08-C6F10AA4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C47-6871-4280-A814-73C6F1AA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8A9-80B9-4B51-922A-EC3B1A9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072-B700-424F-B1BD-54092A3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A2D-7C08-4546-8B3B-FED41EE03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837040" y="64296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绿色环保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620040" y="714240"/>
            <a:ext cx="144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28"/>
          <p:cNvGrpSpPr/>
          <p:nvPr/>
        </p:nvGrpSpPr>
        <p:grpSpPr>
          <a:xfrm>
            <a:off x="1000080" y="1643040"/>
            <a:ext cx="7118280" cy="3981600"/>
            <a:chOff x="1000080" y="1643040"/>
            <a:chExt cx="7118280" cy="3981600"/>
          </a:xfrm>
        </p:grpSpPr>
        <p:grpSp>
          <p:nvGrpSpPr>
            <p:cNvPr id="210" name="组合 20"/>
            <p:cNvGrpSpPr/>
            <p:nvPr/>
          </p:nvGrpSpPr>
          <p:grpSpPr>
            <a:xfrm>
              <a:off x="3935160" y="1643040"/>
              <a:ext cx="4183200" cy="3981600"/>
              <a:chOff x="3935160" y="1643040"/>
              <a:chExt cx="4183200" cy="3981600"/>
            </a:xfrm>
          </p:grpSpPr>
          <p:grpSp>
            <p:nvGrpSpPr>
              <p:cNvPr id="211" name="组合 19"/>
              <p:cNvGrpSpPr/>
              <p:nvPr/>
            </p:nvGrpSpPr>
            <p:grpSpPr>
              <a:xfrm>
                <a:off x="3935160" y="3664440"/>
                <a:ext cx="4183200" cy="1960200"/>
                <a:chOff x="3935160" y="3664440"/>
                <a:chExt cx="4183200" cy="1960200"/>
              </a:xfrm>
            </p:grpSpPr>
            <p:sp>
              <p:nvSpPr>
                <p:cNvPr id="212" name="矩形 17"/>
                <p:cNvSpPr/>
                <p:nvPr/>
              </p:nvSpPr>
              <p:spPr>
                <a:xfrm>
                  <a:off x="4578120" y="3664440"/>
                  <a:ext cx="3540240" cy="1960200"/>
                </a:xfrm>
                <a:prstGeom prst="rect">
                  <a:avLst/>
                </a:prstGeom>
                <a:solidFill>
                  <a:srgbClr val="82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弦形 18"/>
                <p:cNvSpPr/>
                <p:nvPr/>
              </p:nvSpPr>
              <p:spPr>
                <a:xfrm rot="10800000">
                  <a:off x="3935160" y="4030920"/>
                  <a:ext cx="1239840" cy="1241280"/>
                </a:xfrm>
                <a:custGeom>
                  <a:avLst/>
                  <a:gdLst>
                    <a:gd name="textAreaLeft" fmla="*/ 181440 w 1239840"/>
                    <a:gd name="textAreaRight" fmla="*/ 1058400 w 1239840"/>
                    <a:gd name="textAreaTop" fmla="*/ 181800 h 1241280"/>
                    <a:gd name="textAreaBottom" fmla="*/ 1059480 h 1241280"/>
                  </a:gdLst>
                  <a:ahLst/>
                  <a:rect l="textAreaLeft" t="textAreaTop" r="textAreaRight" b="textAreaBottom"/>
                  <a:pathLst>
                    <a:path w="1490436" h="1492393">
                      <a:moveTo>
                        <a:pt x="754360" y="1492337"/>
                      </a:moveTo>
                      <a:lnTo>
                        <a:pt x="754360" y="1492337"/>
                      </a:lnTo>
                      <a:arcTo wR="745218" hR="746197" stAng="5357882" swAng="10950355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组合 14"/>
              <p:cNvGrpSpPr/>
              <p:nvPr/>
            </p:nvGrpSpPr>
            <p:grpSpPr>
              <a:xfrm>
                <a:off x="3935160" y="1643040"/>
                <a:ext cx="4183200" cy="1960200"/>
                <a:chOff x="3935160" y="1643040"/>
                <a:chExt cx="4183200" cy="1960200"/>
              </a:xfrm>
            </p:grpSpPr>
            <p:sp>
              <p:nvSpPr>
                <p:cNvPr id="215" name="矩形 15"/>
                <p:cNvSpPr/>
                <p:nvPr/>
              </p:nvSpPr>
              <p:spPr>
                <a:xfrm>
                  <a:off x="4578120" y="1643040"/>
                  <a:ext cx="3540240" cy="1960200"/>
                </a:xfrm>
                <a:prstGeom prst="rect">
                  <a:avLst/>
                </a:prstGeom>
                <a:solidFill>
                  <a:srgbClr val="d1e6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弦形 16"/>
                <p:cNvSpPr/>
                <p:nvPr/>
              </p:nvSpPr>
              <p:spPr>
                <a:xfrm rot="10800000">
                  <a:off x="3935160" y="2009520"/>
                  <a:ext cx="1239840" cy="1241280"/>
                </a:xfrm>
                <a:custGeom>
                  <a:avLst/>
                  <a:gdLst>
                    <a:gd name="textAreaLeft" fmla="*/ 181440 w 1239840"/>
                    <a:gd name="textAreaRight" fmla="*/ 1058400 w 1239840"/>
                    <a:gd name="textAreaTop" fmla="*/ 181800 h 1241280"/>
                    <a:gd name="textAreaBottom" fmla="*/ 1059480 h 1241280"/>
                  </a:gdLst>
                  <a:ahLst/>
                  <a:rect l="textAreaLeft" t="textAreaTop" r="textAreaRight" b="textAreaBottom"/>
                  <a:pathLst>
                    <a:path w="1928537" h="1931070">
                      <a:moveTo>
                        <a:pt x="976098" y="1930997"/>
                      </a:moveTo>
                      <a:lnTo>
                        <a:pt x="976098" y="1930997"/>
                      </a:lnTo>
                      <a:arcTo wR="964269" hR="965535" stAng="5357882" swAng="10950352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组合 21"/>
            <p:cNvGrpSpPr/>
            <p:nvPr/>
          </p:nvGrpSpPr>
          <p:grpSpPr>
            <a:xfrm>
              <a:off x="1000080" y="1643040"/>
              <a:ext cx="4183200" cy="3981600"/>
              <a:chOff x="1000080" y="1643040"/>
              <a:chExt cx="4183200" cy="3981600"/>
            </a:xfrm>
          </p:grpSpPr>
          <p:grpSp>
            <p:nvGrpSpPr>
              <p:cNvPr id="218" name="组合 19"/>
              <p:cNvGrpSpPr/>
              <p:nvPr/>
            </p:nvGrpSpPr>
            <p:grpSpPr>
              <a:xfrm>
                <a:off x="1000080" y="3664440"/>
                <a:ext cx="4183200" cy="1960200"/>
                <a:chOff x="1000080" y="3664440"/>
                <a:chExt cx="4183200" cy="1960200"/>
              </a:xfrm>
            </p:grpSpPr>
            <p:sp>
              <p:nvSpPr>
                <p:cNvPr id="219" name="矩形 26"/>
                <p:cNvSpPr/>
                <p:nvPr/>
              </p:nvSpPr>
              <p:spPr>
                <a:xfrm flipH="1">
                  <a:off x="1000080" y="3664440"/>
                  <a:ext cx="3540240" cy="1960200"/>
                </a:xfrm>
                <a:prstGeom prst="rect">
                  <a:avLst/>
                </a:prstGeom>
                <a:solidFill>
                  <a:srgbClr val="82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弦形 27"/>
                <p:cNvSpPr/>
                <p:nvPr/>
              </p:nvSpPr>
              <p:spPr>
                <a:xfrm flipH="1" rot="10800000">
                  <a:off x="3943440" y="4030920"/>
                  <a:ext cx="1239840" cy="1241280"/>
                </a:xfrm>
                <a:custGeom>
                  <a:avLst/>
                  <a:gdLst>
                    <a:gd name="textAreaLeft" fmla="*/ 181440 w 1239840"/>
                    <a:gd name="textAreaRight" fmla="*/ 1058400 w 1239840"/>
                    <a:gd name="textAreaTop" fmla="*/ 181800 h 1241280"/>
                    <a:gd name="textAreaBottom" fmla="*/ 1059480 h 1241280"/>
                  </a:gdLst>
                  <a:ahLst/>
                  <a:rect l="textAreaLeft" t="textAreaTop" r="textAreaRight" b="textAreaBottom"/>
                  <a:pathLst>
                    <a:path w="1490437" h="1492393">
                      <a:moveTo>
                        <a:pt x="754360" y="1492337"/>
                      </a:moveTo>
                      <a:lnTo>
                        <a:pt x="754360" y="1492337"/>
                      </a:lnTo>
                      <a:arcTo wR="745219" hR="746197" stAng="5357882" swAng="10950355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组合 14"/>
              <p:cNvGrpSpPr/>
              <p:nvPr/>
            </p:nvGrpSpPr>
            <p:grpSpPr>
              <a:xfrm>
                <a:off x="1000080" y="1643040"/>
                <a:ext cx="4183200" cy="1960200"/>
                <a:chOff x="1000080" y="1643040"/>
                <a:chExt cx="4183200" cy="1960200"/>
              </a:xfrm>
            </p:grpSpPr>
            <p:sp>
              <p:nvSpPr>
                <p:cNvPr id="222" name="矩形 24"/>
                <p:cNvSpPr/>
                <p:nvPr/>
              </p:nvSpPr>
              <p:spPr>
                <a:xfrm flipH="1">
                  <a:off x="1000080" y="1643040"/>
                  <a:ext cx="3540240" cy="1960200"/>
                </a:xfrm>
                <a:prstGeom prst="rect">
                  <a:avLst/>
                </a:prstGeom>
                <a:solidFill>
                  <a:srgbClr val="d1e6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弦形 25"/>
                <p:cNvSpPr/>
                <p:nvPr/>
              </p:nvSpPr>
              <p:spPr>
                <a:xfrm flipH="1" rot="10800000">
                  <a:off x="3943440" y="2009520"/>
                  <a:ext cx="1239840" cy="1241280"/>
                </a:xfrm>
                <a:custGeom>
                  <a:avLst/>
                  <a:gdLst>
                    <a:gd name="textAreaLeft" fmla="*/ 181440 w 1239840"/>
                    <a:gd name="textAreaRight" fmla="*/ 1058400 w 1239840"/>
                    <a:gd name="textAreaTop" fmla="*/ 181800 h 1241280"/>
                    <a:gd name="textAreaBottom" fmla="*/ 1059480 h 1241280"/>
                  </a:gdLst>
                  <a:ahLst/>
                  <a:rect l="textAreaLeft" t="textAreaTop" r="textAreaRight" b="textAreaBottom"/>
                  <a:pathLst>
                    <a:path w="1928538" h="1931070">
                      <a:moveTo>
                        <a:pt x="976098" y="1930997"/>
                      </a:moveTo>
                      <a:lnTo>
                        <a:pt x="976098" y="1930997"/>
                      </a:lnTo>
                      <a:arcTo wR="964269" hR="965535" stAng="5357882" swAng="10950352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4" name="矩形 15"/>
          <p:cNvSpPr/>
          <p:nvPr/>
        </p:nvSpPr>
        <p:spPr>
          <a:xfrm>
            <a:off x="59979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592668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5"/>
          <p:cNvSpPr/>
          <p:nvPr/>
        </p:nvSpPr>
        <p:spPr>
          <a:xfrm>
            <a:off x="21405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5"/>
          <p:cNvSpPr/>
          <p:nvPr/>
        </p:nvSpPr>
        <p:spPr>
          <a:xfrm>
            <a:off x="206892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5"/>
          <p:cNvGrpSpPr/>
          <p:nvPr/>
        </p:nvGrpSpPr>
        <p:grpSpPr>
          <a:xfrm>
            <a:off x="2095200" y="2000160"/>
            <a:ext cx="5391720" cy="808560"/>
            <a:chOff x="2095200" y="2000160"/>
            <a:chExt cx="5391720" cy="808560"/>
          </a:xfrm>
        </p:grpSpPr>
        <p:sp>
          <p:nvSpPr>
            <p:cNvPr id="45" name="等腰三角形 7"/>
            <p:cNvSpPr/>
            <p:nvPr/>
          </p:nvSpPr>
          <p:spPr>
            <a:xfrm flipH="1" rot="9985200">
              <a:off x="7362720" y="2697840"/>
              <a:ext cx="114120" cy="98640"/>
            </a:xfrm>
            <a:custGeom>
              <a:avLst/>
              <a:gdLst/>
              <a:ahLst/>
              <a:rect l="l" t="t" r="r" b="b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 flipH="1">
              <a:off x="6814800" y="2535120"/>
              <a:ext cx="649080" cy="228600"/>
            </a:xfrm>
            <a:custGeom>
              <a:avLst/>
              <a:gdLst/>
              <a:ahLst/>
              <a:rect l="l" t="t" r="r" b="b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5"/>
            <p:cNvSpPr/>
            <p:nvPr/>
          </p:nvSpPr>
          <p:spPr>
            <a:xfrm flipH="1">
              <a:off x="6816240" y="2503440"/>
              <a:ext cx="352440" cy="164880"/>
            </a:xfrm>
            <a:custGeom>
              <a:avLst/>
              <a:gdLst/>
              <a:ahLst/>
              <a:rect l="l" t="t" r="r" b="b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 flipH="1">
              <a:off x="2094840" y="2000160"/>
              <a:ext cx="5077080" cy="557280"/>
            </a:xfrm>
            <a:custGeom>
              <a:avLst/>
              <a:gdLst/>
              <a:ahLst/>
              <a:rect l="l" t="t" r="r" b="b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6"/>
          <p:cNvGrpSpPr/>
          <p:nvPr/>
        </p:nvGrpSpPr>
        <p:grpSpPr>
          <a:xfrm>
            <a:off x="2118960" y="2928960"/>
            <a:ext cx="5391720" cy="808560"/>
            <a:chOff x="2118960" y="2928960"/>
            <a:chExt cx="5391720" cy="808560"/>
          </a:xfrm>
        </p:grpSpPr>
        <p:sp>
          <p:nvSpPr>
            <p:cNvPr id="50" name="等腰三角形 7"/>
            <p:cNvSpPr/>
            <p:nvPr/>
          </p:nvSpPr>
          <p:spPr>
            <a:xfrm flipH="1" rot="9985200">
              <a:off x="7386480" y="3626640"/>
              <a:ext cx="114120" cy="98640"/>
            </a:xfrm>
            <a:custGeom>
              <a:avLst/>
              <a:gdLst/>
              <a:ahLst/>
              <a:rect l="l" t="t" r="r" b="b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 flipH="1">
              <a:off x="6838560" y="3463920"/>
              <a:ext cx="649080" cy="228600"/>
            </a:xfrm>
            <a:custGeom>
              <a:avLst/>
              <a:gdLst/>
              <a:ahLst/>
              <a:rect l="l" t="t" r="r" b="b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5"/>
            <p:cNvSpPr/>
            <p:nvPr/>
          </p:nvSpPr>
          <p:spPr>
            <a:xfrm flipH="1">
              <a:off x="6840000" y="3432240"/>
              <a:ext cx="352440" cy="164880"/>
            </a:xfrm>
            <a:custGeom>
              <a:avLst/>
              <a:gdLst/>
              <a:ahLst/>
              <a:rect l="l" t="t" r="r" b="b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4"/>
            <p:cNvSpPr/>
            <p:nvPr/>
          </p:nvSpPr>
          <p:spPr>
            <a:xfrm flipH="1">
              <a:off x="2118600" y="2928960"/>
              <a:ext cx="5077080" cy="557280"/>
            </a:xfrm>
            <a:custGeom>
              <a:avLst/>
              <a:gdLst/>
              <a:ahLst/>
              <a:rect l="l" t="t" r="r" b="b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21"/>
          <p:cNvGrpSpPr/>
          <p:nvPr/>
        </p:nvGrpSpPr>
        <p:grpSpPr>
          <a:xfrm>
            <a:off x="2142720" y="3917880"/>
            <a:ext cx="5391720" cy="808560"/>
            <a:chOff x="2142720" y="3917880"/>
            <a:chExt cx="5391720" cy="808560"/>
          </a:xfrm>
        </p:grpSpPr>
        <p:sp>
          <p:nvSpPr>
            <p:cNvPr id="55" name="等腰三角形 7"/>
            <p:cNvSpPr/>
            <p:nvPr/>
          </p:nvSpPr>
          <p:spPr>
            <a:xfrm flipH="1" rot="9985200">
              <a:off x="7410240" y="4615560"/>
              <a:ext cx="114120" cy="98640"/>
            </a:xfrm>
            <a:custGeom>
              <a:avLst/>
              <a:gdLst/>
              <a:ahLst/>
              <a:rect l="l" t="t" r="r" b="b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5"/>
            <p:cNvSpPr/>
            <p:nvPr/>
          </p:nvSpPr>
          <p:spPr>
            <a:xfrm flipH="1">
              <a:off x="6862320" y="4452840"/>
              <a:ext cx="649080" cy="228600"/>
            </a:xfrm>
            <a:custGeom>
              <a:avLst/>
              <a:gdLst/>
              <a:ahLst/>
              <a:rect l="l" t="t" r="r" b="b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5"/>
            <p:cNvSpPr/>
            <p:nvPr/>
          </p:nvSpPr>
          <p:spPr>
            <a:xfrm flipH="1">
              <a:off x="6863760" y="4421160"/>
              <a:ext cx="352440" cy="164880"/>
            </a:xfrm>
            <a:custGeom>
              <a:avLst/>
              <a:gdLst/>
              <a:ahLst/>
              <a:rect l="l" t="t" r="r" b="b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 flipH="1">
              <a:off x="2142360" y="3917880"/>
              <a:ext cx="5077080" cy="557280"/>
            </a:xfrm>
            <a:custGeom>
              <a:avLst/>
              <a:gdLst/>
              <a:ahLst/>
              <a:rect l="l" t="t" r="r" b="b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378360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38548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3735720" y="398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11"/>
          <p:cNvSpPr/>
          <p:nvPr/>
        </p:nvSpPr>
        <p:spPr>
          <a:xfrm>
            <a:off x="311940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椭圆 12"/>
          <p:cNvGrpSpPr/>
          <p:nvPr/>
        </p:nvGrpSpPr>
        <p:grpSpPr>
          <a:xfrm>
            <a:off x="500040" y="1816200"/>
            <a:ext cx="3303720" cy="3305160"/>
            <a:chOff x="500040" y="1816200"/>
            <a:chExt cx="3303720" cy="3305160"/>
          </a:xfrm>
        </p:grpSpPr>
        <p:pic>
          <p:nvPicPr>
            <p:cNvPr id="69" name="椭圆 12" descr=""/>
            <p:cNvPicPr/>
            <p:nvPr/>
          </p:nvPicPr>
          <p:blipFill>
            <a:blip r:embed="rId1"/>
            <a:stretch/>
          </p:blipFill>
          <p:spPr>
            <a:xfrm>
              <a:off x="500040" y="1816200"/>
              <a:ext cx="33037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62160" y="2405160"/>
              <a:ext cx="19573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椭圆 14"/>
          <p:cNvGrpSpPr/>
          <p:nvPr/>
        </p:nvGrpSpPr>
        <p:grpSpPr>
          <a:xfrm>
            <a:off x="2914560" y="3468600"/>
            <a:ext cx="1621080" cy="1621080"/>
            <a:chOff x="2914560" y="3468600"/>
            <a:chExt cx="1621080" cy="1621080"/>
          </a:xfrm>
        </p:grpSpPr>
        <p:pic>
          <p:nvPicPr>
            <p:cNvPr id="72" name="椭圆 14" descr=""/>
            <p:cNvPicPr/>
            <p:nvPr/>
          </p:nvPicPr>
          <p:blipFill>
            <a:blip r:embed="rId2"/>
            <a:stretch/>
          </p:blipFill>
          <p:spPr>
            <a:xfrm>
              <a:off x="2914560" y="346860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30440" y="380844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椭圆 15"/>
          <p:cNvGrpSpPr/>
          <p:nvPr/>
        </p:nvGrpSpPr>
        <p:grpSpPr>
          <a:xfrm>
            <a:off x="3419640" y="3797280"/>
            <a:ext cx="792000" cy="793800"/>
            <a:chOff x="3419640" y="3797280"/>
            <a:chExt cx="792000" cy="793800"/>
          </a:xfrm>
        </p:grpSpPr>
        <p:pic>
          <p:nvPicPr>
            <p:cNvPr id="75" name="椭圆 15" descr=""/>
            <p:cNvPicPr/>
            <p:nvPr/>
          </p:nvPicPr>
          <p:blipFill>
            <a:blip r:embed="rId3"/>
            <a:stretch/>
          </p:blipFill>
          <p:spPr>
            <a:xfrm>
              <a:off x="3419640" y="379728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40240" y="3917880"/>
              <a:ext cx="54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20"/>
          <p:cNvSpPr/>
          <p:nvPr/>
        </p:nvSpPr>
        <p:spPr>
          <a:xfrm flipH="1">
            <a:off x="478872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椭圆 21"/>
          <p:cNvGrpSpPr/>
          <p:nvPr/>
        </p:nvGrpSpPr>
        <p:grpSpPr>
          <a:xfrm>
            <a:off x="5254560" y="1816200"/>
            <a:ext cx="3303720" cy="3305160"/>
            <a:chOff x="5254560" y="1816200"/>
            <a:chExt cx="3303720" cy="3305160"/>
          </a:xfrm>
        </p:grpSpPr>
        <p:pic>
          <p:nvPicPr>
            <p:cNvPr id="79" name="椭圆 21" descr=""/>
            <p:cNvPicPr/>
            <p:nvPr/>
          </p:nvPicPr>
          <p:blipFill>
            <a:blip r:embed="rId4"/>
            <a:stretch/>
          </p:blipFill>
          <p:spPr>
            <a:xfrm>
              <a:off x="5254560" y="1816200"/>
              <a:ext cx="33037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019920" y="2405160"/>
              <a:ext cx="19573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椭圆 23"/>
          <p:cNvGrpSpPr/>
          <p:nvPr/>
        </p:nvGrpSpPr>
        <p:grpSpPr>
          <a:xfrm>
            <a:off x="4522680" y="3468600"/>
            <a:ext cx="1622520" cy="1621080"/>
            <a:chOff x="4522680" y="3468600"/>
            <a:chExt cx="1622520" cy="1621080"/>
          </a:xfrm>
        </p:grpSpPr>
        <p:pic>
          <p:nvPicPr>
            <p:cNvPr id="82" name="椭圆 23" descr=""/>
            <p:cNvPicPr/>
            <p:nvPr/>
          </p:nvPicPr>
          <p:blipFill>
            <a:blip r:embed="rId5"/>
            <a:stretch/>
          </p:blipFill>
          <p:spPr>
            <a:xfrm>
              <a:off x="4522680" y="3468600"/>
              <a:ext cx="1622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040360" y="3808440"/>
              <a:ext cx="7700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椭圆 24"/>
          <p:cNvGrpSpPr/>
          <p:nvPr/>
        </p:nvGrpSpPr>
        <p:grpSpPr>
          <a:xfrm>
            <a:off x="5029200" y="3797280"/>
            <a:ext cx="792000" cy="793800"/>
            <a:chOff x="5029200" y="3797280"/>
            <a:chExt cx="792000" cy="793800"/>
          </a:xfrm>
        </p:grpSpPr>
        <p:pic>
          <p:nvPicPr>
            <p:cNvPr id="85" name="椭圆 24" descr=""/>
            <p:cNvPicPr/>
            <p:nvPr/>
          </p:nvPicPr>
          <p:blipFill>
            <a:blip r:embed="rId6"/>
            <a:stretch/>
          </p:blipFill>
          <p:spPr>
            <a:xfrm>
              <a:off x="5029200" y="379728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149800" y="3917880"/>
              <a:ext cx="54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571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784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组合 6" descr=""/>
          <p:cNvPicPr/>
          <p:nvPr/>
        </p:nvPicPr>
        <p:blipFill>
          <a:blip r:embed="rId1"/>
          <a:stretch/>
        </p:blipFill>
        <p:spPr>
          <a:xfrm>
            <a:off x="781200" y="2077920"/>
            <a:ext cx="583920" cy="1506600"/>
          </a:xfrm>
          <a:prstGeom prst="rect">
            <a:avLst/>
          </a:prstGeom>
          <a:ln w="0">
            <a:noFill/>
          </a:ln>
        </p:spPr>
      </p:pic>
      <p:pic>
        <p:nvPicPr>
          <p:cNvPr id="97" name="组合 24" descr=""/>
          <p:cNvPicPr/>
          <p:nvPr/>
        </p:nvPicPr>
        <p:blipFill>
          <a:blip r:embed="rId2"/>
          <a:stretch/>
        </p:blipFill>
        <p:spPr>
          <a:xfrm>
            <a:off x="3548160" y="2077920"/>
            <a:ext cx="590400" cy="1506600"/>
          </a:xfrm>
          <a:prstGeom prst="rect">
            <a:avLst/>
          </a:prstGeom>
          <a:ln w="0">
            <a:noFill/>
          </a:ln>
        </p:spPr>
      </p:pic>
      <p:pic>
        <p:nvPicPr>
          <p:cNvPr id="98" name="组合 11" descr=""/>
          <p:cNvPicPr/>
          <p:nvPr/>
        </p:nvPicPr>
        <p:blipFill>
          <a:blip r:embed="rId3"/>
          <a:stretch/>
        </p:blipFill>
        <p:spPr>
          <a:xfrm>
            <a:off x="6321600" y="2077920"/>
            <a:ext cx="591840" cy="1506600"/>
          </a:xfrm>
          <a:prstGeom prst="rect">
            <a:avLst/>
          </a:prstGeom>
          <a:ln w="0">
            <a:noFill/>
          </a:ln>
        </p:spPr>
      </p:pic>
      <p:sp>
        <p:nvSpPr>
          <p:cNvPr id="99" name="矩形 30"/>
          <p:cNvSpPr/>
          <p:nvPr/>
        </p:nvSpPr>
        <p:spPr>
          <a:xfrm>
            <a:off x="1387440" y="1927080"/>
            <a:ext cx="1214640" cy="3359160"/>
          </a:xfrm>
          <a:prstGeom prst="rect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1"/>
          <p:cNvSpPr/>
          <p:nvPr/>
        </p:nvSpPr>
        <p:spPr>
          <a:xfrm>
            <a:off x="4173480" y="1927080"/>
            <a:ext cx="1214640" cy="3359160"/>
          </a:xfrm>
          <a:prstGeom prst="rect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2"/>
          <p:cNvSpPr/>
          <p:nvPr/>
        </p:nvSpPr>
        <p:spPr>
          <a:xfrm>
            <a:off x="6959520" y="1927080"/>
            <a:ext cx="1214640" cy="3359160"/>
          </a:xfrm>
          <a:prstGeom prst="rect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34"/>
          <p:cNvSpPr/>
          <p:nvPr/>
        </p:nvSpPr>
        <p:spPr>
          <a:xfrm flipH="1">
            <a:off x="2641680" y="1928880"/>
            <a:ext cx="1440" cy="3357360"/>
          </a:xfrm>
          <a:prstGeom prst="line">
            <a:avLst/>
          </a:prstGeom>
          <a:ln w="25560">
            <a:solidFill>
              <a:srgbClr val="8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35"/>
          <p:cNvSpPr/>
          <p:nvPr/>
        </p:nvSpPr>
        <p:spPr>
          <a:xfrm flipH="1">
            <a:off x="5427720" y="1927080"/>
            <a:ext cx="1440" cy="3359160"/>
          </a:xfrm>
          <a:prstGeom prst="line">
            <a:avLst/>
          </a:prstGeom>
          <a:ln w="25560">
            <a:solidFill>
              <a:srgbClr val="8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36"/>
          <p:cNvSpPr/>
          <p:nvPr/>
        </p:nvSpPr>
        <p:spPr>
          <a:xfrm flipH="1">
            <a:off x="8213760" y="1927080"/>
            <a:ext cx="1440" cy="3359160"/>
          </a:xfrm>
          <a:prstGeom prst="line">
            <a:avLst/>
          </a:prstGeom>
          <a:ln w="25560">
            <a:solidFill>
              <a:srgbClr val="8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7358040" y="264168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4643280" y="267336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714680" y="2602080"/>
            <a:ext cx="5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5"/>
          <p:cNvGrpSpPr/>
          <p:nvPr/>
        </p:nvGrpSpPr>
        <p:grpSpPr>
          <a:xfrm>
            <a:off x="2057400" y="1571760"/>
            <a:ext cx="5514840" cy="2801880"/>
            <a:chOff x="2057400" y="1571760"/>
            <a:chExt cx="5514840" cy="2801880"/>
          </a:xfrm>
        </p:grpSpPr>
        <p:sp>
          <p:nvSpPr>
            <p:cNvPr id="114" name="矩形 10"/>
            <p:cNvSpPr/>
            <p:nvPr/>
          </p:nvSpPr>
          <p:spPr>
            <a:xfrm>
              <a:off x="3641760" y="1571760"/>
              <a:ext cx="2374920" cy="830160"/>
            </a:xfrm>
            <a:prstGeom prst="rect">
              <a:avLst/>
            </a:pr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左大括号 11"/>
            <p:cNvSpPr/>
            <p:nvPr/>
          </p:nvSpPr>
          <p:spPr>
            <a:xfrm rot="5400000">
              <a:off x="4675680" y="523080"/>
              <a:ext cx="306360" cy="425448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7920 h 4254480"/>
                <a:gd name="textAreaBottom" fmla="*/ 4246560 h 425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5"/>
                    <a:pt x="10800" y="130"/>
                  </a:cubicBezTo>
                  <a:lnTo>
                    <a:pt x="10800" y="10670"/>
                  </a:lnTo>
                  <a:cubicBezTo>
                    <a:pt x="10800" y="10735"/>
                    <a:pt x="5400" y="10800"/>
                    <a:pt x="0" y="10800"/>
                  </a:cubicBezTo>
                  <a:cubicBezTo>
                    <a:pt x="5400" y="10800"/>
                    <a:pt x="10800" y="10865"/>
                    <a:pt x="10800" y="10930"/>
                  </a:cubicBezTo>
                  <a:lnTo>
                    <a:pt x="10800" y="21470"/>
                  </a:lnTo>
                  <a:cubicBezTo>
                    <a:pt x="10800" y="21535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82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2"/>
            <p:cNvSpPr/>
            <p:nvPr/>
          </p:nvSpPr>
          <p:spPr>
            <a:xfrm>
              <a:off x="2057400" y="3054600"/>
              <a:ext cx="1288800" cy="1287360"/>
            </a:xfrm>
            <a:prstGeom prst="ellipse">
              <a:avLst/>
            </a:pr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3"/>
            <p:cNvSpPr/>
            <p:nvPr/>
          </p:nvSpPr>
          <p:spPr>
            <a:xfrm>
              <a:off x="4170240" y="3054600"/>
              <a:ext cx="1288800" cy="1287360"/>
            </a:xfrm>
            <a:prstGeom prst="ellipse">
              <a:avLst/>
            </a:pr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4"/>
            <p:cNvSpPr/>
            <p:nvPr/>
          </p:nvSpPr>
          <p:spPr>
            <a:xfrm>
              <a:off x="6283440" y="3084480"/>
              <a:ext cx="1288800" cy="1289160"/>
            </a:xfrm>
            <a:prstGeom prst="ellipse">
              <a:avLst/>
            </a:prstGeom>
            <a:solidFill>
              <a:srgbClr val="d1e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435492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6479640" y="351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395240" y="3500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2252160" y="3448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接连接符 43"/>
          <p:cNvSpPr/>
          <p:nvPr/>
        </p:nvSpPr>
        <p:spPr>
          <a:xfrm flipV="1">
            <a:off x="60336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45"/>
          <p:cNvSpPr/>
          <p:nvPr/>
        </p:nvSpPr>
        <p:spPr>
          <a:xfrm flipV="1">
            <a:off x="491184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3"/>
          <p:cNvSpPr/>
          <p:nvPr/>
        </p:nvSpPr>
        <p:spPr>
          <a:xfrm>
            <a:off x="657360" y="3162240"/>
            <a:ext cx="645480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58"/>
          <p:cNvSpPr/>
          <p:nvPr/>
        </p:nvSpPr>
        <p:spPr>
          <a:xfrm rot="13500000">
            <a:off x="508680" y="3688200"/>
            <a:ext cx="293760" cy="146160"/>
          </a:xfrm>
          <a:prstGeom prst="triangle">
            <a:avLst>
              <a:gd name="adj" fmla="val 50000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8"/>
          <p:cNvSpPr/>
          <p:nvPr/>
        </p:nvSpPr>
        <p:spPr>
          <a:xfrm>
            <a:off x="511200" y="3051000"/>
            <a:ext cx="220680" cy="220680"/>
          </a:xfrm>
          <a:prstGeom prst="ellipse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9"/>
          <p:cNvSpPr/>
          <p:nvPr/>
        </p:nvSpPr>
        <p:spPr>
          <a:xfrm>
            <a:off x="603360" y="3757680"/>
            <a:ext cx="1512720" cy="67140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6"/>
          <p:cNvSpPr/>
          <p:nvPr/>
        </p:nvSpPr>
        <p:spPr>
          <a:xfrm>
            <a:off x="2671920" y="3051000"/>
            <a:ext cx="218880" cy="220680"/>
          </a:xfrm>
          <a:prstGeom prst="ellipse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54"/>
          <p:cNvSpPr/>
          <p:nvPr/>
        </p:nvSpPr>
        <p:spPr>
          <a:xfrm flipV="1" rot="8100000">
            <a:off x="2678760" y="2429280"/>
            <a:ext cx="293760" cy="146160"/>
          </a:xfrm>
          <a:prstGeom prst="triangle">
            <a:avLst>
              <a:gd name="adj" fmla="val 50000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5"/>
          <p:cNvSpPr/>
          <p:nvPr/>
        </p:nvSpPr>
        <p:spPr>
          <a:xfrm flipV="1">
            <a:off x="2773440" y="1928160"/>
            <a:ext cx="1512720" cy="57924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52"/>
          <p:cNvSpPr/>
          <p:nvPr/>
        </p:nvSpPr>
        <p:spPr>
          <a:xfrm>
            <a:off x="6991200" y="3057480"/>
            <a:ext cx="220680" cy="220680"/>
          </a:xfrm>
          <a:prstGeom prst="ellipse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50"/>
          <p:cNvSpPr/>
          <p:nvPr/>
        </p:nvSpPr>
        <p:spPr>
          <a:xfrm flipV="1" rot="8100000">
            <a:off x="6959520" y="242784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1"/>
          <p:cNvSpPr/>
          <p:nvPr/>
        </p:nvSpPr>
        <p:spPr>
          <a:xfrm flipV="1">
            <a:off x="7054920" y="1928160"/>
            <a:ext cx="1511280" cy="57924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46"/>
          <p:cNvSpPr/>
          <p:nvPr/>
        </p:nvSpPr>
        <p:spPr>
          <a:xfrm rot="13500000">
            <a:off x="4835520" y="368748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48"/>
          <p:cNvSpPr/>
          <p:nvPr/>
        </p:nvSpPr>
        <p:spPr>
          <a:xfrm>
            <a:off x="4832280" y="3051000"/>
            <a:ext cx="219240" cy="220680"/>
          </a:xfrm>
          <a:prstGeom prst="ellipse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7"/>
          <p:cNvSpPr/>
          <p:nvPr/>
        </p:nvSpPr>
        <p:spPr>
          <a:xfrm>
            <a:off x="4930920" y="3757680"/>
            <a:ext cx="1511280" cy="67140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42"/>
          <p:cNvSpPr/>
          <p:nvPr/>
        </p:nvSpPr>
        <p:spPr>
          <a:xfrm flipV="1">
            <a:off x="278136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4"/>
          <p:cNvSpPr/>
          <p:nvPr/>
        </p:nvSpPr>
        <p:spPr>
          <a:xfrm flipV="1">
            <a:off x="708984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927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5213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73555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30690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9"/>
          <p:cNvSpPr/>
          <p:nvPr/>
        </p:nvSpPr>
        <p:spPr>
          <a:xfrm>
            <a:off x="857160" y="1714680"/>
            <a:ext cx="3214800" cy="785520"/>
          </a:xfrm>
          <a:prstGeom prst="rect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0"/>
          <p:cNvSpPr/>
          <p:nvPr/>
        </p:nvSpPr>
        <p:spPr>
          <a:xfrm>
            <a:off x="5357880" y="1714680"/>
            <a:ext cx="3214800" cy="78552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784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17830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783080" y="1987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下箭头 13"/>
          <p:cNvSpPr/>
          <p:nvPr/>
        </p:nvSpPr>
        <p:spPr>
          <a:xfrm flipV="1">
            <a:off x="857160" y="2580480"/>
            <a:ext cx="287280" cy="576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下箭头 14"/>
          <p:cNvSpPr/>
          <p:nvPr/>
        </p:nvSpPr>
        <p:spPr>
          <a:xfrm flipV="1">
            <a:off x="857160" y="3812400"/>
            <a:ext cx="287280" cy="576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箭头 15"/>
          <p:cNvSpPr/>
          <p:nvPr/>
        </p:nvSpPr>
        <p:spPr>
          <a:xfrm flipV="1">
            <a:off x="857160" y="4923720"/>
            <a:ext cx="287280" cy="576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箭头 16"/>
          <p:cNvSpPr/>
          <p:nvPr/>
        </p:nvSpPr>
        <p:spPr>
          <a:xfrm>
            <a:off x="5392800" y="2652840"/>
            <a:ext cx="288720" cy="576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箭头 17"/>
          <p:cNvSpPr/>
          <p:nvPr/>
        </p:nvSpPr>
        <p:spPr>
          <a:xfrm>
            <a:off x="5392800" y="3884760"/>
            <a:ext cx="288720" cy="576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18"/>
          <p:cNvSpPr/>
          <p:nvPr/>
        </p:nvSpPr>
        <p:spPr>
          <a:xfrm>
            <a:off x="5392800" y="4995720"/>
            <a:ext cx="288720" cy="57636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22"/>
          <p:cNvSpPr/>
          <p:nvPr/>
        </p:nvSpPr>
        <p:spPr>
          <a:xfrm flipH="1">
            <a:off x="4641840" y="1714680"/>
            <a:ext cx="1440" cy="400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635688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635508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635508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6355080" y="204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任意多边形 11"/>
          <p:cNvSpPr/>
          <p:nvPr/>
        </p:nvSpPr>
        <p:spPr>
          <a:xfrm>
            <a:off x="2560680" y="2610000"/>
            <a:ext cx="414360" cy="1339560"/>
          </a:xfrm>
          <a:custGeom>
            <a:avLst/>
            <a:gdLst/>
            <a:ahLst/>
            <a:rect l="l" t="t" r="r" b="b"/>
            <a:pathLst>
              <a:path w="414624" h="1340608">
                <a:moveTo>
                  <a:pt x="207312" y="0"/>
                </a:moveTo>
                <a:lnTo>
                  <a:pt x="211644" y="5793"/>
                </a:lnTo>
                <a:cubicBezTo>
                  <a:pt x="339795" y="195481"/>
                  <a:pt x="414624" y="424154"/>
                  <a:pt x="414624" y="670304"/>
                </a:cubicBezTo>
                <a:cubicBezTo>
                  <a:pt x="414624" y="916454"/>
                  <a:pt x="339795" y="1145127"/>
                  <a:pt x="211644" y="1334815"/>
                </a:cubicBezTo>
                <a:lnTo>
                  <a:pt x="207312" y="1340608"/>
                </a:lnTo>
                <a:lnTo>
                  <a:pt x="202980" y="1334815"/>
                </a:lnTo>
                <a:cubicBezTo>
                  <a:pt x="74829" y="1145127"/>
                  <a:pt x="0" y="916454"/>
                  <a:pt x="0" y="670304"/>
                </a:cubicBezTo>
                <a:cubicBezTo>
                  <a:pt x="0" y="424154"/>
                  <a:pt x="74829" y="195481"/>
                  <a:pt x="202980" y="5793"/>
                </a:cubicBezTo>
                <a:lnTo>
                  <a:pt x="207312" y="0"/>
                </a:lnTo>
                <a:close/>
              </a:path>
            </a:pathLst>
          </a:cu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2"/>
          <p:cNvSpPr/>
          <p:nvPr/>
        </p:nvSpPr>
        <p:spPr>
          <a:xfrm>
            <a:off x="4522680" y="2610000"/>
            <a:ext cx="414360" cy="1339560"/>
          </a:xfrm>
          <a:custGeom>
            <a:avLst/>
            <a:gdLst/>
            <a:ahLst/>
            <a:rect l="l" t="t" r="r" b="b"/>
            <a:pathLst>
              <a:path w="414624" h="1340609">
                <a:moveTo>
                  <a:pt x="207313" y="0"/>
                </a:moveTo>
                <a:lnTo>
                  <a:pt x="211644" y="5793"/>
                </a:lnTo>
                <a:cubicBezTo>
                  <a:pt x="339795" y="195481"/>
                  <a:pt x="414624" y="424154"/>
                  <a:pt x="414624" y="670304"/>
                </a:cubicBezTo>
                <a:cubicBezTo>
                  <a:pt x="414624" y="916454"/>
                  <a:pt x="339795" y="1145127"/>
                  <a:pt x="211644" y="1334815"/>
                </a:cubicBezTo>
                <a:lnTo>
                  <a:pt x="207312" y="1340609"/>
                </a:lnTo>
                <a:lnTo>
                  <a:pt x="202980" y="1334816"/>
                </a:lnTo>
                <a:cubicBezTo>
                  <a:pt x="74829" y="1145128"/>
                  <a:pt x="0" y="916455"/>
                  <a:pt x="0" y="670305"/>
                </a:cubicBezTo>
                <a:cubicBezTo>
                  <a:pt x="0" y="424155"/>
                  <a:pt x="74829" y="195482"/>
                  <a:pt x="202980" y="5794"/>
                </a:cubicBezTo>
                <a:lnTo>
                  <a:pt x="207313" y="0"/>
                </a:lnTo>
                <a:close/>
              </a:path>
            </a:pathLst>
          </a:cu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组合 33" descr=""/>
          <p:cNvPicPr/>
          <p:nvPr/>
        </p:nvPicPr>
        <p:blipFill>
          <a:blip r:embed="rId1"/>
          <a:stretch/>
        </p:blipFill>
        <p:spPr>
          <a:xfrm>
            <a:off x="590400" y="2084400"/>
            <a:ext cx="2268720" cy="2390760"/>
          </a:xfrm>
          <a:prstGeom prst="rect">
            <a:avLst/>
          </a:prstGeom>
          <a:ln w="0">
            <a:noFill/>
          </a:ln>
        </p:spPr>
      </p:pic>
      <p:sp>
        <p:nvSpPr>
          <p:cNvPr id="179" name="任意多边形 24"/>
          <p:cNvSpPr/>
          <p:nvPr/>
        </p:nvSpPr>
        <p:spPr>
          <a:xfrm>
            <a:off x="2766960" y="2090880"/>
            <a:ext cx="1962360" cy="2377800"/>
          </a:xfrm>
          <a:custGeom>
            <a:avLst/>
            <a:gdLst/>
            <a:ahLst/>
            <a:rect l="l" t="t" r="r" b="b"/>
            <a:pathLst>
              <a:path w="1962411" h="2377034">
                <a:moveTo>
                  <a:pt x="981205" y="0"/>
                </a:moveTo>
                <a:cubicBezTo>
                  <a:pt x="1350430" y="0"/>
                  <a:pt x="1680331" y="168365"/>
                  <a:pt x="1898323" y="432510"/>
                </a:cubicBezTo>
                <a:lnTo>
                  <a:pt x="1962411" y="518213"/>
                </a:lnTo>
                <a:lnTo>
                  <a:pt x="1958078" y="524007"/>
                </a:lnTo>
                <a:cubicBezTo>
                  <a:pt x="1829927" y="713695"/>
                  <a:pt x="1755098" y="942368"/>
                  <a:pt x="1755098" y="1188518"/>
                </a:cubicBezTo>
                <a:cubicBezTo>
                  <a:pt x="1755098" y="1434668"/>
                  <a:pt x="1829927" y="1663341"/>
                  <a:pt x="1958078" y="1853029"/>
                </a:cubicBezTo>
                <a:lnTo>
                  <a:pt x="1962410" y="1858822"/>
                </a:lnTo>
                <a:lnTo>
                  <a:pt x="1898323" y="1944524"/>
                </a:lnTo>
                <a:cubicBezTo>
                  <a:pt x="1680331" y="2208669"/>
                  <a:pt x="1350430" y="2377034"/>
                  <a:pt x="981205" y="2377034"/>
                </a:cubicBezTo>
                <a:cubicBezTo>
                  <a:pt x="611980" y="2377034"/>
                  <a:pt x="282079" y="2208669"/>
                  <a:pt x="64087" y="1944524"/>
                </a:cubicBezTo>
                <a:lnTo>
                  <a:pt x="0" y="1858821"/>
                </a:lnTo>
                <a:lnTo>
                  <a:pt x="4332" y="1853028"/>
                </a:lnTo>
                <a:cubicBezTo>
                  <a:pt x="132483" y="1663340"/>
                  <a:pt x="207312" y="1434667"/>
                  <a:pt x="207312" y="1188517"/>
                </a:cubicBezTo>
                <a:cubicBezTo>
                  <a:pt x="207312" y="942367"/>
                  <a:pt x="132483" y="713694"/>
                  <a:pt x="4332" y="524006"/>
                </a:cubicBezTo>
                <a:lnTo>
                  <a:pt x="0" y="518213"/>
                </a:lnTo>
                <a:lnTo>
                  <a:pt x="64087" y="432510"/>
                </a:lnTo>
                <a:cubicBezTo>
                  <a:pt x="282079" y="168365"/>
                  <a:pt x="611980" y="0"/>
                  <a:pt x="981205" y="0"/>
                </a:cubicBezTo>
                <a:close/>
              </a:path>
            </a:pathLst>
          </a:cu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5"/>
          <p:cNvSpPr/>
          <p:nvPr/>
        </p:nvSpPr>
        <p:spPr>
          <a:xfrm>
            <a:off x="2711520" y="2220840"/>
            <a:ext cx="2116080" cy="2117880"/>
          </a:xfrm>
          <a:prstGeom prst="ellipse">
            <a:avLst/>
          </a:prstGeom>
          <a:solidFill>
            <a:srgbClr val="82b3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9"/>
          <p:cNvSpPr/>
          <p:nvPr/>
        </p:nvSpPr>
        <p:spPr>
          <a:xfrm>
            <a:off x="4729320" y="2090880"/>
            <a:ext cx="2170080" cy="2377800"/>
          </a:xfrm>
          <a:custGeom>
            <a:avLst/>
            <a:gdLst/>
            <a:ahLst/>
            <a:rect l="l" t="t" r="r" b="b"/>
            <a:pathLst>
              <a:path w="2169722" h="2377034">
                <a:moveTo>
                  <a:pt x="981205" y="0"/>
                </a:moveTo>
                <a:cubicBezTo>
                  <a:pt x="1637605" y="0"/>
                  <a:pt x="2169722" y="532117"/>
                  <a:pt x="2169722" y="1188517"/>
                </a:cubicBezTo>
                <a:cubicBezTo>
                  <a:pt x="2169722" y="1844917"/>
                  <a:pt x="1637605" y="2377034"/>
                  <a:pt x="981205" y="2377034"/>
                </a:cubicBezTo>
                <a:cubicBezTo>
                  <a:pt x="611980" y="2377034"/>
                  <a:pt x="282079" y="2208669"/>
                  <a:pt x="64087" y="1944524"/>
                </a:cubicBezTo>
                <a:lnTo>
                  <a:pt x="0" y="1858821"/>
                </a:lnTo>
                <a:lnTo>
                  <a:pt x="4332" y="1853027"/>
                </a:lnTo>
                <a:cubicBezTo>
                  <a:pt x="132483" y="1663339"/>
                  <a:pt x="207312" y="1434666"/>
                  <a:pt x="207312" y="1188516"/>
                </a:cubicBezTo>
                <a:cubicBezTo>
                  <a:pt x="207312" y="942366"/>
                  <a:pt x="132483" y="713693"/>
                  <a:pt x="4332" y="524005"/>
                </a:cubicBezTo>
                <a:lnTo>
                  <a:pt x="1" y="518212"/>
                </a:lnTo>
                <a:lnTo>
                  <a:pt x="64087" y="432510"/>
                </a:lnTo>
                <a:cubicBezTo>
                  <a:pt x="282079" y="168365"/>
                  <a:pt x="611980" y="0"/>
                  <a:pt x="981205" y="0"/>
                </a:cubicBezTo>
                <a:close/>
              </a:path>
            </a:pathLst>
          </a:cu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0"/>
          <p:cNvSpPr/>
          <p:nvPr/>
        </p:nvSpPr>
        <p:spPr>
          <a:xfrm>
            <a:off x="4740120" y="2233440"/>
            <a:ext cx="2117880" cy="2117880"/>
          </a:xfrm>
          <a:prstGeom prst="ellipse">
            <a:avLst/>
          </a:prstGeom>
          <a:solidFill>
            <a:srgbClr val="d1e601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32"/>
          <p:cNvSpPr/>
          <p:nvPr/>
        </p:nvSpPr>
        <p:spPr>
          <a:xfrm>
            <a:off x="6680160" y="2071800"/>
            <a:ext cx="1962360" cy="2376360"/>
          </a:xfrm>
          <a:custGeom>
            <a:avLst/>
            <a:gdLst/>
            <a:ahLst/>
            <a:rect l="l" t="t" r="r" b="b"/>
            <a:pathLst>
              <a:path w="1962411" h="2377034">
                <a:moveTo>
                  <a:pt x="981205" y="0"/>
                </a:moveTo>
                <a:cubicBezTo>
                  <a:pt x="1350430" y="0"/>
                  <a:pt x="1680331" y="168365"/>
                  <a:pt x="1898323" y="432510"/>
                </a:cubicBezTo>
                <a:lnTo>
                  <a:pt x="1962411" y="518213"/>
                </a:lnTo>
                <a:lnTo>
                  <a:pt x="1958078" y="524007"/>
                </a:lnTo>
                <a:cubicBezTo>
                  <a:pt x="1829927" y="713695"/>
                  <a:pt x="1755098" y="942368"/>
                  <a:pt x="1755098" y="1188518"/>
                </a:cubicBezTo>
                <a:cubicBezTo>
                  <a:pt x="1755098" y="1434668"/>
                  <a:pt x="1829927" y="1663341"/>
                  <a:pt x="1958078" y="1853029"/>
                </a:cubicBezTo>
                <a:lnTo>
                  <a:pt x="1962410" y="1858822"/>
                </a:lnTo>
                <a:lnTo>
                  <a:pt x="1898323" y="1944524"/>
                </a:lnTo>
                <a:cubicBezTo>
                  <a:pt x="1680331" y="2208669"/>
                  <a:pt x="1350430" y="2377034"/>
                  <a:pt x="981205" y="2377034"/>
                </a:cubicBezTo>
                <a:cubicBezTo>
                  <a:pt x="611980" y="2377034"/>
                  <a:pt x="282079" y="2208669"/>
                  <a:pt x="64087" y="1944524"/>
                </a:cubicBezTo>
                <a:lnTo>
                  <a:pt x="0" y="1858821"/>
                </a:lnTo>
                <a:lnTo>
                  <a:pt x="4332" y="1853028"/>
                </a:lnTo>
                <a:cubicBezTo>
                  <a:pt x="132483" y="1663340"/>
                  <a:pt x="207312" y="1434667"/>
                  <a:pt x="207312" y="1188517"/>
                </a:cubicBezTo>
                <a:cubicBezTo>
                  <a:pt x="207312" y="942367"/>
                  <a:pt x="132483" y="713694"/>
                  <a:pt x="4332" y="524006"/>
                </a:cubicBezTo>
                <a:lnTo>
                  <a:pt x="0" y="518213"/>
                </a:lnTo>
                <a:lnTo>
                  <a:pt x="64087" y="432510"/>
                </a:lnTo>
                <a:cubicBezTo>
                  <a:pt x="282079" y="168365"/>
                  <a:pt x="611980" y="0"/>
                  <a:pt x="981205" y="0"/>
                </a:cubicBezTo>
                <a:close/>
              </a:path>
            </a:pathLst>
          </a:cu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34"/>
          <p:cNvSpPr/>
          <p:nvPr/>
        </p:nvSpPr>
        <p:spPr>
          <a:xfrm>
            <a:off x="6597720" y="2189160"/>
            <a:ext cx="2117520" cy="2116080"/>
          </a:xfrm>
          <a:prstGeom prst="ellipse">
            <a:avLst/>
          </a:prstGeom>
          <a:solidFill>
            <a:srgbClr val="82b300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211920" y="3111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7140960" y="302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5283720" y="317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1211760" y="3182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9"/>
          <p:cNvSpPr/>
          <p:nvPr/>
        </p:nvSpPr>
        <p:spPr>
          <a:xfrm>
            <a:off x="2857680" y="1071720"/>
            <a:ext cx="3430440" cy="2058840"/>
          </a:xfrm>
          <a:prstGeom prst="rect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3"/>
          <p:cNvSpPr/>
          <p:nvPr/>
        </p:nvSpPr>
        <p:spPr>
          <a:xfrm flipH="1">
            <a:off x="2852640" y="3451320"/>
            <a:ext cx="3432240" cy="2058840"/>
          </a:xfrm>
          <a:prstGeom prst="rect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069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3997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20"/>
          <p:cNvSpPr/>
          <p:nvPr/>
        </p:nvSpPr>
        <p:spPr>
          <a:xfrm>
            <a:off x="2627280" y="3125880"/>
            <a:ext cx="3884760" cy="0"/>
          </a:xfrm>
          <a:prstGeom prst="line">
            <a:avLst/>
          </a:prstGeom>
          <a:ln w="25560">
            <a:solidFill>
              <a:srgbClr val="d1e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1"/>
          <p:cNvSpPr/>
          <p:nvPr/>
        </p:nvSpPr>
        <p:spPr>
          <a:xfrm>
            <a:off x="6667560" y="2666880"/>
            <a:ext cx="904680" cy="905040"/>
          </a:xfrm>
          <a:prstGeom prst="ellipse">
            <a:avLst/>
          </a:prstGeom>
          <a:solidFill>
            <a:srgbClr val="d1e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2"/>
          <p:cNvSpPr/>
          <p:nvPr/>
        </p:nvSpPr>
        <p:spPr>
          <a:xfrm>
            <a:off x="6507000" y="2486160"/>
            <a:ext cx="1278000" cy="1277640"/>
          </a:xfrm>
          <a:prstGeom prst="ellipse">
            <a:avLst/>
          </a:prstGeom>
          <a:noFill/>
          <a:ln w="25560">
            <a:solidFill>
              <a:srgbClr val="d1e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4"/>
          <p:cNvSpPr/>
          <p:nvPr/>
        </p:nvSpPr>
        <p:spPr>
          <a:xfrm flipH="1">
            <a:off x="2630160" y="5505480"/>
            <a:ext cx="3884760" cy="0"/>
          </a:xfrm>
          <a:prstGeom prst="line">
            <a:avLst/>
          </a:prstGeom>
          <a:ln w="25560">
            <a:solidFill>
              <a:srgbClr val="8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5"/>
          <p:cNvSpPr/>
          <p:nvPr/>
        </p:nvSpPr>
        <p:spPr>
          <a:xfrm flipH="1">
            <a:off x="1571040" y="5045040"/>
            <a:ext cx="904680" cy="906480"/>
          </a:xfrm>
          <a:prstGeom prst="ellipse">
            <a:avLst/>
          </a:prstGeom>
          <a:solidFill>
            <a:srgbClr val="82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26"/>
          <p:cNvSpPr/>
          <p:nvPr/>
        </p:nvSpPr>
        <p:spPr>
          <a:xfrm flipH="1">
            <a:off x="1357200" y="4865760"/>
            <a:ext cx="1278000" cy="1278000"/>
          </a:xfrm>
          <a:prstGeom prst="ellipse">
            <a:avLst/>
          </a:prstGeom>
          <a:noFill/>
          <a:ln w="25560">
            <a:solidFill>
              <a:srgbClr val="8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3:56:47Z</dcterms:modified>
  <cp:revision>293</cp:revision>
  <dc:subject/>
  <dc:title>幻灯片 1</dc:title>
</cp:coreProperties>
</file>