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248520"/>
            <a:chOff x="0" y="0"/>
            <a:chExt cx="9144000" cy="624852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8915400" cy="381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16000" y="2679840"/>
            <a:ext cx="6400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微软雅黑"/>
              </a:rPr>
              <a:t>Alstom Hydro Co., Ltd Tianjin New Workshop Inauguration  Ceremo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16000" y="3797280"/>
            <a:ext cx="3720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Prepared by Insight PR Consult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March 29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6095880"/>
              <a:ext cx="883908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09480" y="265284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MER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蓝之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德置地广场专场促销活动策划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67080" y="5867280"/>
            <a:ext cx="221004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27944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活动物料清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0"/>
          <p:cNvSpPr/>
          <p:nvPr/>
        </p:nvSpPr>
        <p:spPr>
          <a:xfrm>
            <a:off x="685800" y="2322360"/>
            <a:ext cx="8001000" cy="39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主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告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画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版邀请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短信邀请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介绍资料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入会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27944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活动现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4143240"/>
            <a:ext cx="3048120" cy="210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3124080" cy="2013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495680" y="1676520"/>
            <a:ext cx="3276720" cy="21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6095880"/>
              <a:ext cx="8991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0" y="2438280"/>
            <a:ext cx="57150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 for your time!</a:t>
            </a:r>
            <a:br>
              <a:rPr sz="3200"/>
            </a:b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聆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51240" y="575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601992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明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exT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238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目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81480" y="2133720"/>
            <a:ext cx="3174840" cy="478800"/>
            <a:chOff x="5181480" y="2133720"/>
            <a:chExt cx="3174840" cy="478800"/>
          </a:xfrm>
        </p:grpSpPr>
        <p:sp>
          <p:nvSpPr>
            <p:cNvPr id="48" name="AutoShape 7"/>
            <p:cNvSpPr/>
            <p:nvPr/>
          </p:nvSpPr>
          <p:spPr>
            <a:xfrm>
              <a:off x="5230800" y="2133720"/>
              <a:ext cx="3125520" cy="478800"/>
            </a:xfrm>
            <a:prstGeom prst="roundRect">
              <a:avLst>
                <a:gd name="adj" fmla="val 10889"/>
              </a:avLst>
            </a:prstGeom>
            <a:solidFill>
              <a:srgbClr val="c0c0c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181480" y="2260800"/>
              <a:ext cx="396720" cy="247680"/>
            </a:xfrm>
            <a:prstGeom prst="rightArrow">
              <a:avLst>
                <a:gd name="adj1" fmla="val 50000"/>
                <a:gd name="adj2" fmla="val 667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638680" y="22096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背景及目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181480" y="2666880"/>
            <a:ext cx="3174840" cy="479160"/>
            <a:chOff x="5181480" y="2666880"/>
            <a:chExt cx="3174840" cy="479160"/>
          </a:xfrm>
        </p:grpSpPr>
        <p:sp>
          <p:nvSpPr>
            <p:cNvPr id="52" name="AutoShape 7"/>
            <p:cNvSpPr/>
            <p:nvPr/>
          </p:nvSpPr>
          <p:spPr>
            <a:xfrm>
              <a:off x="5230800" y="2666880"/>
              <a:ext cx="3125520" cy="479160"/>
            </a:xfrm>
            <a:prstGeom prst="roundRect">
              <a:avLst>
                <a:gd name="adj" fmla="val 10889"/>
              </a:avLst>
            </a:prstGeom>
            <a:solidFill>
              <a:srgbClr val="c0c0c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8"/>
            <p:cNvSpPr/>
            <p:nvPr/>
          </p:nvSpPr>
          <p:spPr>
            <a:xfrm>
              <a:off x="5181480" y="2793960"/>
              <a:ext cx="396720" cy="247680"/>
            </a:xfrm>
            <a:prstGeom prst="rightArrow">
              <a:avLst>
                <a:gd name="adj1" fmla="val 50000"/>
                <a:gd name="adj2" fmla="val 667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181480" y="3200400"/>
            <a:ext cx="3174840" cy="479160"/>
            <a:chOff x="5181480" y="3200400"/>
            <a:chExt cx="3174840" cy="479160"/>
          </a:xfrm>
        </p:grpSpPr>
        <p:sp>
          <p:nvSpPr>
            <p:cNvPr id="55" name="AutoShape 7"/>
            <p:cNvSpPr/>
            <p:nvPr/>
          </p:nvSpPr>
          <p:spPr>
            <a:xfrm>
              <a:off x="5230800" y="3200400"/>
              <a:ext cx="3125520" cy="479160"/>
            </a:xfrm>
            <a:prstGeom prst="roundRect">
              <a:avLst>
                <a:gd name="adj" fmla="val 10889"/>
              </a:avLst>
            </a:prstGeom>
            <a:solidFill>
              <a:srgbClr val="c0c0c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8"/>
            <p:cNvSpPr/>
            <p:nvPr/>
          </p:nvSpPr>
          <p:spPr>
            <a:xfrm>
              <a:off x="5181480" y="3327480"/>
              <a:ext cx="396720" cy="247680"/>
            </a:xfrm>
            <a:prstGeom prst="rightArrow">
              <a:avLst>
                <a:gd name="adj1" fmla="val 50000"/>
                <a:gd name="adj2" fmla="val 667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181480" y="3733920"/>
            <a:ext cx="3174840" cy="478800"/>
            <a:chOff x="5181480" y="3733920"/>
            <a:chExt cx="3174840" cy="478800"/>
          </a:xfrm>
        </p:grpSpPr>
        <p:sp>
          <p:nvSpPr>
            <p:cNvPr id="58" name="AutoShape 7"/>
            <p:cNvSpPr/>
            <p:nvPr/>
          </p:nvSpPr>
          <p:spPr>
            <a:xfrm>
              <a:off x="5230800" y="3733920"/>
              <a:ext cx="3125520" cy="478800"/>
            </a:xfrm>
            <a:prstGeom prst="roundRect">
              <a:avLst>
                <a:gd name="adj" fmla="val 10889"/>
              </a:avLst>
            </a:prstGeom>
            <a:solidFill>
              <a:srgbClr val="c0c0c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8"/>
            <p:cNvSpPr/>
            <p:nvPr/>
          </p:nvSpPr>
          <p:spPr>
            <a:xfrm>
              <a:off x="5181480" y="3861000"/>
              <a:ext cx="396720" cy="247680"/>
            </a:xfrm>
            <a:prstGeom prst="rightArrow">
              <a:avLst>
                <a:gd name="adj1" fmla="val 50000"/>
                <a:gd name="adj2" fmla="val 667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181480" y="4267080"/>
            <a:ext cx="3174840" cy="479160"/>
            <a:chOff x="5181480" y="4267080"/>
            <a:chExt cx="3174840" cy="479160"/>
          </a:xfrm>
        </p:grpSpPr>
        <p:sp>
          <p:nvSpPr>
            <p:cNvPr id="61" name="AutoShape 7"/>
            <p:cNvSpPr/>
            <p:nvPr/>
          </p:nvSpPr>
          <p:spPr>
            <a:xfrm>
              <a:off x="5230800" y="4267080"/>
              <a:ext cx="3125520" cy="479160"/>
            </a:xfrm>
            <a:prstGeom prst="roundRect">
              <a:avLst>
                <a:gd name="adj" fmla="val 10889"/>
              </a:avLst>
            </a:prstGeom>
            <a:solidFill>
              <a:srgbClr val="c0c0c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8"/>
            <p:cNvSpPr/>
            <p:nvPr/>
          </p:nvSpPr>
          <p:spPr>
            <a:xfrm>
              <a:off x="5181480" y="4394160"/>
              <a:ext cx="396720" cy="247680"/>
            </a:xfrm>
            <a:prstGeom prst="rightArrow">
              <a:avLst>
                <a:gd name="adj1" fmla="val 50000"/>
                <a:gd name="adj2" fmla="val 667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81480" y="4800600"/>
            <a:ext cx="3174840" cy="479160"/>
            <a:chOff x="5181480" y="4800600"/>
            <a:chExt cx="3174840" cy="479160"/>
          </a:xfrm>
        </p:grpSpPr>
        <p:sp>
          <p:nvSpPr>
            <p:cNvPr id="64" name="AutoShape 7"/>
            <p:cNvSpPr/>
            <p:nvPr/>
          </p:nvSpPr>
          <p:spPr>
            <a:xfrm>
              <a:off x="5230800" y="4800600"/>
              <a:ext cx="3125520" cy="479160"/>
            </a:xfrm>
            <a:prstGeom prst="roundRect">
              <a:avLst>
                <a:gd name="adj" fmla="val 10889"/>
              </a:avLst>
            </a:prstGeom>
            <a:solidFill>
              <a:srgbClr val="c0c0c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8"/>
            <p:cNvSpPr/>
            <p:nvPr/>
          </p:nvSpPr>
          <p:spPr>
            <a:xfrm>
              <a:off x="5181480" y="4927680"/>
              <a:ext cx="396720" cy="247680"/>
            </a:xfrm>
            <a:prstGeom prst="rightArrow">
              <a:avLst>
                <a:gd name="adj1" fmla="val 50000"/>
                <a:gd name="adj2" fmla="val 667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81480" y="5334120"/>
            <a:ext cx="3174840" cy="478800"/>
            <a:chOff x="5181480" y="5334120"/>
            <a:chExt cx="3174840" cy="478800"/>
          </a:xfrm>
        </p:grpSpPr>
        <p:sp>
          <p:nvSpPr>
            <p:cNvPr id="67" name="AutoShape 7"/>
            <p:cNvSpPr/>
            <p:nvPr/>
          </p:nvSpPr>
          <p:spPr>
            <a:xfrm>
              <a:off x="5230800" y="5334120"/>
              <a:ext cx="3125520" cy="478800"/>
            </a:xfrm>
            <a:prstGeom prst="roundRect">
              <a:avLst>
                <a:gd name="adj" fmla="val 10889"/>
              </a:avLst>
            </a:prstGeom>
            <a:solidFill>
              <a:srgbClr val="c0c0c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8"/>
            <p:cNvSpPr/>
            <p:nvPr/>
          </p:nvSpPr>
          <p:spPr>
            <a:xfrm>
              <a:off x="5181480" y="5461200"/>
              <a:ext cx="396720" cy="247680"/>
            </a:xfrm>
            <a:prstGeom prst="rightArrow">
              <a:avLst>
                <a:gd name="adj1" fmla="val 50000"/>
                <a:gd name="adj2" fmla="val 667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638680" y="274320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策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32767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促销主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5410080"/>
            <a:ext cx="239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时间安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22096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74320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332100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380988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81560" y="431172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487692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541008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809880"/>
            <a:ext cx="21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媒体配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876920"/>
            <a:ext cx="21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流程安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311720"/>
            <a:ext cx="21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27944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活动背景及目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685800" y="3886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通过专场促销活动快速套现，回笼资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0"/>
          <p:cNvSpPr/>
          <p:nvPr/>
        </p:nvSpPr>
        <p:spPr>
          <a:xfrm>
            <a:off x="685800" y="4648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配合购物的淡季，刺激消费者购买行为，促进销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0"/>
          <p:cNvSpPr/>
          <p:nvPr/>
        </p:nvSpPr>
        <p:spPr>
          <a:xfrm>
            <a:off x="685800" y="5410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争取更多的目标消费群体和潜在消费者，扩大品牌认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685800" y="2133720"/>
            <a:ext cx="84582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◇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LA M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高德置地广场店已经开幕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此机会与品牌的会员以及广百的高端会员进行联谊互动，一来是向外界告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 M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德置地广场店的开幕，宣传推广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 MER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奢华”的品牌形象，二来是吸纳广百的优质会员成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 M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，促进店面销售业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27944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推广策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685800" y="3886200"/>
            <a:ext cx="8001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促销策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针对性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以往固定的消费群（会员）基础上，全力针对促销产品目标对象，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潜在顾客，有效出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762120" y="2133720"/>
            <a:ext cx="815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目标消费群定位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 M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，广百会员，并兼顾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B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近的女性中高层白领消费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 M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有好感，但因自身对价格的承受能力有限，较少光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 M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消费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0"/>
          <p:cNvSpPr/>
          <p:nvPr/>
        </p:nvSpPr>
        <p:spPr>
          <a:xfrm>
            <a:off x="685800" y="5334120"/>
            <a:ext cx="8001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沟通策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 M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“极致奢华”的概念下，通过真情回馈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看高买中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沟通方式，与消费者进行沟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27944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促销主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914400" y="2286000"/>
            <a:ext cx="80010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议主题：“奢华盛宴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线产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费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送精美礼品一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凭票免费停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914400" y="4295880"/>
            <a:ext cx="8001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消费洞察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突出描述目标消费群对顶级品牌促销活动的消费心态，平时关注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牌，但因消费能力有限不能够经常购买，当遇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A M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低折扣促销活动时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然变得疯狂，同时也因为自己的精明买到顶级品牌，获得奢华体验而暗暗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喜；打折促销，更满足其“淘宝”心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9580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礼品建议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A M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体验装，包装设计要求精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127944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媒体配合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2209680"/>
          <a:ext cx="8072280" cy="3705120"/>
        </p:xfrm>
        <a:graphic>
          <a:graphicData uri="http://schemas.openxmlformats.org/drawingml/2006/table">
            <a:tbl>
              <a:tblPr/>
              <a:tblGrid>
                <a:gridCol w="2428920"/>
                <a:gridCol w="2786040"/>
                <a:gridCol w="2857320"/>
              </a:tblGrid>
              <a:tr h="46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前期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0-2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期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6-4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后期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1-4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户外广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户外广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户外广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广州日报广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宣传资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网络媒体信息报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周末画报广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周末画报信息报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网络媒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精品生活信息报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手机短信（邀请信息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邮件（邀请函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它报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27944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活动内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0"/>
          <p:cNvSpPr/>
          <p:nvPr/>
        </p:nvSpPr>
        <p:spPr>
          <a:xfrm>
            <a:off x="685800" y="2057400"/>
            <a:ext cx="80010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活动地点：高德置地广场中庭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 LA ME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卖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活动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庭活动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2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面活动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活动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0"/>
          <p:cNvSpPr/>
          <p:nvPr/>
        </p:nvSpPr>
        <p:spPr>
          <a:xfrm>
            <a:off x="1143000" y="4800600"/>
            <a:ext cx="403848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一、品牌推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二、模特走秀展示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三、护肤专家讲解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四、现场观众互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中庭活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店面活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480060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模特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美容顾问专业推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观众互动体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27944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活动流程安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2349360"/>
          <a:ext cx="7993080" cy="3876840"/>
        </p:xfrm>
        <a:graphic>
          <a:graphicData uri="http://schemas.openxmlformats.org/drawingml/2006/table">
            <a:tbl>
              <a:tblPr/>
              <a:tblGrid>
                <a:gridCol w="1682640"/>
                <a:gridCol w="2024280"/>
                <a:gridCol w="428616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物料配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:30-14: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持人暖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品牌知识宣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现场布置（品牌形象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活动礼品、产品宣传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现场音响设备，投影，无线咪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:50-15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模特准备就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:00-15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产品走秀开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灯光、音效配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:30-16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专家讲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演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模特配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:00-16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互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结束，邀请观众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LA M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店铺体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27944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活动时间安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6680" y="2133720"/>
          <a:ext cx="6881760" cy="4010040"/>
        </p:xfrm>
        <a:graphic>
          <a:graphicData uri="http://schemas.openxmlformats.org/drawingml/2006/table">
            <a:tbl>
              <a:tblPr/>
              <a:tblGrid>
                <a:gridCol w="2309760"/>
                <a:gridCol w="1523880"/>
                <a:gridCol w="1805040"/>
                <a:gridCol w="124308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作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作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责部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备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立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广告创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画面设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布置设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物料设计及制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邀请函设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礼品准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支持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模特安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场地搭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-2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执行筹备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举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3:20:36Z</dcterms:created>
  <dc:creator>william</dc:creator>
  <dc:description/>
  <dc:language>en-US</dc:language>
  <cp:lastModifiedBy>Alex Tong</cp:lastModifiedBy>
  <dcterms:modified xsi:type="dcterms:W3CDTF">2015-07-01T06:39:18Z</dcterms:modified>
  <cp:revision>16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