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5790-4FAB-4239-BEF4-F737709461F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303B-38B8-47AA-B2AB-8A5C97F7293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855-DBC1-4809-9C2E-C102B9AF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977-E60A-4A77-B006-3BD28C50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7AC-A9F8-41E9-AC6E-7849BD85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049-663A-43CB-9A81-D30ABF2B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E574-EF8F-4091-9746-DEE457B1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6BF2-715F-4F1F-B891-C5BFE4FE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DA11-BB3B-43A9-8370-DC2D2AE7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B56C-3240-4E8F-84C9-2AD694AE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43F3-CA1E-4551-B31F-BEDFE905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86E6-1A59-4C87-88DB-04B6ED80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BA17-581F-4D85-AE21-55EB008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4DE-2D0E-4116-B24B-CF2A0CE0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7228-C714-4ED1-A7F9-02B64F87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827B-154B-476D-941F-0FD9FA20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89C6-2070-4766-8474-D6B679D1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6E9B-FDE2-4E4B-B880-247427FE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84FA-10DB-4EE0-B2F3-5B52B423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20A5-EE12-4CA4-B7AB-ED9C3B13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0C1B-3BC7-450F-AFA4-69D33212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A64D-4650-4986-B570-17A3F525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1240-8A91-41A8-9A03-D955561C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8E75-93A9-4138-8491-7395687E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195-DAEB-42EB-95DE-C8E48866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11D5-CA62-4576-B660-4C3C2A4B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253B-3482-44CC-9764-4DE4D4C6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B0FE-57FE-4930-87F8-F0F09CF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C197-5CB6-4B72-A706-ECBAA84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0DB5-35FB-4231-91C9-0A15D7AF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2931-2DF7-475D-ACCE-E20F0A5F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BC58-27A0-4E9F-BA11-7B0812A4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81B-AB15-4B5F-911A-C5E9F57D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B81-7D13-4501-A501-87A2C9A2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9D6-C22F-4D0B-AA1A-3FD1B376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62B-593E-4FF6-B526-3F5F3C7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7CA-AB93-4189-959B-304EB60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B47-FE0F-4757-A625-BE5B52FC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6C97-7B84-4903-838F-2DE34A694303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T 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6C72-EDFA-42B7-AFB3-1343BCE0104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Desktop\新建文件夹\bg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7DEF-85EC-4420-A4DE-90BAED438428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T 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6F28-3DA4-44A7-98A6-686F1A86BC8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7"/>
          <p:cNvSpPr/>
          <p:nvPr/>
        </p:nvSpPr>
        <p:spPr>
          <a:xfrm>
            <a:off x="1768320" y="-1440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DEA-0538-4CDE-88AD-64E56F6893F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T 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7594-7628-4986-816B-4092DED54BB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文件夹创意背景深灰商务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3840" y="3860640"/>
            <a:ext cx="83563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76280"/>
            <a:ext cx="82612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0" y="7920"/>
            <a:ext cx="963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om/jiaoan/        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论坛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2C2C-96DE-4ACE-90C5-998253E7F1E4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第一PPT模板网：www.1ppt.com</dc:creator>
  <dc:description/>
  <cp:keywords>第一PPT模板网：www.1ppt.com</cp:keywords>
  <dc:language>en-US</dc:language>
  <cp:lastModifiedBy>Windows 用户</cp:lastModifiedBy>
  <dcterms:modified xsi:type="dcterms:W3CDTF">2015-09-24T09:30:22Z</dcterms:modified>
  <cp:revision>47</cp:revision>
  <dc:subject/>
  <dc:title>第一PPT模板网：www.1ppt.com</dc:title>
</cp:coreProperties>
</file>