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3243-5C9A-4767-A481-E7E57A6B80B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8D33-363B-4400-BD34-45D101BDF68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B14-869A-4389-9392-DE277AA4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D5F-67DC-46DE-AD2C-B650E91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318-1BA6-4898-9051-33801C02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E15-E162-44F3-9570-F0AE3D9B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FF84-7A2B-46F6-85F9-BEC7276E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02A8-14F9-48AC-A686-6162B353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4B41-CD02-4497-9455-67058B4C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8B94-88F1-4A16-964E-96AACDCD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26F4-53C4-4E22-96AB-62387850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552C-3F71-4AFE-9189-E12CB787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E727-ACD9-4804-B122-1B4B156B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069-EF21-4A87-9B0D-067B21F6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1D63-C039-44E2-ACAF-66C6F8FB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0301-919A-47D8-AFE3-79D60A7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E0CF-678F-4B5F-8634-4E7D8D51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EB7D-5F0C-4294-B2A0-16D878C9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64D8-A2C2-479B-BFC7-810B6B4B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C464-988C-4BB8-A1B8-0CC45164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A5EC-81EB-49AB-9232-9F74D7D1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FFD5-5CF2-4D05-A043-D896956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8FA1-E677-49CD-AFF5-7CF094EB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B6CC-85AF-43A9-B165-02023828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DC0-8CA8-4652-84AE-1FECF2F4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02DC-1AB4-49BE-9100-7A01A32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E71D-42E7-44A9-AFA5-F1273F47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66F9-8B63-4862-9F40-C0435C64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E39B-5034-461C-8CDC-1C3A0809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94120-E2E3-4582-9724-0F659D8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B8B8-0F48-47AC-8FDF-2DBA6B5D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A091-0CD9-4131-A7CD-656D7D98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13D-DA99-4DBD-A799-FE6B431B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F97-9387-473C-BBDA-5CD7683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AD5-A0A3-4323-894B-D29F9A3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CDB-016E-44AC-AD0F-709F341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FC7-A0A1-489C-81E1-28479991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26B-74E9-4EB7-9F21-8A251278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EC2-DEEA-4C88-ABF0-9966E32135C9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T 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9214-5D29-470C-A0EB-B18203BA31C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\bg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7497-43E0-4FEA-902B-C304EF5FCF86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T 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F670-6618-428E-88D1-B3AC363CD74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7"/>
          <p:cNvSpPr/>
          <p:nvPr/>
        </p:nvSpPr>
        <p:spPr>
          <a:xfrm>
            <a:off x="1768320" y="-1440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1E28-2F34-4D9D-BF7B-CE5CF9D19A07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T 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72A0-6460-4D25-8669-27DCFE93B06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文件夹创意背景深灰商务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3840" y="3860640"/>
            <a:ext cx="83563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76280"/>
            <a:ext cx="82612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0" y="7920"/>
            <a:ext cx="963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jiaoan/  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论坛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BD11-3B4D-4042-951F-DA0F9A8107F6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第一PPT模板网：www.1ppt.com</dc:creator>
  <dc:description/>
  <cp:keywords>第一PPT模板网：www.1ppt.com</cp:keywords>
  <dc:language>en-US</dc:language>
  <cp:lastModifiedBy>Windows 用户</cp:lastModifiedBy>
  <dcterms:modified xsi:type="dcterms:W3CDTF">2015-09-24T09:30:22Z</dcterms:modified>
  <cp:revision>47</cp:revision>
  <dc:subject/>
  <dc:title>第一PPT模板网：www.1ppt.com</dc:title>
</cp:coreProperties>
</file>