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click.wav" ContentType="audio/x-wav"/>
  <Override PartName="/ppt/media/image21.jpeg" ContentType="image/jpeg"/>
  <Override PartName="/ppt/media/chimes.wav" ContentType="audio/x-wav"/>
  <Override PartName="/ppt/media/image19.jpeg" ContentType="image/jpeg"/>
  <Override PartName="/ppt/media/image25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13.jpeg" ContentType="image/jpeg"/>
  <Override PartName="/ppt/media/image28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15.gif" ContentType="image/gif"/>
  <Override PartName="/ppt/media/image5.jpeg" ContentType="image/jpeg"/>
  <Override PartName="/ppt/media/image33.jpeg" ContentType="image/jpeg"/>
  <Override PartName="/ppt/media/image26.gif" ContentType="image/gif"/>
  <Override PartName="/ppt/media/image20.jpeg" ContentType="image/jpeg"/>
  <Override PartName="/ppt/media/image4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1.jpeg" ContentType="image/jpeg"/>
  <Override PartName="/ppt/media/image14.gif" ContentType="image/gif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6B93-346F-454A-82EC-F8332F75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CBA-9181-49E1-9DC8-E9BFB19D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765-1F02-4744-88F4-EEB8166B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90D1-BFD4-4B19-BCC2-2AB893B0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327-CEB7-4B34-A153-D5169857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78D8-360E-4049-AFEA-CAD8EBD6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CF0-830F-4D35-A575-AA313B5F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10C8-03FD-4C74-BFDD-EF0891C4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6E3C-1386-4573-A8DD-0C05C188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384-05B6-42F5-8AB5-B3FAB997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56B-5A10-4DF0-95FB-46B46A9E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992-C92F-414B-8FC7-ED0E1298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92EE-522D-4CAA-A938-62C44FF4A4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76720" y="1219320"/>
            <a:ext cx="4724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宋体"/>
              </a:rPr>
              <a:t>诚信在我心</a:t>
            </a:r>
            <a:endParaRPr b="0" lang="en-US" sz="40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21589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159280" cy="6477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971800" y="762120"/>
            <a:ext cx="5638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诚和信是相辅相成的，有诚方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信有则会更诚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是多种多样的，对国家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叫“忠”，对父母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叫“孝”，对朋友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叫“义”，对真理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叫“德”。我想说：“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世界方有美丽；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世界方有真情；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世界方有明天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1880" y="1522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2158920" cy="6502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14600" y="533520"/>
            <a:ext cx="5943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简而言之就是真诚有信用。先看“诚”。人们常说“精诚所至、金石为开”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是沟通人与人心灵的桥梁，是克服冷漠冰川的良剂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是增进情感的润滑剂，在生活中，人们难免与朋友发生这样或那样的误会，那么消除误会的最好的方法即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待人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是开启心灵之门的钥匙，只要我们以心换心，就会消除误会，增进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458200" y="304920"/>
            <a:ext cx="685800" cy="53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7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7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7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2159280" cy="6477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14600" y="380880"/>
            <a:ext cx="60199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买东西忘记带钱时，老板仍将货物塞在你手中送你出门的轻轻一笑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在一连串失败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朋友们主动伸出的那一双双温热的手；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为徘徊在路口的陌生人指路后，看到他脸上粲然的一笑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可以是从前百年老店里赊帐的帐单，也可以是今天人们手中的信用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 rot="6344400">
            <a:off x="5395680" y="284940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为什么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159280" cy="6515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14600" y="914400"/>
            <a:ext cx="563868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诚信是支撑社会的道德的支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诚信是法律规范的道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诚信是治国之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（四）诚信是行业立身之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1560" y="0"/>
            <a:ext cx="655488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000000"/>
                </a:solidFill>
                <a:latin typeface="Times New Roman"/>
                <a:ea typeface="隶书"/>
              </a:rPr>
              <a:t>海尔</a:t>
            </a:r>
            <a:r>
              <a:rPr b="0" lang="zh-CN" sz="5600" spc="-1" strike="noStrike">
                <a:solidFill>
                  <a:srgbClr val="ff0066"/>
                </a:solidFill>
                <a:latin typeface="Times New Roman"/>
                <a:ea typeface="隶书"/>
              </a:rPr>
              <a:t>“砸冰箱”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413000" y="1052640"/>
            <a:ext cx="7731000" cy="3619080"/>
            <a:chOff x="1413000" y="1052640"/>
            <a:chExt cx="7731000" cy="3619080"/>
          </a:xfrm>
        </p:grpSpPr>
        <p:sp>
          <p:nvSpPr>
            <p:cNvPr id="89" name=""/>
            <p:cNvSpPr/>
            <p:nvPr/>
          </p:nvSpPr>
          <p:spPr>
            <a:xfrm>
              <a:off x="1413000" y="1052640"/>
              <a:ext cx="55544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13000" y="3657960"/>
              <a:ext cx="7731000" cy="101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0" y="907920"/>
            <a:ext cx="914400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的一天，张瑞敏的一位朋友在厂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买一台冰箱，结果挑了很多台都有毛病，最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勉强拉走一台。朋友走后，张瑞敏派人把库房里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台冰箱全部检查了一遍，发现共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存在各种各样的缺陷。张瑞敏把职工们叫到车间，问大家怎么办，大多数人提出有缺陷但不影响使用，便宜点处理给职工算了。当时一台冰箱的价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元，相当于一名职工两年的收入。张瑞敏说：“我要是允许把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冰箱卖了，就等于允许你们明天再生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这样的冰箱。”他宣布，这些冰箱要全部砸掉，谁干的谁来砸，并亲自抡起大锤子砸下了第一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多职工流着眼泪砸了冰箱。然后，张瑞敏告诉大家——有缺陷的产品就是废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277040" y="0"/>
            <a:ext cx="1866960" cy="2276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0880" y="5445000"/>
            <a:ext cx="8763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4680" y="5430960"/>
            <a:ext cx="1904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66760" y="-162000"/>
            <a:ext cx="707724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lnSpc>
                <a:spcPct val="100000"/>
              </a:lnSpc>
              <a:spcBef>
                <a:spcPts val="42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zh-CN" sz="6800" spc="-1" strike="noStrike">
                <a:solidFill>
                  <a:srgbClr val="ff0066"/>
                </a:solidFill>
                <a:latin typeface="Times New Roman"/>
                <a:ea typeface="隶书"/>
              </a:rPr>
              <a:t>“</a:t>
            </a:r>
            <a:r>
              <a:rPr b="0" lang="zh-CN" sz="6800" spc="-1" strike="noStrike">
                <a:solidFill>
                  <a:srgbClr val="ff3300"/>
                </a:solidFill>
                <a:latin typeface="Times New Roman"/>
                <a:ea typeface="隶书"/>
              </a:rPr>
              <a:t>冰箱</a:t>
            </a:r>
            <a:r>
              <a:rPr b="0" lang="zh-CN" sz="6800" spc="-1" strike="noStrike">
                <a:solidFill>
                  <a:srgbClr val="ff0066"/>
                </a:solidFill>
                <a:latin typeface="Times New Roman"/>
                <a:ea typeface="隶书"/>
              </a:rPr>
              <a:t>”砸</a:t>
            </a:r>
            <a:r>
              <a:rPr b="0" lang="zh-CN" sz="6800" spc="-1" strike="noStrike">
                <a:solidFill>
                  <a:srgbClr val="f71732"/>
                </a:solidFill>
                <a:latin typeface="Times New Roman"/>
                <a:ea typeface="隶书"/>
              </a:rPr>
              <a:t>出</a:t>
            </a:r>
            <a:r>
              <a:rPr b="0" lang="zh-CN" sz="6800" spc="-1" strike="noStrike">
                <a:solidFill>
                  <a:srgbClr val="ff0066"/>
                </a:solidFill>
                <a:latin typeface="Times New Roman"/>
                <a:ea typeface="隶书"/>
              </a:rPr>
              <a:t>了什么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94280" y="912960"/>
            <a:ext cx="2781360" cy="31464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380880" y="836640"/>
            <a:ext cx="7543800" cy="3926160"/>
            <a:chOff x="380880" y="836640"/>
            <a:chExt cx="7543800" cy="3926160"/>
          </a:xfrm>
        </p:grpSpPr>
        <p:sp>
          <p:nvSpPr>
            <p:cNvPr id="98" name=""/>
            <p:cNvSpPr/>
            <p:nvPr/>
          </p:nvSpPr>
          <p:spPr>
            <a:xfrm>
              <a:off x="380880" y="836640"/>
              <a:ext cx="5257800" cy="185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2900" spc="-1" strike="noStrike">
                  <a:solidFill>
                    <a:srgbClr val="000000"/>
                  </a:solidFill>
                  <a:latin typeface="Times New Roman"/>
                </a:rPr>
                <a:t>如今海尔已建立起一个具有国际竞争力的全球设计网络、制造网络、营销与服务网络。拥有设计中心</a:t>
              </a:r>
              <a:r>
                <a:rPr b="1" lang="zh-CN" sz="2900" spc="-1" strike="noStrike">
                  <a:solidFill>
                    <a:srgbClr val="fc1f44"/>
                  </a:solidFill>
                  <a:latin typeface="Times New Roman"/>
                </a:rPr>
                <a:t>18</a:t>
              </a:r>
              <a:r>
                <a:rPr b="1" lang="zh-CN" sz="2900" spc="-1" strike="noStrike">
                  <a:solidFill>
                    <a:srgbClr val="000000"/>
                  </a:solidFill>
                  <a:latin typeface="Times New Roman"/>
                </a:rPr>
                <a:t>个，工业园区</a:t>
              </a:r>
              <a:r>
                <a:rPr b="1" lang="zh-CN" sz="2900" spc="-1" strike="noStrike">
                  <a:solidFill>
                    <a:srgbClr val="fc1f44"/>
                  </a:solidFill>
                  <a:latin typeface="Times New Roman"/>
                </a:rPr>
                <a:t>10</a:t>
              </a:r>
              <a:r>
                <a:rPr b="1" lang="zh-CN" sz="2900" spc="-1" strike="noStrike">
                  <a:solidFill>
                    <a:srgbClr val="000000"/>
                  </a:solidFill>
                  <a:latin typeface="Times New Roman"/>
                </a:rPr>
                <a:t>个，海外工厂及制造基地</a:t>
              </a:r>
              <a:r>
                <a:rPr b="1" lang="zh-CN" sz="2900" spc="-1" strike="noStrike">
                  <a:solidFill>
                    <a:srgbClr val="fc1f44"/>
                  </a:solidFill>
                  <a:latin typeface="Times New Roman"/>
                </a:rPr>
                <a:t>22</a:t>
              </a:r>
              <a:r>
                <a:rPr b="1" lang="zh-CN" sz="2900" spc="-1" strike="noStrike">
                  <a:solidFill>
                    <a:srgbClr val="000000"/>
                  </a:solidFill>
                  <a:latin typeface="Times New Roman"/>
                </a:rPr>
                <a:t>个，产品远销</a:t>
              </a:r>
              <a:r>
                <a:rPr b="1" lang="zh-CN" sz="2900" spc="-1" strike="noStrike">
                  <a:solidFill>
                    <a:srgbClr val="fc1239"/>
                  </a:solidFill>
                  <a:latin typeface="Times New Roman"/>
                </a:rPr>
                <a:t>160</a:t>
              </a:r>
              <a:r>
                <a:rPr b="1" lang="zh-CN" sz="2900" spc="-1" strike="noStrike">
                  <a:solidFill>
                    <a:srgbClr val="000000"/>
                  </a:solidFill>
                  <a:latin typeface="Times New Roman"/>
                </a:rPr>
                <a:t>多个国家和地区，甚至把工厂办到了美国；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732120"/>
              <a:ext cx="7543800" cy="10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spAutoFit/>
            </a:bodyPr>
            <a:p>
              <a:pPr>
                <a:lnSpc>
                  <a:spcPct val="100000"/>
                </a:lnSpc>
                <a:spcBef>
                  <a:spcPts val="1939"/>
                </a:spcBef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580760" y="4114800"/>
            <a:ext cx="5416920" cy="29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营销网点达</a:t>
            </a:r>
            <a:r>
              <a:rPr b="1" lang="zh-CN" sz="3100" spc="-1" strike="noStrike">
                <a:solidFill>
                  <a:srgbClr val="fc1f44"/>
                </a:solidFill>
                <a:latin typeface="Times New Roman"/>
              </a:rPr>
              <a:t>58800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个，海尔集团从一个亏空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147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万元的集体小厂，发展成为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年全球营业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100" spc="-1" strike="noStrike">
                <a:solidFill>
                  <a:srgbClr val="fc1f44"/>
                </a:solidFill>
                <a:latin typeface="Times New Roman"/>
              </a:rPr>
              <a:t>806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亿元的中国第一品牌，海尔品牌两字价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达</a:t>
            </a:r>
            <a:r>
              <a:rPr b="1" lang="zh-CN" sz="3100" spc="-1" strike="noStrike">
                <a:solidFill>
                  <a:srgbClr val="f71732"/>
                </a:solidFill>
                <a:latin typeface="Times New Roman"/>
              </a:rPr>
              <a:t>530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亿元，成为中国最值钱的品牌，并入选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世界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个知名品牌，获得越来越高的美誉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00"/>
                            </p:stCondLst>
                            <p:childTnLst>
                              <p:par>
                                <p:cTn id="26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533520"/>
            <a:ext cx="7925040" cy="13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80e08"/>
                </a:solidFill>
                <a:latin typeface="Times New Roman"/>
              </a:rPr>
              <a:t>本店没有温州货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革开放之初，我国东南沿海的一些小厂为了赚取暴利，成批地生产假冒伪劣商品，这种现象最严重的就是温州地区，在那里一切假名牌应有尽有。时间长了，全国都知道温州货不可靠，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许多商店为了表明自己的信誉，都在店门口贴上“本店没有温州货”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使温州人一下子觉醒了，这才懂得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要把生意做大，必须靠诚实经营，用诚信树立商业信誉和企业形象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现在的温州已经不生产假货了，整个社会又开始重新接受温州生产的货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800600"/>
            <a:ext cx="7696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做假可能在没被人识破时会得到一定的利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可是不会长久，最终会自断前程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523880" y="1219320"/>
            <a:ext cx="58676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身边的诚信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4824000">
            <a:off x="685800" y="2590560"/>
            <a:ext cx="28954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是什么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413480" y="4952880"/>
            <a:ext cx="1730520" cy="1905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19840" y="228600"/>
            <a:ext cx="127800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00"/>
                </a:solidFill>
                <a:latin typeface="Times New Roman"/>
                <a:ea typeface="隶书"/>
              </a:rPr>
              <a:t>总结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诚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1773360"/>
            <a:ext cx="152280" cy="3047760"/>
          </a:xfrm>
          <a:custGeom>
            <a:avLst/>
            <a:gdLst>
              <a:gd name="textAreaLeft" fmla="*/ 97200 w 152280"/>
              <a:gd name="textAreaRight" fmla="*/ 152640 w 15228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48000" y="907920"/>
            <a:ext cx="5410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、赢得信任，赢得友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、创造财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403280" y="1197000"/>
            <a:ext cx="7543800" cy="1221840"/>
            <a:chOff x="1403280" y="1197000"/>
            <a:chExt cx="7543800" cy="1221840"/>
          </a:xfrm>
        </p:grpSpPr>
        <p:sp>
          <p:nvSpPr>
            <p:cNvPr id="112" name=""/>
            <p:cNvSpPr/>
            <p:nvPr/>
          </p:nvSpPr>
          <p:spPr>
            <a:xfrm>
              <a:off x="1403280" y="14256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对个人的价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84360" y="1197000"/>
              <a:ext cx="76320" cy="99072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84360" y="195912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、是个人融入社会，走向未来的通行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476360" y="2492280"/>
            <a:ext cx="7391520" cy="1526400"/>
            <a:chOff x="1476360" y="2492280"/>
            <a:chExt cx="7391520" cy="1526400"/>
          </a:xfrm>
        </p:grpSpPr>
        <p:sp>
          <p:nvSpPr>
            <p:cNvPr id="116" name=""/>
            <p:cNvSpPr/>
            <p:nvPr/>
          </p:nvSpPr>
          <p:spPr>
            <a:xfrm>
              <a:off x="1476360" y="302544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对企业的价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57800" y="2796840"/>
              <a:ext cx="75960" cy="99072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57800" y="2492280"/>
              <a:ext cx="5410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、赢得信誉，树立品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、是企业生存的根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57800" y="355896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、是企业发展壮大的的根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392200" y="371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03280" y="3933720"/>
            <a:ext cx="7391520" cy="1526400"/>
            <a:chOff x="1403280" y="3933720"/>
            <a:chExt cx="7391520" cy="1526400"/>
          </a:xfrm>
        </p:grpSpPr>
        <p:sp>
          <p:nvSpPr>
            <p:cNvPr id="122" name=""/>
            <p:cNvSpPr/>
            <p:nvPr/>
          </p:nvSpPr>
          <p:spPr>
            <a:xfrm>
              <a:off x="1403280" y="44668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对国家的价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84720" y="4238280"/>
              <a:ext cx="75960" cy="99072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84720" y="393372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、赢得尊严，树立礼仪之邦风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84720" y="500040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、是立国、强国的根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533520" y="1828800"/>
            <a:ext cx="411480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怎么办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158920" cy="6477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8120" y="457200"/>
            <a:ext cx="5410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开车在路上突然捡到一部手机，你会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想办法联系失主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占为己有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与朋友约会你迟到了，你会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坦诚并道歉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找借口应付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考试时别人要你写答案，你会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不理他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写上答案传给他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有人说，当今社会中讲信用的人太少了，与别人讲信用会吃亏的。你同意吗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不同意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同意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一个年轻人跋涉在漫漫人生路上，渡船时风起云涌，要他丢掉健康、美貌、诚信、机敏、才学、金钱、荣誉七个背囊中的一个，他抛弃了诚信，他做得对吗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不对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对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以上题目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得一分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158920" cy="6477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666880" y="0"/>
            <a:ext cx="586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分算好了吗？我们来看看测试的结果：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：你就像题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年轻人一样，抛弃了诚信，是一个丧失诚信的人。周幽王便是这类人的典型。周幽王为搏宠姬褒一笑，竟然下命令点燃烽火台，让四方诸侯匆忙赶来。一次是这样，两次也是这样，到第三次敌人真正来时，已经没有人来了。他虽然博得美人一笑，但却失去了江山，也失去了做人最基本的诚信。这个历史版的狼来了不正告诉我们要重视诚信吗？所以这类人要好好反思一下自己，免得以后变成第二个周幽王。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——4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：这类人在不同程度上对诚信有些怀疑，处于诚信与欺骗的交叉路口，衷心劝告这类人要擦亮自己的心灵，选择正确的诚信之路，以免一失足成千古恨，后悔莫及。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：你是一个诚信的人，若能坚持下去，诚信会帮你成就一番事业的。就如商鞅，当年为了变化，他贴出告示，答应只要有人肯搬木头，就赏他黄金五千。结果有人搬了木头，他也奉守承诺，赏他黄金。结果，他赢得了秦国人民的信任。他的变法成功了。商鞅的故事告诉我们，诚信是通向成功的钥匙。希望你能正确认识对待诚信，让它焕发光彩。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828800" y="228600"/>
            <a:ext cx="37339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互动环节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523880"/>
            <a:ext cx="82296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问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一种理想化的美德，现实生活中做不到，讲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者往往吃亏，这种说法对不对？请谈谈你的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问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：有人认为，自己是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，但别人不讲，我也只好不讲了，这种说法对不对？请谈谈你的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2960" y="284040"/>
            <a:ext cx="7316640" cy="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2133720"/>
            <a:ext cx="571500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诚信的形成，从小事做起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657600" y="129528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914400"/>
            <a:ext cx="4724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如何恪守诚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们青少年要做到恪守诚信，就要对自己讲的话承担责任和义务，言必有信，一诺千金。答应他人的事，一定要做到。同他人约定见面，一定要准时赴约。上学或参加各种活动，一定要准时赶到。要知道，许诺是非常慎重的行为，对不应办或办不到的事情，不能轻易许诺，一旦许诺，就要努力兑现。如果我们失信于人，就等于贬低了自己。如果我们在履行诺言过程中情况有变，以至无法兑现自己的诺言，就要向对方如实说明情况并表示歉意。这与言而无信是完全不同两件事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所以说树立诚信要从点点滴滴做起。 我们要继承和发扬恪守诚信的传统美德，还要把“江湖义气”与恪守诚信区别开来，认清“江湖义气”的实质和危害，不被这种旧社会遗留下来的坏习俗所污染，做到恪守诚信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1143000"/>
            <a:ext cx="2590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如果骄傲没被现实大海冷能拍下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又怎会懂得要多努力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才走得到远方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如果梦想不曾坠落悬崖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千钧一发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又怎会晓得执着的人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拥有隐形翅牓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把眼泪装在心上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会开出勇敢的花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可以在疲惫的时光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闭上眼睛闻到一种芬芳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就像好好睡了一夜直到天亮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1143000"/>
            <a:ext cx="3200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又能边走着边哼着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用轻快的步伐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沮丧时总会明显感到孤独的重量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多渴望懂得的人给些温暖借个肩膀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很高兴一路上我们的默契那么长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穿过风又绕个弯心还连着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像往常一样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最初的梦想紧握在手上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最想要去的地方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怎么能在半路就返航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最初的梦想绝对会到达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实现了真的渴望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才能够算到过了天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72200" y="3200400"/>
            <a:ext cx="3429000" cy="3276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981080" y="0"/>
            <a:ext cx="22860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最初的梦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知识问答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0720" y="1371240"/>
            <a:ext cx="71629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.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诺千金”这个成语跟哪个历史人物有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答：据《史记》记载，秦末季布因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而扬名，有民谣唱道：“得黄金百斤，不如得季布一诺。”这便成了“一诺千金”的由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15928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知识问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2840" y="11430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《庄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盗跖》：“尾生与女子期于梁（桥）下女子不来，水至不去，抱梁柱而死。”尾生为守信而死的故事流传千古。“伤心桥下春波绿，曾是惊鸿照影来”这句诗描写的就是这个故事，请问这句诗的作者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李白  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陆游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C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杜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答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724280" y="6019920"/>
            <a:ext cx="685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1589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48120" y="-210960"/>
            <a:ext cx="91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汉仪小隶书简"/>
              </a:rPr>
              <a:t>诚信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72640" y="1143000"/>
            <a:ext cx="789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汉仪小隶书简"/>
              </a:rPr>
              <a:t>诚实，守信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2080" y="476280"/>
            <a:ext cx="6069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现代汉语词典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28640" y="1603440"/>
            <a:ext cx="1399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何  为  诚  信 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59280" y="5013360"/>
            <a:ext cx="761760" cy="722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49960" y="836640"/>
            <a:ext cx="667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俗表述，就是说老实话、办老实事、做老实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7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5"/>
                            </p:stCondLst>
                            <p:childTnLst>
                              <p:par>
                                <p:cTn id="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75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50"/>
                            </p:stCondLst>
                            <p:childTnLst>
                              <p:par>
                                <p:cTn id="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7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75"/>
                            </p:stCondLst>
                            <p:childTnLst>
                              <p:par>
                                <p:cTn id="5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28640" y="1603440"/>
            <a:ext cx="1399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何  为  诚  信 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440" y="914400"/>
            <a:ext cx="4586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35560" y="990720"/>
            <a:ext cx="546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从道德范畴来讲，诚信即待人处事真诚、老实、讲信誉，言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79160" y="1066680"/>
            <a:ext cx="1102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行、行必果，一言九鼎，一诺千金。在《说文解字》中的解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98000" y="990720"/>
            <a:ext cx="91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：“诚，信也”，“信，诚也”。可见，诚信的本义就是要诚实、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8880" y="1066680"/>
            <a:ext cx="1468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恳、守信、有信，反对隐瞒欺诈、反对伪劣假冒、反对弄虚作假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228600"/>
            <a:ext cx="84582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盘古说：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我开天的巨斧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女娲说：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我补天的五彩晶石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孙行者说：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王母蟠桃园里熟透的桃子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孔已己说：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我站着喝酒时的长衫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牛顿说：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我的三大定律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爱因斯坦说：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我的相对论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愚者说：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伪君子的假惺惺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智者说：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人类闪光的金子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哲人说：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世间万物的源泉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妈妈说：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做人的准则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老师说：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成长的基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朋友说：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交友的基础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说：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我心中苦苦追求的生命之树开出的金花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大家说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一首歌：“以诚相见，永远是朋友”我愿唱着这首歌前进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诚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一首诗，一首无韵的诗。用心去感受，真诚付出，你才会品出诗中永远的甜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62404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219320" y="1447920"/>
            <a:ext cx="3657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诠释诚信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158920" cy="6477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0" y="533520"/>
            <a:ext cx="65530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诚实守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古以来一直都是中华   民族的传统美德。诚实，即忠诚老实，就是忠于事物的本来面貌，不隐瞒自己的真实思想，不掩饰自己的真实感情，不说谎，不作假，不为不可告人的目的而欺瞒别人。守信，就是讲信用，讲荣誉，信守承诺，忠实于自己承担的义务，答应了别人的事就一定要去做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0120" y="5486400"/>
            <a:ext cx="761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tools</cp:lastModifiedBy>
  <dcterms:modified xsi:type="dcterms:W3CDTF">2011-03-27T14:07:4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