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FB8-6BDD-49AB-9B9B-8FE5E81C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CBC-CDA6-4AD7-81AF-EE50BD62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3D7-EAB7-40D0-9964-244E3505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98B-F5B3-43D2-B00A-AC52156C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15B-B9FD-4132-B317-E7DD499D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AE2-6EFE-4CBB-9080-89F38128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828-E662-44AF-AE78-144BEAED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6A0-355E-4D6B-9278-361309B1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A74-1A66-40FE-8086-44ADA160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589-4127-44F9-9321-5E121A54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B10-815C-4461-8C35-CAC19B24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FBE-058C-4BC8-9B85-DEB075D3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75D4-EDD5-4B7D-BDD9-A46C8FB147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道之行也，天下为公，选贤与能，讲信修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90920" y="152280"/>
            <a:ext cx="335268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故人不独亲其亲，不独子其子，使老有所终，壮有所用，幼有所长，矜、寡、孤、独、废疾者皆有所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16200" y="3581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男有分，女有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267080"/>
            <a:ext cx="83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货恶其弃于地也，不必藏于己；力恶其不出于身也，不必为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100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故谋闭而不兴，盗窃乱贼而不作，故外户而不闭，是谓大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4166" t="5556" r="4166" b="111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990720"/>
            <a:ext cx="716256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所描绘的大同社会的景象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是故谋闭而不兴，盗窃乱贼而不作，故外户而不闭，是谓大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87560" y="1690560"/>
            <a:ext cx="85068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大道之行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143000"/>
            <a:ext cx="380880" cy="420516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9440 h 4205160"/>
              <a:gd name="textAreaBottom" fmla="*/ 4095720 h 42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7621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本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152280"/>
            <a:ext cx="1904760" cy="206460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下为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贤与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信修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971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本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89548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2438280"/>
            <a:ext cx="5257800" cy="5814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人都受到全社会的关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3276720"/>
            <a:ext cx="3581280" cy="5814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人都能安居乐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4114800"/>
            <a:ext cx="3962520" cy="5814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货尽其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尽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4876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结全文，折射现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9144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吾老，以及人之老；幼吾幼以及人之幼。（《孟子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7680" y="25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0920" y="3048120"/>
            <a:ext cx="10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处不保暖，无处不均匀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4191120"/>
            <a:ext cx="59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男耕女织，丰衣足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34120"/>
            <a:ext cx="618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路不拾遗，夜不闭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302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－－人不独其亲，不独子其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65760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－－矜、寡、孤、独、废疾者，皆有所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84488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－－男有分，女有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76320" y="6019920"/>
            <a:ext cx="97538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－－外户而不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32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你能在文中找出下面句子的“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影子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”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 迁移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请先思考以下问题，然后讨论交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这些问题可以充分发挥联想，答案不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文中“大同”社会跟陶渊明描绘的那个“世外桃源”有没有相似的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孔子的“大同”社会的理想实现了吗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纪的中国社会，是“大同”社会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87640" y="260280"/>
            <a:ext cx="7885080" cy="21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大同社会与陶渊明描绘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那个“世外桃源”有没有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         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相似的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396720" y="4646160"/>
            <a:ext cx="84596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  <a:ea typeface="华文行楷"/>
              </a:rPr>
              <a:t>有。“世外桃源”的境界是根据“大同”社会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  <a:ea typeface="华文行楷"/>
              </a:rPr>
              <a:t>体制构想出来的，是艺术地再现“大同”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  <a:ea typeface="华文行楷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  <a:ea typeface="华文行楷"/>
              </a:rPr>
              <a:t>的生活风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框"/>
          <p:cNvPicPr/>
          <p:nvPr/>
        </p:nvPicPr>
        <p:blipFill>
          <a:blip r:embed="rId1"/>
          <a:stretch/>
        </p:blipFill>
        <p:spPr>
          <a:xfrm>
            <a:off x="380880" y="341280"/>
            <a:ext cx="8763120" cy="6516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2133720" y="25146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38080" y="16765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</a:t>
            </a:r>
            <a:r>
              <a:rPr b="1" lang="zh-CN" sz="4400" spc="-1" strike="noStrike">
                <a:solidFill>
                  <a:srgbClr val="57201f"/>
                </a:solidFill>
                <a:latin typeface="楷体_GB2312"/>
                <a:ea typeface="楷体_GB2312"/>
              </a:rPr>
              <a:t>理想并不能被现实征服，希望的火花在黑暗的天空闪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932360" y="386064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7201f"/>
                </a:solidFill>
                <a:latin typeface="Times New Roman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57201f"/>
                </a:solidFill>
                <a:latin typeface="楷体_GB2312"/>
                <a:ea typeface="楷体_GB2312"/>
              </a:rPr>
              <a:t>巴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船"/>
          <p:cNvPicPr/>
          <p:nvPr/>
        </p:nvPicPr>
        <p:blipFill>
          <a:blip r:embed="rId2"/>
          <a:stretch/>
        </p:blipFill>
        <p:spPr>
          <a:xfrm>
            <a:off x="762120" y="4876920"/>
            <a:ext cx="16761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初读课文 整体感知</a:t>
            </a:r>
            <a:br>
              <a:rPr sz="3600"/>
            </a:b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（一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请大声朗读课文，把握字词的读音和句子的节奏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下为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éi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选贤与能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jǔ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讲信修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ù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guān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男有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fèn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货恶其弃于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ù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编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zuǎn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独亲其亲，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独子其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恶其弃于地也，不必藏于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恶其不出于身也，不必为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是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谋闭而不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读课文，对照课下注释和有关资料疏通文意，先独立完成，然后二分之一小组讨论交流，完成后举手展示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76400"/>
            <a:ext cx="7201080" cy="53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、形容词作名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、名词作动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67080"/>
            <a:ext cx="9524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：品德高尚的人；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：能干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：老年人；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壮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：中年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幼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4343400"/>
            <a:ext cx="5410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以……为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以……为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609480"/>
            <a:ext cx="8604000" cy="52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大道之行也，天下为公，选贤与能，讲信修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故人不独亲其亲，不独子其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981080"/>
            <a:ext cx="8763120" cy="6426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大道施行的时候，天下是人们所共有的，把有贤德、有才能的人选出来（给大家办事），（人人）讲究诚信，崇尚和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4800600"/>
            <a:ext cx="8610480" cy="6426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因此人们不单奉养自己的父母，不单抚育自己的子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824220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使老有所终，壮有所用，幼有所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货恶其弃于地也，不必藏于己；力恶其不出于身也，不必为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8839080" cy="6426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使老年人能终其天年，中年人能为社会效力，幼童能顺利地成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343400"/>
            <a:ext cx="8915400" cy="64260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人们）憎恶财货被抛弃在地上的现象（而要去收贮它），却不是为了独自享用；（也）憎恶那种在共同劳动中不肯尽力的行为，不要只为了私利而劳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精读课文 理清层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（一）速读课文，先独立思考一下题目，然后全小组合作交流，统一答案后选代表展示。（讨论时人人发言，从大号开始；展示时大号优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总领全文的语句是什么？照应此句的哪句话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是大道？什么是大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怎样实施“大道”，实现“大同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可以说是“大同”社会的根本特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请找出相关语句，并作讲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本文是从哪几个方面来说明“大同”社会的理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作者所描绘的大同社会的景象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4166" t="5556" r="4166" b="111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990720"/>
            <a:ext cx="7162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总领全文的语句是什么？照应此句的哪句话？什么是大道？什么是大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大道之行，天下为公。外户而不闭，是谓大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819520"/>
            <a:ext cx="701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【大道】：可以理解为治理社会的最高准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3581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【大同】：可以理解为儒家的理想社会或人类社会的最高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4495680"/>
            <a:ext cx="693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【大道之行也】：是指执政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施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大道，则老百姓便可以生活在安定、和平的大同社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4166" t="5556" r="4166" b="111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90720" y="990720"/>
            <a:ext cx="7162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怎样实施“大道”，实现“大同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可以说是“大同”社会的根本特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请找出相关语句，并作讲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下为公，选贤与能，讲信修睦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下为公”是说天下是大家的天下，不属于任何个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选贤与能”是说选拔品德高尚的人、能干的人担任社会职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讲信修睦”说的是社会成员间应当建立良好的关系，讲求诚信，远离欺诈，崇尚和睦，防止争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4166" t="5556" r="4166" b="111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90720" y="990720"/>
            <a:ext cx="716256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本文是从哪几个方面来说明“大同”社会的理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人人都能得到全社会的关爱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人人都能安居乐业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货尽其用，人尽其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1-12-13T23:29:09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