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2.jpeg" ContentType="image/jpeg"/>
  <Override PartName="/ppt/media/image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C7524-B904-482E-A01D-ED9E1B7B7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" y="376884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F137-506C-4B1E-A7D1-2B1F8500E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1528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40BBE-FAEB-42AE-A6AF-F955AF1D4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024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7392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56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7392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3E33-1205-4840-B9CC-095EC56E6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08B28-7C97-4894-B46A-CFE2ABC58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3E45-A895-48D5-A48E-C13106E50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731AA-1DAB-450E-902A-2E59B9535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68A23-F452-42D1-940C-12A113451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8E25-74AC-4EDE-A259-DFB53D168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924000" y="260280"/>
            <a:ext cx="4824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835DF-C8E5-43E0-AF12-2826CDECD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3209-E211-4694-BB67-C7C87372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131F-A869-4139-A819-7D36F6E20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1528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C6BCB-CFAF-48C3-AF20-25D233CB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05E97-3D84-48CE-A0A9-20095A2B3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60" y="376884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E3376-5554-4C63-A3BE-A67F916E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1528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2F502-4F5E-45DB-A028-007223B5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7024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73920" y="126828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56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7024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73920" y="3768840"/>
            <a:ext cx="266976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C6266-CB68-40FB-9E33-2EC2C506F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7514-B75B-4335-8343-2F80F99CB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854E-1D9B-4D8D-AF41-83222EAF9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EA21-640F-4EC5-B993-0AEA2E72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924000" y="260280"/>
            <a:ext cx="4824360" cy="334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84F0-2F02-40E2-969C-4AD98E05B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2FDC-CCF0-4608-B5B0-F65B94CD6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15280" y="376884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4FDA-21BE-452E-8086-FEFD5ACF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15280" y="1268280"/>
            <a:ext cx="404604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560" y="3768840"/>
            <a:ext cx="8291520" cy="22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57917-5023-4349-A38C-6AB97B35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-7920"/>
            <a:ext cx="9251640" cy="6891480"/>
            <a:chOff x="0" y="-7920"/>
            <a:chExt cx="9251640" cy="6891480"/>
          </a:xfrm>
        </p:grpSpPr>
        <p:pic>
          <p:nvPicPr>
            <p:cNvPr id="1" name="Picture 3" descr="140404fqc90f"/>
            <p:cNvPicPr/>
            <p:nvPr/>
          </p:nvPicPr>
          <p:blipFill>
            <a:blip r:embed="rId2"/>
            <a:srcRect l="8323" t="9665" r="15674" b="0"/>
            <a:stretch/>
          </p:blipFill>
          <p:spPr>
            <a:xfrm>
              <a:off x="36720" y="-7920"/>
              <a:ext cx="9214920" cy="689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Rectangle 4"/>
            <p:cNvSpPr/>
            <p:nvPr/>
          </p:nvSpPr>
          <p:spPr>
            <a:xfrm>
              <a:off x="0" y="1095120"/>
              <a:ext cx="9212760" cy="506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8D65-DAF7-408D-AB19-AC33A44E1B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140404fqc90f"/>
          <p:cNvPicPr/>
          <p:nvPr/>
        </p:nvPicPr>
        <p:blipFill>
          <a:blip r:embed="rId2"/>
          <a:srcRect l="9018" t="0" r="7573" b="0"/>
          <a:stretch/>
        </p:blipFill>
        <p:spPr>
          <a:xfrm>
            <a:off x="0" y="1440"/>
            <a:ext cx="9180360" cy="68835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D4864-0520-45D8-81F8-A69D1D7AC1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detail.tmall.com/item.htm?id=15876306478" TargetMode="External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453080" y="425160"/>
            <a:ext cx="1082520" cy="591804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微软雅黑"/>
                <a:ea typeface="微软雅黑"/>
              </a:rPr>
              <a:t>大 话 养 生 ——甄 嬛 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8539200" y="4724280"/>
            <a:ext cx="3585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33"/>
                </a:solidFill>
                <a:latin typeface="微软雅黑"/>
                <a:ea typeface="微软雅黑"/>
              </a:rPr>
              <a:t>益生康健课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3e59a7a25a33d02cd0d47b682d2ff379"/>
          <p:cNvPicPr/>
          <p:nvPr/>
        </p:nvPicPr>
        <p:blipFill>
          <a:blip r:embed="rId1"/>
          <a:stretch/>
        </p:blipFill>
        <p:spPr>
          <a:xfrm>
            <a:off x="1044720" y="4954680"/>
            <a:ext cx="1746000" cy="1571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75_100920135457_1"/>
          <p:cNvPicPr/>
          <p:nvPr/>
        </p:nvPicPr>
        <p:blipFill>
          <a:blip r:embed="rId2"/>
          <a:stretch/>
        </p:blipFill>
        <p:spPr>
          <a:xfrm>
            <a:off x="5148360" y="2492280"/>
            <a:ext cx="1711080" cy="1617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81b4df0ebc1ced643ac7633b"/>
          <p:cNvPicPr/>
          <p:nvPr/>
        </p:nvPicPr>
        <p:blipFill>
          <a:blip r:embed="rId3"/>
          <a:stretch/>
        </p:blipFill>
        <p:spPr>
          <a:xfrm>
            <a:off x="5524560" y="404640"/>
            <a:ext cx="1676520" cy="17701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331d691e314b41791ad576d9"/>
          <p:cNvPicPr/>
          <p:nvPr/>
        </p:nvPicPr>
        <p:blipFill>
          <a:blip r:embed="rId4"/>
          <a:stretch/>
        </p:blipFill>
        <p:spPr>
          <a:xfrm>
            <a:off x="3203640" y="4724280"/>
            <a:ext cx="1627200" cy="1619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养生美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66560" y="1270080"/>
            <a:ext cx="829152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原料：银耳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20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克，枣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100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克，枸杞子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100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克，冰糖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50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做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、先把银耳用水泡上，短则一个多小时，长则五六个小时都可以。银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泡开后用水清洗两三遍，控水。将银耳黄色的根去掉，用手将银耳撕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成小片，待用。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、将莲子红枣和枸杞也用水泡上，这个不用很长时间，一般十分钟就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了。银耳处理好了，莲子红枣和枸杞也差不多了。泡好后也要控水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将红枣用手撕开，露出果肉。这么做是为了红枣香甜的味道容易出来。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、锅内加入凉水，将银耳、莲子、“露肉”的红枣、枸杞一同放入。水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后调成小火开始慢慢煮。注意千万不要大开锅盖，不然容易熬干。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、很快你就能闻到红枣的香味了，不过别着急，至少要煮一个半小时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      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行呢。快煮好时放入冰糖，搅拌后，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分钟左右即可食用。 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养生美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功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银耳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有滋阴、润肺、养胃、生津、益气、补脑、强心之功效。不但适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于一切妇孺、病后体虚者，且对女性具有很好的嫩肤美容功效。银耳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的有效成分酸性多糖类物质，能增强人体的免疫力，调动淋巴细胞，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强白细胞的吞噬能力，兴奋骨髓造血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大枣</a:t>
            </a:r>
            <a:r>
              <a:rPr b="1" lang="zh-CN" sz="20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"/>
              </a:rPr>
              <a:t>维生素c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含量极高，每百克鲜枣的维生素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含量为柑橘的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8-17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倍、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蕉的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50-100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倍、苹果的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50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倍，有“活维生素丸”之称，具有益气补血、健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和胃等功效。红枣中含环磷酸腺甙，可扩张血管，增强心肌收缩力，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善心肌营养，对防治心血管疾病有一定好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富含维生素的产品请见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http://detail.tmall.com/item.htm?id=1587630647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养生美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89360" y="1268280"/>
            <a:ext cx="40687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4</a:t>
            </a:r>
            <a:r>
              <a:rPr b="1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南北杏炖鹧鸪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在后宫中“母凭子贵”是不变的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理，所以皇嗣一直是各种阴谋的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害者，从安胎到顺利生产着实是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件不易的事情。南北杏炖鹧鸪就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一道很好的安胎定神的汤，在甄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第二次入宫之后，就常饮此汤。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且这道汤还有润肺、止咳、健脾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胃的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4" descr="378_120420093132_1"/>
          <p:cNvPicPr/>
          <p:nvPr/>
        </p:nvPicPr>
        <p:blipFill>
          <a:blip r:embed="rId1"/>
          <a:stretch/>
        </p:blipFill>
        <p:spPr>
          <a:xfrm>
            <a:off x="466560" y="1344600"/>
            <a:ext cx="4069080" cy="2158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未命名"/>
          <p:cNvPicPr/>
          <p:nvPr/>
        </p:nvPicPr>
        <p:blipFill>
          <a:blip r:embed="rId2"/>
          <a:stretch/>
        </p:blipFill>
        <p:spPr>
          <a:xfrm>
            <a:off x="468360" y="3743280"/>
            <a:ext cx="4068720" cy="23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养生美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原料：雪梨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个，南北杏、川贝各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克，鹧鸪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只，瘦肉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100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克，蜜枣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1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           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个，生姜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做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、雪梨去皮去核切块，蜜枣去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、南北杏用热水浸软去皮，并掐去尖牙，川贝洗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、鹧鸪斩块，瘦肉切块，一同放进焯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、全部材料放进炖盅里，加水炖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个小时即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养生美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功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杏仁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能润肺化痰、止咳平喘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川贝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能润肺化痰、清热止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鹧鸪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味甘、性温、无毒，入脾、胃、心经；能利五脏，开胃，益心神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补中消痰。一般人群均可食用。特别适合哺乳期间的妇女，小孩和成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男性；民间把鹧鸪作为健脾消疳积的良药，治疗小儿厌食、消瘦、发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不良效果显著。妇女在哺乳期间食用鹧鸪，对促进婴儿的体格和智力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育具有明显的效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此汤为清润肺燥之食疗佳品，可用于慢性支气管炎、小儿百日咳等症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中医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Arial"/>
                <a:ea typeface="微软雅黑"/>
              </a:rPr>
              <a:t>《甄嬛传》原著作者流潋紫女士的丈夫是一名中医，在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Arial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660066"/>
                </a:solidFill>
                <a:latin typeface="Arial"/>
                <a:ea typeface="微软雅黑"/>
              </a:rPr>
              <a:t>药方面为该剧提供了很多指导，虽然流潋紫表示像麝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Arial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660066"/>
                </a:solidFill>
                <a:latin typeface="Arial"/>
                <a:ea typeface="微软雅黑"/>
              </a:rPr>
              <a:t>致流产、熏香催情等这些桥段只是借鉴前人加上自己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Arial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660066"/>
                </a:solidFill>
                <a:latin typeface="Arial"/>
                <a:ea typeface="微软雅黑"/>
              </a:rPr>
              <a:t>想象，未经过专家验证，不过这足已激起观众的兴趣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Arial"/>
                <a:ea typeface="微软雅黑"/>
              </a:rPr>
              <a:t>      </a:t>
            </a:r>
            <a:r>
              <a:rPr b="0" lang="zh-CN" sz="2400" spc="-1" strike="noStrike">
                <a:solidFill>
                  <a:srgbClr val="660066"/>
                </a:solidFill>
                <a:latin typeface="Arial"/>
                <a:ea typeface="微软雅黑"/>
              </a:rPr>
              <a:t>让我们一起来鉴定下剧中所提及的一些中医知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中医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6200" y="1268280"/>
            <a:ext cx="4069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一、木薯粉伤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剧情回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华妃发觉皇帝格外爱惜温宜公主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于是心生一计，命曹贵人抱来温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由她抚养，一方面为争宠，一方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嫁祸甄嬛，还能控制曹贵人，一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三雕。但这就苦了襁褓中的温宜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病情加重，皇帝担忧不已，日夜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在华妃宫中。太医怀疑食物伤胃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查出公主所食的马蹄羹被人换成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木薯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Img345364006"/>
          <p:cNvPicPr/>
          <p:nvPr/>
        </p:nvPicPr>
        <p:blipFill>
          <a:blip r:embed="rId1"/>
          <a:stretch/>
        </p:blipFill>
        <p:spPr>
          <a:xfrm>
            <a:off x="5419800" y="1533600"/>
            <a:ext cx="3112920" cy="425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中医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疑问：“木薯粉有毒”这一说法有根据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解惑：木薯，性苦，寒。该物种为中国植物图谱数据库收录的</a:t>
            </a: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有毒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物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，其毒性为全株有毒，以新鲜块根毒性较大，木薯粉中含有毒的氢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物，氰离子会影响细胞的呼吸功能，严重者可危及呼吸中枢和血管运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神经。中毒早期可出现流涎、恶心、嗜睡或烦躁等症状，而呕吐等消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道不适感也是早期中毒的一个表现。新鲜木薯的毒性更大，如果食用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薯，一定要煮熟后方可食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鉴定结果：这一说法靠谱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中医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707977_234356519180_2"/>
          <p:cNvPicPr/>
          <p:nvPr/>
        </p:nvPicPr>
        <p:blipFill>
          <a:blip r:embed="rId1"/>
          <a:stretch/>
        </p:blipFill>
        <p:spPr>
          <a:xfrm>
            <a:off x="681120" y="1486080"/>
            <a:ext cx="1538280" cy="23112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89360" y="1268280"/>
            <a:ext cx="40687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二、麝香、夹竹桃、红花引致流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剧情回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皇上为华妃特制的欢宜香中因掺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剧性麝香致使华妃得宠而不能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育；安陵容送给甄嬛的“舒痕胶”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因麝香成分加剧甄嬛流产；齐妃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来含有夹竹桃的糕点，桂枝汤能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孕妇流产；端妃被华妃灌下了一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藏红花，便一辈子无子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5" descr="aec379310a55b319c6cb79e643a98226cffc1776"/>
          <p:cNvPicPr/>
          <p:nvPr/>
        </p:nvPicPr>
        <p:blipFill>
          <a:blip r:embed="rId2"/>
          <a:stretch/>
        </p:blipFill>
        <p:spPr>
          <a:xfrm>
            <a:off x="1450800" y="4108320"/>
            <a:ext cx="2102040" cy="157824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3c2c4bfb33efe32f6d22ebeb"/>
          <p:cNvPicPr/>
          <p:nvPr/>
        </p:nvPicPr>
        <p:blipFill>
          <a:blip r:embed="rId3"/>
          <a:stretch/>
        </p:blipFill>
        <p:spPr>
          <a:xfrm>
            <a:off x="2413080" y="1989000"/>
            <a:ext cx="190476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中医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疑问：几乎剧中似乎所有的流产都集中指向了麝香、夹竹桃、红花，那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么这三味药是孕妇大忌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解惑：麝香具有催产下胎、活血散结的作用，极易导致孕妇流产；夹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桃的树、皮、叶、花都含有剧毒，会引起子宫平滑肌收缩，导致胎儿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保，桂枝汤具有温经通阳、发汗解表作用，可治疗由受寒引起的感冒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但桂枝汤的发散作用却易使夹竹桃的药性加剧；红花一天用量不能超过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克，否则会导致宫寒而很难怀孕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鉴定结果：作者用夸张的艺术手法描写了“一壶红花而导致端妃终生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子”，略夸大了红花的功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前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660066"/>
              </a:buClr>
              <a:buFont typeface="微软雅黑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一部《甄嬛传》，在网络连载备受追捧之后，又被翻拍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电视剧在多家卫视频道轮流热播，风头一时无两。剧中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重严谨的礼仪、华贵考究的服饰、精致唯美的对话以及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步惊心的宫斗，都着实让观众过足了眼瘾。其实《甄嬛传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中所提到的养生美食、中医知识，以及对人体有所补益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用法，也俯拾皆是。话不多说，赶快跟我来看看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中医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6200" y="1268280"/>
            <a:ext cx="4069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三、保胎神物——艾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剧情回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安陵容怀孕但有流产迹象时，中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在其药中添加艾叶成分，并在其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间熏艾，多位怀孕的小主在怀孕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亦用熏艾之法安胎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4" descr="04161321531"/>
          <p:cNvPicPr/>
          <p:nvPr/>
        </p:nvPicPr>
        <p:blipFill>
          <a:blip r:embed="rId1"/>
          <a:stretch/>
        </p:blipFill>
        <p:spPr>
          <a:xfrm>
            <a:off x="4946760" y="1558800"/>
            <a:ext cx="3558960" cy="41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中医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疑问：艾叶真有保胎之效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解惑：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艾叶，性味苦、辛、温，入脾、肝、肾经。能散寒除湿，温经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血。中医中艾叶有两种用法，一是碳炒艾叶，具有温经止血之效；二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生艾叶，有凉血止血之效。而熏艾则是将艾叶做成艾条，通过烧艾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“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暖宫”，对子宫有很好的保护作用，确实有助于安胎；口服艾叶即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叶与阿胶一起熬制成“胶艾汤”，散寒温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鉴定结果：艾叶的保胎效果确实“杠杠的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中医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9360" y="1268280"/>
            <a:ext cx="40687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四、苦杏仁致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剧情回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安陵容因暖情香五石散等事败露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被打入冷宫，自请一盘苦杏仁，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向甄嬛倾诉内心苦楚无奈，一边吞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食苦杏仁后致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4" descr="U338P41T1D23034F27DT20111010161743"/>
          <p:cNvPicPr/>
          <p:nvPr/>
        </p:nvPicPr>
        <p:blipFill>
          <a:blip r:embed="rId1"/>
          <a:stretch/>
        </p:blipFill>
        <p:spPr>
          <a:xfrm>
            <a:off x="757080" y="1473120"/>
            <a:ext cx="3248280" cy="437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中医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疑问：苦杏仁为何会致死？平时吃的杏仁有问题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解惑：最早在唐代孙思邈《千金要方》上，记载了误食苦杏仁过量出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中毒症状。</a:t>
            </a:r>
            <a:r>
              <a:rPr b="0" lang="zh-CN" sz="2000" spc="-1" strike="noStrike">
                <a:solidFill>
                  <a:srgbClr val="ff0000"/>
                </a:solidFill>
                <a:latin typeface="Arial"/>
                <a:ea typeface="微软雅黑"/>
              </a:rPr>
              <a:t>杏仁分苦和甜两种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，平时吃的甜杏仁没有问题，可做小零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每天食用。而药用的苦杏仁，性苦、微温，有小毒；归肝、大肠经。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含有大量氰甙，这种物质在胃酸作用下能分解出氢氰酸，造成呼吸道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弛，如果过量则可导致呼吸麻痹直致窒息而亡。现在中医用苦杏仁治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咳嗽，但成人的使用量不能超过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9-12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克，儿童用量则更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鉴定结果：乱服苦杏仁，后果很严重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中医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66200" y="1268280"/>
            <a:ext cx="4069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五、依兰香和蛇床子熏香可催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剧情回放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安陵容以依兰香和蛇床子制成暖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香，引皇帝夜夜宠幸。后来，甄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拿出从陵容宫中偷取的香料，借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人之手将暖情香涂在百合花蕊中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到陵容宫中，皇帝宠幸过激，令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容小产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U338P41T1D23034F27DT20111010161743"/>
          <p:cNvPicPr/>
          <p:nvPr/>
        </p:nvPicPr>
        <p:blipFill>
          <a:blip r:embed="rId1"/>
          <a:stretch/>
        </p:blipFill>
        <p:spPr>
          <a:xfrm>
            <a:off x="4987800" y="1270080"/>
            <a:ext cx="3473640" cy="231120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5" descr="flying0291715274471618"/>
          <p:cNvPicPr/>
          <p:nvPr/>
        </p:nvPicPr>
        <p:blipFill>
          <a:blip r:embed="rId2"/>
          <a:stretch/>
        </p:blipFill>
        <p:spPr>
          <a:xfrm>
            <a:off x="4987800" y="3741840"/>
            <a:ext cx="347184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中医知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疑问：依兰香和蛇床子为何物？是否真能催情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解惑：依兰香是产自东南亚的一种香料，香味和夜来香有点相似；蛇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子，别名野胡萝卜子，性辛、苦，温。用于阳痿、宫冷、寒湿带下、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痹腰痛，外治外阴湿疹、妇人阴痒、滴虫性阴道炎。依兰香属于一种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物精油，中医用药比较少见，而蛇床子虽有温肾助阳的功能，但只限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口服才会有效果，同时也需要配方使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鉴定结果：作者的创造力，真的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hold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不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结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006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介绍了这么多的食谱和中医知识，希望能对大家平时的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生有所帮助和启发。衷心祝愿您和您的家人朋友健康快乐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</a:t>
            </a: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最后送大家一句话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最好的医生，是自己；最好的医院，是厨房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    </a:t>
            </a:r>
            <a:r>
              <a:rPr b="1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最好的药物，是饮食；最好的疗效，是坚持</a:t>
            </a:r>
            <a:r>
              <a:rPr b="1" lang="zh-CN" sz="2400" spc="-1" strike="noStrike">
                <a:solidFill>
                  <a:srgbClr val="660066"/>
                </a:solidFill>
                <a:latin typeface="微软雅黑"/>
                <a:ea typeface="微软雅黑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451640" y="838080"/>
            <a:ext cx="1082880" cy="5183280"/>
          </a:xfrm>
          <a:prstGeom prst="rect">
            <a:avLst/>
          </a:prstGeom>
          <a:noFill/>
          <a:ln w="0">
            <a:noFill/>
          </a:ln>
        </p:spPr>
        <p:txBody>
          <a:bodyPr anchor="t" anchorCtr="1" vert="eaVer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微软雅黑"/>
                <a:ea typeface="微软雅黑"/>
              </a:rPr>
              <a:t>谢 谢 收 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养生美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66200" y="1268280"/>
            <a:ext cx="4069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1</a:t>
            </a:r>
            <a:r>
              <a:rPr b="1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藕粉桂花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沈眉庄在剧中表现的温婉、和顺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傲骨铮铮，是个非常出彩的角色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而且她的一手好厨艺也让人印象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刻，特别是藕粉桂花糕，几乎成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她的招牌，每次到甄宫中都会带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一份。即使是在死后，皇帝也每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会想到藕粉桂花糕是他的眉儿做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最好。虽然也没亲见过那个桂花糕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的妙处，但听到藕粉和桂花这两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食材，便让人忍不住憧憬起来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4" descr="89542024118f8a90908f9d59"/>
          <p:cNvPicPr/>
          <p:nvPr/>
        </p:nvPicPr>
        <p:blipFill>
          <a:blip r:embed="rId1"/>
          <a:stretch/>
        </p:blipFill>
        <p:spPr>
          <a:xfrm>
            <a:off x="4797360" y="3741840"/>
            <a:ext cx="3851280" cy="23112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%B7%E2~1"/>
          <p:cNvPicPr/>
          <p:nvPr/>
        </p:nvPicPr>
        <p:blipFill>
          <a:blip r:embed="rId2"/>
          <a:stretch/>
        </p:blipFill>
        <p:spPr>
          <a:xfrm>
            <a:off x="4797360" y="1270080"/>
            <a:ext cx="385128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养生美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原料：牛奶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25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克、藕粉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21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克、澄面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10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克、白砂糖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3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克、桂花糖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5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克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发酵粉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做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牛奶中加入发酵粉，搅拌均匀，化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加入粉类和桂花糖、白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搅拌至无颗粒状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模具内放保鲜膜，将糊糊倒入，约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6-7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分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放到温暖的地方发酵至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8-9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分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6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蒸锅烧开水，将其放入，根据模具大小，厚度，蒸熟，蒸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4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分钟左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养生美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功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桂花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又称九里香，味辛，性温。散发浓郁迷人花香的桂花，能舒缓紧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情绪，经常饮用，可净化身心、平衡神经系统，达到提神的作用。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外，还具有抗癌、清热解毒、祛风散寒、润脾醒胃、增进食欲及减肥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功效。对于醒胃、生津止咳、化痰、镇痛、顺气有效，能健胃整肠、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和十二指肠溃疡与胃下垂、胃胀气等肠胃疾病。并可治疗口干舌燥与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气，以达养身润肺、消除肠胃不适的作用；还能治疗小孩受惊与胃痛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牙痛、口臭等症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藕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含有淀粉、蛋白质、天门冬素、维生素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C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以及氧化酶成分，含糖量也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高，生吃鲜藕能清热解烦，解渴止呕；如将鲜藕压榨取汁，其功效更甚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煮熟的藕性味甘温，能健脾开胃，益血补心，故主补五脏，有消食、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渴、生肌的功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养生美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689360" y="1268280"/>
            <a:ext cx="40687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2</a:t>
            </a:r>
            <a:r>
              <a:rPr b="1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绿豆百合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皇上可谓是剧中最心累的一个，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每都处于各种矛盾的中心。身为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亲的太后自然是非常担心，一次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上深夜批折子，太后还特地命人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了消火、滋润的绿豆百合粥，再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上隆科多从扬州带来的酱菜做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夜，既清爽又营养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bd24cdcdce8f18380eb3452a"/>
          <p:cNvPicPr/>
          <p:nvPr/>
        </p:nvPicPr>
        <p:blipFill>
          <a:blip r:embed="rId1"/>
          <a:stretch/>
        </p:blipFill>
        <p:spPr>
          <a:xfrm>
            <a:off x="469800" y="3792600"/>
            <a:ext cx="4070520" cy="22636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YF_]~D(VVEPBD{)EI)W`}QQ"/>
          <p:cNvPicPr/>
          <p:nvPr/>
        </p:nvPicPr>
        <p:blipFill>
          <a:blip r:embed="rId2"/>
          <a:stretch/>
        </p:blipFill>
        <p:spPr>
          <a:xfrm>
            <a:off x="469800" y="1270080"/>
            <a:ext cx="407052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养生美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原料：绿豆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10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克、大米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克、干百合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2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克、陈皮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片、冰糖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2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做法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将绿豆提前泡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2-3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个小时，干百合泡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3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分钟，陈皮泡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1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分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大米淘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锅内加水，依次放入大米、绿豆、百合、陈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水大火烧开后转小火，慢煮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30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分钟至绿豆开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5</a:t>
            </a: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加冰糖调味即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养生美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6560" y="1268280"/>
            <a:ext cx="829152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功效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绿豆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性味甘凉，有清热解毒之功。夏天在高温环境工作的人出汗多，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液损失很大，体内的电解质平衡遭到破坏，用绿豆煮汤来补充是最理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的方法，能够清暑益气、止渴利尿，不仅能补充水分，而且还能及时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充无机盐，对维持水液电解质平衡有着重要意义。经常食用绿豆可以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充营养，增强体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百合</a:t>
            </a: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入心经，性微寒，能清心除烦，宁心安神，用于热病后余热未消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神思恍惚、失眠多梦、心情抑郁、喜悲伤欲哭等病症。 百合洁白娇艳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鲜品富含黏液质及维生素，对皮肤细胞新陈代谢有益，常食百合，美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Arial"/>
                <a:ea typeface="微软雅黑"/>
              </a:rPr>
              <a:t>养颜，清热凉血。油性皮肤的人多吃百合对皮肤特别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24000" y="260280"/>
            <a:ext cx="482436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微软雅黑"/>
              </a:rPr>
              <a:t>养生美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66200" y="1268280"/>
            <a:ext cx="4069080" cy="47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3</a:t>
            </a:r>
            <a:r>
              <a:rPr b="1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、红枣银耳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甄嬛被叶澜依暗算，以猫扑向其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腹。受其惊吓难产，艰难之下痛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诞下龙凤胎，产后脱力、口中苦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之际，宫女槿汐特地准备了一碗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补的红枣银耳汤，让甄嬛服下恢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660066"/>
                </a:solidFill>
                <a:latin typeface="微软雅黑"/>
                <a:ea typeface="微软雅黑"/>
              </a:rPr>
              <a:t>体力，足见主仆情深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flying0291715274471618"/>
          <p:cNvPicPr/>
          <p:nvPr/>
        </p:nvPicPr>
        <p:blipFill>
          <a:blip r:embed="rId1"/>
          <a:stretch/>
        </p:blipFill>
        <p:spPr>
          <a:xfrm>
            <a:off x="4689360" y="1268280"/>
            <a:ext cx="4060800" cy="2313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未命名"/>
          <p:cNvPicPr/>
          <p:nvPr/>
        </p:nvPicPr>
        <p:blipFill>
          <a:blip r:embed="rId2"/>
          <a:stretch/>
        </p:blipFill>
        <p:spPr>
          <a:xfrm>
            <a:off x="4689360" y="3741840"/>
            <a:ext cx="4059360" cy="231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9T08:11:59Z</dcterms:created>
  <dc:creator>david</dc:creator>
  <dc:description/>
  <cp:keywords/>
  <dc:language>en-US</dc:language>
  <cp:lastModifiedBy>Sky123.Org</cp:lastModifiedBy>
  <dcterms:modified xsi:type="dcterms:W3CDTF">2015-07-16T03:25:34Z</dcterms:modified>
  <cp:revision>1</cp:revision>
  <dc:subject/>
  <dc:title>大 话 养 生 ——甄 嬛 传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60</vt:lpwstr>
  </property>
</Properties>
</file>