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chimes.wav" ContentType="audio/x-wav"/>
  <Override PartName="/ppt/media/image13.gif" ContentType="image/gif"/>
  <Override PartName="/ppt/media/image16.png" ContentType="image/png"/>
  <Override PartName="/ppt/media/image18.jpeg" ContentType="image/jpeg"/>
  <Override PartName="/ppt/media/type.wav" ContentType="audio/x-wav"/>
  <Override PartName="/ppt/media/image17.png" ContentType="image/png"/>
  <Override PartName="/ppt/media/projctor.wav" ContentType="audio/x-wav"/>
  <Override PartName="/ppt/media/image1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009-DF20-4B6B-90B1-376768E8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C9C-9B65-4547-A861-25AEBC67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A8E95-9791-4BA9-B5E2-B445A254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CCB2F-61D2-405E-ACBE-D3F1018F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3220-952B-439F-8DE9-520C39C4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1E01B-CD55-4166-AD95-3AE042B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9BAEE-8D49-405D-8F8D-312B2F92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F11FC-FC87-4E9B-ADBD-6A6CE10F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ABD4C-F0D0-4FFD-A238-3F1A752F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709CE-3355-49A3-BDB7-C0FB2044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B2D74-3C55-44C9-9D1F-9F80B87D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32225-ABCE-4036-A7FC-42BDCFAB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CDC-617A-490C-860F-8279645F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F9D79-AF7F-4011-BAC0-59EB69B7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57BD3-E2E0-4FE7-9039-38347ABC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C0D10-B32B-445A-8C57-AA09A2FE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7699F-3E8A-49FB-AAA1-153CFD27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430AD-5C94-4C6A-887E-B5454F6F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C383F-9599-47D4-98F7-A1E3E43F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12D91-4AE4-4C98-8704-0615F79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7ADAA-0ED2-4CF7-981C-A8BB208B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941C0-FD75-45B9-886F-A0C83858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E4974-46D3-4BD2-975F-BD6D6F91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0B6-79CE-441B-83AB-EA56A895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29EE0-D887-4E81-9F55-D1016068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EEBE-C4BC-4DB7-B81C-E8989538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441A-31F0-4B5D-BBEA-928F9690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CD02-393A-4CE3-903C-324A17BC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433B-C2B4-42A2-967F-62CA30D1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89AB-28F6-4093-BACC-B2A29B25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4CE-10B6-4653-B465-7BCC0C86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7C07-D123-4455-B576-DEDD14A4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E3D-572B-4DB9-AF6C-B402311B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94F6-34DB-427E-B32C-B1C6E1ED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1CCF-A85F-412A-915A-25D6E93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78FD-1D0C-4072-8A73-E609CCAB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AB22-8461-4CA3-A9B0-53EA56F6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80FB-C23C-4DC3-B2D4-E975D912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687D-0D37-4AD9-A532-6CB5496D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50B4-2EE2-4292-AC46-BEE4779A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891D-AA80-4629-B03E-C85FC11A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AA63-1853-48BB-B060-2EF648AD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B79F-2A8D-4DEF-9B92-8CB1B656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FA4-3FDF-4884-90FA-F302788A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7CC74-2EBA-4BF4-B944-5DC64643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F740-8B82-4671-80D6-00D6CEAC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2FF43-8B9A-4FEF-BBF8-B33CCB4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4DC7-0E7F-403B-9829-67B77FCA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8752F-EE3D-4AB5-89AE-94DFAFAC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EC8F-B61E-44F0-A2A6-EEF7F707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ADD7-27D9-4A3C-B279-4E2A57BE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089F-EA60-44F9-B784-DA802295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D662E-CB56-476E-A5A1-C9654BEC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E45A-8E51-4C1E-A29F-4BC5CD57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86E-610F-416F-BA2C-F11BFB0F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EA4C9-074A-4004-9109-88E186A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B6B9-E527-42EE-9AA3-5A4036CF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65678-F9EB-43B6-B070-F6F55EE5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E336-D2AE-4663-AE88-1CC8C023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9065F-B607-4F47-A80C-AC2617E3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9547C-6DAF-40B5-8CD9-439AA941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DCD8-A445-456C-8F54-865AD4A8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804D5-485E-4DC1-A816-B8C2B045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75B8-9826-43D2-950E-3BF53893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84B94-08B1-41DE-BC65-B40BD0AA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510-E895-4606-BD2E-37DCF7DA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0263-C4B6-4112-9664-E495A6AE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E4B6-03D8-40F5-A95B-53285E4B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C3A5C-C7CB-4CCB-934F-8E924A06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C6860-B005-4B85-9B16-FD193DA9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8F7F2-879E-4A09-9CBD-D5A65AB2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9BD7F-646F-4DBF-B19A-2C8888D8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84EA3-A9A9-473D-850D-2CFEE61E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131ED-F2C0-400C-B4D6-05B0B05A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3C98-0C07-4711-AE31-1B530E57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68A2-978C-455D-B33A-7C7C4125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503-9A29-42D1-8C23-3B800A49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42F61-D23E-4910-8412-C7A9DB83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3E37E-F023-4C36-89DF-EA72FDE3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3E52-BA76-4C96-9CF3-9FBE0486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011E-D095-45E2-8C52-E276E752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3E07D-2173-475C-9D67-B22B83A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86CD1-DDFE-451A-940C-FB266875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13B60-8F01-4E0C-A3A1-75232755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B81E-5671-4B00-94EA-B346D80D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ACA95-5470-4BAE-87A4-ACFF410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3B405-3865-443F-9365-CFA89CE7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0C8-3980-4627-9E69-39845F6B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B96F1-FE82-4614-B186-F3F91CDC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CE306-E7DE-4746-A1C3-3520046F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ED4D0-2F60-4046-B5F9-A74048F4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1E63-BBD5-4EC7-A9E1-0EB939E6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A546D-7CD7-4515-91AD-226852B7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B8F1E-FE95-4460-8BEA-73C6B8D4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97F6C-6962-4C88-963B-1F479BE5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5EB3B-4268-4E8B-A567-B27324C0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ACEF7-7D12-4B9A-A767-CE55FF8E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66436-92A4-4D46-AF69-4649DA50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DCA-8C3F-4B81-8DF8-F7228F4A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44F1C-176E-4669-A180-9AAC8310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39FC4-48F8-4086-8F16-497B4CA6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6481B-B7EF-454C-9ECC-BB8B227F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36089-56F7-490B-82B1-98D1FFBC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C2A4-FA2E-40DC-8FE4-A55A2B64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063EB-263B-4DA5-ACCC-3991688B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8D336-68A8-4FF6-B1EE-5299359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B73AA-87C2-4E8E-A72D-C0D7DBDE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4C455-BB61-4B9E-B10F-1A2CD280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55CAE-999A-49F2-9113-8877DB6F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66F-773D-462F-8534-9D7E9631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8A178-50A3-4A5A-BBB4-26734FCA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3AC83-978E-497D-8522-C0639BE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3D648-91C3-4282-83B1-EB6C65CF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02710-CE44-4E1A-B6FF-1D81E86B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C8632-2C65-4937-ACA6-2BD572B8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BB6A0-8E90-4218-ACF3-124DB898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15482-6ABB-44AB-9AFC-147205C5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15FA2-B5C7-4E44-847F-A7493166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8BF0B-A1FD-428B-A26C-DCF93F2B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CB27D-9F59-44A6-B5DB-6696D030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622B-7EFD-4166-A6D0-3FB51469CD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CF26-B2CC-4975-8374-7693E90E0C66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C550-29D3-427D-AD4A-557323390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0" name="任意多边形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任意多边形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3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3B0A-85B9-42A5-9940-C843A0E3FB2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3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1F8-E709-44C2-BAF6-77FD34ECFAE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2385-59F1-46CB-B741-C453F07C17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A86E-E87C-4C4C-8245-BA80AD5C0E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7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6173-420D-4FFD-8CFC-A6F114A03C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C55B-1D7F-442D-B2B8-B55BACB6B89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任意多边形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任意多边形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5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7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8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894F-5D6D-4FFD-B49A-EE15E0C7B1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内容占位符 3" descr="4e749019453b26463f24a.jpeg"/>
          <p:cNvPicPr/>
          <p:nvPr/>
        </p:nvPicPr>
        <p:blipFill>
          <a:blip r:embed="rId1"/>
          <a:stretch/>
        </p:blipFill>
        <p:spPr>
          <a:xfrm>
            <a:off x="2028960" y="214200"/>
            <a:ext cx="4900320" cy="6643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100" spc="-1" strike="noStrike">
              <a:solidFill>
                <a:srgbClr val="464646"/>
              </a:solidFill>
              <a:latin typeface="Lucida Sans Unicode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1"/>
          <p:cNvSpPr/>
          <p:nvPr/>
        </p:nvSpPr>
        <p:spPr>
          <a:xfrm>
            <a:off x="1757520" y="928800"/>
            <a:ext cx="605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1f28"/>
                </a:solidFill>
                <a:latin typeface="Times New Roman"/>
              </a:rPr>
              <a:t>一个不懂得享受爱的人，他的良知是苍白的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1f28"/>
                </a:solidFill>
                <a:latin typeface="Times New Roman"/>
              </a:rPr>
              <a:t>一个不懂得回报爱的人，他的情感是自私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da1f28"/>
                </a:solidFill>
                <a:latin typeface="Times New Roman"/>
              </a:rPr>
              <a:t>懂得爱                         感恩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1574280" y="990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拓展延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971640" y="249228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811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青春年少，我们也曾对挚爱我们的父母任性过也有误解过他们的爱心，请以  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 u="sng">
                <a:solidFill>
                  <a:srgbClr val="3366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想对您说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为开头给你的亲人写一张字条。</a:t>
            </a:r>
            <a:r>
              <a:rPr b="0" lang="zh-CN" sz="4000" spc="-1" strike="noStrike" u="sng">
                <a:solidFill>
                  <a:srgbClr val="336600"/>
                </a:solidFill>
                <a:uFillTx/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7" descr="beike"/>
          <p:cNvPicPr/>
          <p:nvPr/>
        </p:nvPicPr>
        <p:blipFill>
          <a:blip r:embed="rId1"/>
          <a:stretch/>
        </p:blipFill>
        <p:spPr>
          <a:xfrm>
            <a:off x="7162920" y="838080"/>
            <a:ext cx="15238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1066680" y="9144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6e73"/>
                </a:solidFill>
                <a:latin typeface="Verdana"/>
                <a:ea typeface="黑体"/>
              </a:rPr>
              <a:t>有一句话，值得你铭记一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914400" y="2514600"/>
            <a:ext cx="65944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世界上最大的是海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海洋更大的是天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比天空更大的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Verdana"/>
                <a:ea typeface="黑体"/>
              </a:rPr>
              <a:t>是父母对儿女的恩情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满文军 - 懂你.mp3" descr=""/>
          <p:cNvPicPr/>
          <p:nvPr/>
        </p:nvPicPr>
        <p:blipFill>
          <a:blip r:embed="rId1"/>
          <a:stretch/>
        </p:blipFill>
        <p:spPr>
          <a:xfrm>
            <a:off x="7715160" y="55008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32559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20061109193159703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7"/>
          <p:cNvSpPr/>
          <p:nvPr/>
        </p:nvSpPr>
        <p:spPr>
          <a:xfrm>
            <a:off x="2260440" y="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懂    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152280" y="533520"/>
            <a:ext cx="4038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你静静的离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一步一步孤独的背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伴着你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告诉你我其实多么的爱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花静静的绽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我忽然想你的夜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告诉你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其实你一直都是我的奇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一年一年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风霜遮盖了笑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你寂寞的心有谁还能够体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是不是春花秋月无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春去秋来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你的爱已无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告诉你我其实一直都懂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5198400" y="457200"/>
            <a:ext cx="2195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依偎在你温暖寂寞的怀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花静静的绽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在我忽然想你的夜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告诉你其实我一直都懂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一年一年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风霜遮盖了笑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你寂寞的心有谁还能够体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是不是春花秋月无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春去秋来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你的爱已无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告诉你其实我一直都懂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依偎在你温暖寂寞的怀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告诉你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你的寂寞我的心痛在一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11" descr="bfly"/>
          <p:cNvPicPr/>
          <p:nvPr/>
        </p:nvPicPr>
        <p:blipFill>
          <a:blip r:embed="rId2"/>
          <a:stretch/>
        </p:blipFill>
        <p:spPr>
          <a:xfrm>
            <a:off x="8305920" y="15228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5"/>
          <p:cNvSpPr/>
          <p:nvPr/>
        </p:nvSpPr>
        <p:spPr>
          <a:xfrm>
            <a:off x="533520" y="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作者介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46"/>
          <p:cNvSpPr/>
          <p:nvPr/>
        </p:nvSpPr>
        <p:spPr>
          <a:xfrm>
            <a:off x="228600" y="11430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朱自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898~19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47"/>
          <p:cNvSpPr/>
          <p:nvPr/>
        </p:nvSpPr>
        <p:spPr>
          <a:xfrm>
            <a:off x="762120" y="2057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代散文家、诗人，学者，民主战士。字佩弦，江苏扬州人，原籍浙江绍兴，散文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背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匆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荷塘月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8" descr="2222"/>
          <p:cNvPicPr/>
          <p:nvPr/>
        </p:nvPicPr>
        <p:blipFill>
          <a:blip r:embed="rId2"/>
          <a:stretch/>
        </p:blipFill>
        <p:spPr>
          <a:xfrm>
            <a:off x="6324480" y="1828800"/>
            <a:ext cx="26640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Object 2"/>
          <p:cNvGraphicFramePr/>
          <p:nvPr/>
        </p:nvGraphicFramePr>
        <p:xfrm>
          <a:off x="0" y="0"/>
          <a:ext cx="914400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5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def5fa"/>
                    </a:outerShdw>
                  </a:effectLst>
                </p:spPr>
              </p:pic>
            </p:oleObj>
          </a:graphicData>
        </a:graphic>
      </p:graphicFrame>
      <p:sp>
        <p:nvSpPr>
          <p:cNvPr id="460" name="Text Box 3"/>
          <p:cNvSpPr/>
          <p:nvPr/>
        </p:nvSpPr>
        <p:spPr>
          <a:xfrm>
            <a:off x="4284000" y="549360"/>
            <a:ext cx="4507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影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3738240" y="2438280"/>
            <a:ext cx="261828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朱自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6"/>
          <p:cNvGrpSpPr/>
          <p:nvPr/>
        </p:nvGrpSpPr>
        <p:grpSpPr>
          <a:xfrm>
            <a:off x="457200" y="2362320"/>
            <a:ext cx="8001000" cy="2271600"/>
            <a:chOff x="457200" y="2362320"/>
            <a:chExt cx="8001000" cy="2271600"/>
          </a:xfrm>
        </p:grpSpPr>
        <p:sp>
          <p:nvSpPr>
            <p:cNvPr id="463" name="Text Box 7"/>
            <p:cNvSpPr/>
            <p:nvPr/>
          </p:nvSpPr>
          <p:spPr>
            <a:xfrm>
              <a:off x="457200" y="237672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交  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2743200" y="236232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奔  丧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9"/>
            <p:cNvSpPr/>
            <p:nvPr/>
          </p:nvSpPr>
          <p:spPr>
            <a:xfrm>
              <a:off x="4724280" y="236232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踌  躇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0"/>
            <p:cNvSpPr/>
            <p:nvPr/>
          </p:nvSpPr>
          <p:spPr>
            <a:xfrm>
              <a:off x="6858000" y="236232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迂  腐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457200" y="39304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蹒  跚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12"/>
            <p:cNvSpPr/>
            <p:nvPr/>
          </p:nvSpPr>
          <p:spPr>
            <a:xfrm>
              <a:off x="6858000" y="3930480"/>
              <a:ext cx="152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晶  莹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3"/>
            <p:cNvSpPr/>
            <p:nvPr/>
          </p:nvSpPr>
          <p:spPr>
            <a:xfrm>
              <a:off x="2743200" y="39304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颓  唐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4724280" y="39160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琐  屑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1" name="Picture 15" descr="标记点1"/>
          <p:cNvPicPr/>
          <p:nvPr/>
        </p:nvPicPr>
        <p:blipFill>
          <a:blip r:embed="rId1"/>
          <a:stretch/>
        </p:blipFill>
        <p:spPr>
          <a:xfrm>
            <a:off x="1432080" y="3013200"/>
            <a:ext cx="320400" cy="1587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6" descr="标记点1"/>
          <p:cNvPicPr/>
          <p:nvPr/>
        </p:nvPicPr>
        <p:blipFill>
          <a:blip r:embed="rId2"/>
          <a:stretch/>
        </p:blipFill>
        <p:spPr>
          <a:xfrm>
            <a:off x="3733920" y="3013200"/>
            <a:ext cx="320400" cy="158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7" descr="标记点1"/>
          <p:cNvPicPr/>
          <p:nvPr/>
        </p:nvPicPr>
        <p:blipFill>
          <a:blip r:embed="rId3"/>
          <a:stretch/>
        </p:blipFill>
        <p:spPr>
          <a:xfrm>
            <a:off x="4937040" y="3013200"/>
            <a:ext cx="320760" cy="158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8" descr="标记点1"/>
          <p:cNvPicPr/>
          <p:nvPr/>
        </p:nvPicPr>
        <p:blipFill>
          <a:blip r:embed="rId4"/>
          <a:stretch/>
        </p:blipFill>
        <p:spPr>
          <a:xfrm>
            <a:off x="5715000" y="3013200"/>
            <a:ext cx="320760" cy="158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9" descr="标记点1"/>
          <p:cNvPicPr/>
          <p:nvPr/>
        </p:nvPicPr>
        <p:blipFill>
          <a:blip r:embed="rId5"/>
          <a:stretch/>
        </p:blipFill>
        <p:spPr>
          <a:xfrm>
            <a:off x="7070760" y="3013200"/>
            <a:ext cx="320760" cy="1587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0" descr="标记点1"/>
          <p:cNvPicPr/>
          <p:nvPr/>
        </p:nvPicPr>
        <p:blipFill>
          <a:blip r:embed="rId6"/>
          <a:stretch/>
        </p:blipFill>
        <p:spPr>
          <a:xfrm>
            <a:off x="7772400" y="4572000"/>
            <a:ext cx="320760" cy="1587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1" descr="标记点1"/>
          <p:cNvPicPr/>
          <p:nvPr/>
        </p:nvPicPr>
        <p:blipFill>
          <a:blip r:embed="rId7"/>
          <a:stretch/>
        </p:blipFill>
        <p:spPr>
          <a:xfrm>
            <a:off x="4937040" y="4565520"/>
            <a:ext cx="320760" cy="1587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2" descr="标记点1"/>
          <p:cNvPicPr/>
          <p:nvPr/>
        </p:nvPicPr>
        <p:blipFill>
          <a:blip r:embed="rId8"/>
          <a:stretch/>
        </p:blipFill>
        <p:spPr>
          <a:xfrm>
            <a:off x="2895480" y="4565520"/>
            <a:ext cx="320760" cy="158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3" descr="标记点1"/>
          <p:cNvPicPr/>
          <p:nvPr/>
        </p:nvPicPr>
        <p:blipFill>
          <a:blip r:embed="rId9"/>
          <a:stretch/>
        </p:blipFill>
        <p:spPr>
          <a:xfrm>
            <a:off x="1371600" y="4565520"/>
            <a:ext cx="320760" cy="158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4" descr="标记点1"/>
          <p:cNvPicPr/>
          <p:nvPr/>
        </p:nvPicPr>
        <p:blipFill>
          <a:blip r:embed="rId10"/>
          <a:stretch/>
        </p:blipFill>
        <p:spPr>
          <a:xfrm>
            <a:off x="685800" y="4565520"/>
            <a:ext cx="320760" cy="15876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25"/>
          <p:cNvSpPr/>
          <p:nvPr/>
        </p:nvSpPr>
        <p:spPr>
          <a:xfrm>
            <a:off x="457200" y="5257800"/>
            <a:ext cx="17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差  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26" descr="标记点1"/>
          <p:cNvPicPr/>
          <p:nvPr/>
        </p:nvPicPr>
        <p:blipFill>
          <a:blip r:embed="rId11"/>
          <a:stretch/>
        </p:blipFill>
        <p:spPr>
          <a:xfrm>
            <a:off x="685800" y="5943600"/>
            <a:ext cx="320760" cy="1587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27"/>
          <p:cNvSpPr/>
          <p:nvPr/>
        </p:nvSpPr>
        <p:spPr>
          <a:xfrm>
            <a:off x="2743200" y="5257800"/>
            <a:ext cx="17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狼  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28" descr="标记点1"/>
          <p:cNvPicPr/>
          <p:nvPr/>
        </p:nvPicPr>
        <p:blipFill>
          <a:blip r:embed="rId12"/>
          <a:stretch/>
        </p:blipFill>
        <p:spPr>
          <a:xfrm>
            <a:off x="5715000" y="4572000"/>
            <a:ext cx="320760" cy="158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9" descr="标记点1"/>
          <p:cNvPicPr/>
          <p:nvPr/>
        </p:nvPicPr>
        <p:blipFill>
          <a:blip r:embed="rId13"/>
          <a:stretch/>
        </p:blipFill>
        <p:spPr>
          <a:xfrm>
            <a:off x="3733920" y="5943600"/>
            <a:ext cx="320400" cy="15876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0"/>
          <p:cNvSpPr/>
          <p:nvPr/>
        </p:nvSpPr>
        <p:spPr>
          <a:xfrm>
            <a:off x="4724280" y="5257800"/>
            <a:ext cx="17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簌  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31" descr="标记点1"/>
          <p:cNvPicPr/>
          <p:nvPr/>
        </p:nvPicPr>
        <p:blipFill>
          <a:blip r:embed="rId14"/>
          <a:stretch/>
        </p:blipFill>
        <p:spPr>
          <a:xfrm>
            <a:off x="4952880" y="5943600"/>
            <a:ext cx="320760" cy="1587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32"/>
          <p:cNvSpPr/>
          <p:nvPr/>
        </p:nvSpPr>
        <p:spPr>
          <a:xfrm>
            <a:off x="7315200" y="51814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33" descr="标记点1"/>
          <p:cNvPicPr/>
          <p:nvPr/>
        </p:nvPicPr>
        <p:blipFill>
          <a:blip r:embed="rId15"/>
          <a:stretch/>
        </p:blipFill>
        <p:spPr>
          <a:xfrm>
            <a:off x="7543800" y="5867280"/>
            <a:ext cx="320760" cy="158760"/>
          </a:xfrm>
          <a:prstGeom prst="rect">
            <a:avLst/>
          </a:prstGeom>
          <a:ln w="0">
            <a:noFill/>
          </a:ln>
        </p:spPr>
      </p:pic>
      <p:grpSp>
        <p:nvGrpSpPr>
          <p:cNvPr id="490" name="Group 34"/>
          <p:cNvGrpSpPr/>
          <p:nvPr/>
        </p:nvGrpSpPr>
        <p:grpSpPr>
          <a:xfrm>
            <a:off x="228600" y="1828800"/>
            <a:ext cx="8534520" cy="3598920"/>
            <a:chOff x="228600" y="1828800"/>
            <a:chExt cx="8534520" cy="3598920"/>
          </a:xfrm>
        </p:grpSpPr>
        <p:sp>
          <p:nvSpPr>
            <p:cNvPr id="491" name="Text Box 35"/>
            <p:cNvSpPr/>
            <p:nvPr/>
          </p:nvSpPr>
          <p:spPr>
            <a:xfrm>
              <a:off x="1219320" y="182880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36"/>
            <p:cNvSpPr/>
            <p:nvPr/>
          </p:nvSpPr>
          <p:spPr>
            <a:xfrm>
              <a:off x="3124080" y="182880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ā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37"/>
            <p:cNvSpPr/>
            <p:nvPr/>
          </p:nvSpPr>
          <p:spPr>
            <a:xfrm>
              <a:off x="4343400" y="182880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hóu  ch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38"/>
            <p:cNvSpPr/>
            <p:nvPr/>
          </p:nvSpPr>
          <p:spPr>
            <a:xfrm>
              <a:off x="6858000" y="182880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9"/>
            <p:cNvSpPr/>
            <p:nvPr/>
          </p:nvSpPr>
          <p:spPr>
            <a:xfrm>
              <a:off x="228600" y="335268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pánshā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40"/>
            <p:cNvSpPr/>
            <p:nvPr/>
          </p:nvSpPr>
          <p:spPr>
            <a:xfrm>
              <a:off x="2743200" y="335268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tu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41"/>
            <p:cNvSpPr/>
            <p:nvPr/>
          </p:nvSpPr>
          <p:spPr>
            <a:xfrm>
              <a:off x="4648320" y="3352680"/>
              <a:ext cx="167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uǒ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42"/>
            <p:cNvSpPr/>
            <p:nvPr/>
          </p:nvSpPr>
          <p:spPr>
            <a:xfrm>
              <a:off x="7467480" y="342900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í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43"/>
            <p:cNvSpPr/>
            <p:nvPr/>
          </p:nvSpPr>
          <p:spPr>
            <a:xfrm>
              <a:off x="304920" y="472428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hā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44"/>
            <p:cNvSpPr/>
            <p:nvPr/>
          </p:nvSpPr>
          <p:spPr>
            <a:xfrm>
              <a:off x="3581280" y="47242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j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45"/>
            <p:cNvSpPr/>
            <p:nvPr/>
          </p:nvSpPr>
          <p:spPr>
            <a:xfrm>
              <a:off x="4800600" y="47242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ù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46"/>
            <p:cNvSpPr/>
            <p:nvPr/>
          </p:nvSpPr>
          <p:spPr>
            <a:xfrm>
              <a:off x="7238880" y="464832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hì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Text Box 48"/>
          <p:cNvSpPr/>
          <p:nvPr/>
        </p:nvSpPr>
        <p:spPr>
          <a:xfrm>
            <a:off x="533520" y="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生字新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49"/>
          <p:cNvSpPr/>
          <p:nvPr/>
        </p:nvSpPr>
        <p:spPr>
          <a:xfrm>
            <a:off x="228600" y="11430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给加点的字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142640" y="28954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隶书"/>
                <a:ea typeface="隶书"/>
              </a:rPr>
              <a:t>快速阅读课文并说说这篇文章记叙的主要事件是什么？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2241360" y="100188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整体感知   理清文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背景音乐 - 神秘园.mp3" descr=""/>
          <p:cNvPicPr/>
          <p:nvPr/>
        </p:nvPicPr>
        <p:blipFill>
          <a:blip r:embed="rId1"/>
          <a:stretch/>
        </p:blipFill>
        <p:spPr>
          <a:xfrm>
            <a:off x="7667640" y="5661000"/>
            <a:ext cx="8730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07106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4473360" y="571680"/>
            <a:ext cx="43419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4646"/>
                </a:solidFill>
                <a:latin typeface="Times New Roman"/>
                <a:ea typeface="黑体"/>
              </a:rPr>
              <a:t>《背影》是</a:t>
            </a:r>
            <a:r>
              <a:rPr b="1" lang="zh-CN" sz="4400" spc="-1" strike="noStrike">
                <a:solidFill>
                  <a:srgbClr val="44b9e8"/>
                </a:solidFill>
                <a:latin typeface="Times New Roman"/>
                <a:ea typeface="黑体"/>
              </a:rPr>
              <a:t>记实</a:t>
            </a:r>
            <a:r>
              <a:rPr b="1" lang="zh-CN" sz="4400" spc="-1" strike="noStrike">
                <a:solidFill>
                  <a:srgbClr val="464646"/>
                </a:solidFill>
                <a:latin typeface="Times New Roman"/>
                <a:ea typeface="黑体"/>
              </a:rPr>
              <a:t>散文，写于</a:t>
            </a:r>
            <a:r>
              <a:rPr b="1" lang="zh-CN" sz="4400" spc="-1" strike="noStrike">
                <a:solidFill>
                  <a:srgbClr val="464646"/>
                </a:solidFill>
                <a:latin typeface="Times New Roman"/>
                <a:ea typeface="黑体"/>
              </a:rPr>
              <a:t>1925</a:t>
            </a:r>
            <a:r>
              <a:rPr b="1" lang="zh-CN" sz="4400" spc="-1" strike="noStrike">
                <a:solidFill>
                  <a:srgbClr val="464646"/>
                </a:solidFill>
                <a:latin typeface="Times New Roman"/>
                <a:ea typeface="黑体"/>
              </a:rPr>
              <a:t>年</a:t>
            </a:r>
            <a:r>
              <a:rPr b="1" lang="zh-CN" sz="4400" spc="-1" strike="noStrike">
                <a:solidFill>
                  <a:srgbClr val="464646"/>
                </a:solidFill>
                <a:latin typeface="黑体"/>
                <a:ea typeface="黑体"/>
              </a:rPr>
              <a:t>。作者曾说：</a:t>
            </a:r>
            <a:r>
              <a:rPr b="1" lang="zh-CN" sz="4400" spc="-1" strike="noStrike">
                <a:solidFill>
                  <a:srgbClr val="464646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464646"/>
                </a:solidFill>
                <a:latin typeface="黑体"/>
                <a:ea typeface="黑体"/>
              </a:rPr>
              <a:t>我写</a:t>
            </a:r>
            <a:r>
              <a:rPr b="1" lang="zh-CN" sz="4400" spc="-1" strike="noStrike">
                <a:solidFill>
                  <a:srgbClr val="464646"/>
                </a:solidFill>
                <a:latin typeface="Times New Roman"/>
                <a:ea typeface="黑体"/>
              </a:rPr>
              <a:t>《背影》，就因为文中所引的父亲的来信那句话</a:t>
            </a:r>
            <a:r>
              <a:rPr b="1" lang="zh-CN" sz="4400" spc="-1" strike="noStrike">
                <a:solidFill>
                  <a:srgbClr val="464646"/>
                </a:solidFill>
                <a:latin typeface="黑体"/>
                <a:ea typeface="黑体"/>
              </a:rPr>
              <a:t>。当时读了父亲的信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4646"/>
                </a:solidFill>
                <a:latin typeface="黑体"/>
                <a:ea typeface="黑体"/>
              </a:rPr>
              <a:t>真是泪如泉涌。我父亲待我的许多好处，特别是</a:t>
            </a:r>
            <a:r>
              <a:rPr b="1" lang="zh-CN" sz="4400" spc="-1" strike="noStrike">
                <a:solidFill>
                  <a:srgbClr val="464646"/>
                </a:solidFill>
                <a:latin typeface="Times New Roman"/>
                <a:ea typeface="黑体"/>
              </a:rPr>
              <a:t>《背影》里所叙述的那一回，想起来跟眼前一般无二</a:t>
            </a:r>
            <a:r>
              <a:rPr b="1" lang="zh-CN" sz="4400" spc="-1" strike="noStrike">
                <a:solidFill>
                  <a:srgbClr val="464646"/>
                </a:solidFill>
                <a:latin typeface="黑体"/>
                <a:ea typeface="黑体"/>
              </a:rPr>
              <a:t>。我这篇文只是写实，</a:t>
            </a:r>
            <a:r>
              <a:rPr b="1" lang="zh-CN" sz="4400" spc="-1" strike="noStrike">
                <a:solidFill>
                  <a:srgbClr val="464646"/>
                </a:solidFill>
                <a:latin typeface="Times New Roman"/>
                <a:ea typeface="黑体"/>
              </a:rPr>
              <a:t>……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3"/>
          <p:cNvSpPr/>
          <p:nvPr/>
        </p:nvSpPr>
        <p:spPr>
          <a:xfrm>
            <a:off x="533520" y="541008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609480" y="22096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背影在文章中共出现了几次？请从课文中圈画出来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1863360" y="1001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研读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116880" y="441468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2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刻画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望父买橘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3116880" y="51735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3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惜别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父子分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3116880" y="593244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4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再现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别后怀念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3116880" y="365760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1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惦记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思念父亲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矩形 1" descr=""/>
          <p:cNvPicPr/>
          <p:nvPr/>
        </p:nvPicPr>
        <p:blipFill>
          <a:blip r:embed="rId1"/>
          <a:stretch/>
        </p:blipFill>
        <p:spPr>
          <a:xfrm>
            <a:off x="549360" y="1500120"/>
            <a:ext cx="2475000" cy="3164040"/>
          </a:xfrm>
          <a:prstGeom prst="rect">
            <a:avLst/>
          </a:prstGeom>
          <a:ln w="0">
            <a:noFill/>
          </a:ln>
        </p:spPr>
      </p:pic>
      <p:sp>
        <p:nvSpPr>
          <p:cNvPr id="517" name="TextBox 2"/>
          <p:cNvSpPr/>
          <p:nvPr/>
        </p:nvSpPr>
        <p:spPr>
          <a:xfrm>
            <a:off x="3000240" y="714240"/>
            <a:ext cx="55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看见他戴着黑布小帽，穿着黑布大马褂，深青布棉袍，蹒跚地走到铁道边，慢慢探身下去，尚不大难。可是他穿过铁道 ，要爬上那边月台 ，就不容易了 。他用两手攀着上面 ，两脚再向上缩；肥胖的身子向左微倾 ，显出努力的样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时我看见他的背影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的泪很快地流下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背景音乐 - 神秘园.mp3" descr=""/>
          <p:cNvPicPr/>
          <p:nvPr/>
        </p:nvPicPr>
        <p:blipFill>
          <a:blip r:embed="rId2"/>
          <a:stretch/>
        </p:blipFill>
        <p:spPr>
          <a:xfrm>
            <a:off x="7885080" y="5516640"/>
            <a:ext cx="8730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07106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extBox 1" descr=""/>
          <p:cNvPicPr/>
          <p:nvPr/>
        </p:nvPicPr>
        <p:blipFill>
          <a:blip r:embed="rId1"/>
          <a:stretch/>
        </p:blipFill>
        <p:spPr>
          <a:xfrm>
            <a:off x="938160" y="2279520"/>
            <a:ext cx="77724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戴北北</cp:lastModifiedBy>
  <dcterms:modified xsi:type="dcterms:W3CDTF">2013-11-27T02:20:41Z</dcterms:modified>
  <cp:revision>139</cp:revision>
  <dc:subject/>
  <dc:title>PowerPoint Presentation</dc:title>
</cp:coreProperties>
</file>