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A26B-2A92-482B-980A-B6AC4069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6640" y="371160"/>
            <a:ext cx="76708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149480"/>
            <a:ext cx="80089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869640"/>
            <a:ext cx="80089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44A2-5731-4ABE-8FA9-BF837E17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6640" y="371160"/>
            <a:ext cx="76708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149480"/>
            <a:ext cx="3908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149480"/>
            <a:ext cx="3908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869640"/>
            <a:ext cx="3908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3869640"/>
            <a:ext cx="3908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7DA0-7EC1-4D1E-825A-CBEB692D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6640" y="371160"/>
            <a:ext cx="76708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149480"/>
            <a:ext cx="2578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4200" y="1149480"/>
            <a:ext cx="2578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2120" y="1149480"/>
            <a:ext cx="2578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869640"/>
            <a:ext cx="2578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4200" y="3869640"/>
            <a:ext cx="2578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2120" y="3869640"/>
            <a:ext cx="2578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F8D9-4AB2-4F7A-A902-7E566518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477A-369E-4D53-93E4-9E280C1E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6640" y="371160"/>
            <a:ext cx="76708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149480"/>
            <a:ext cx="8008920" cy="52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2589-CE23-4188-944E-FF3D4F94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6640" y="371160"/>
            <a:ext cx="76708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149480"/>
            <a:ext cx="80089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F655-09AD-4D24-B5D4-4F6531E8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6640" y="371160"/>
            <a:ext cx="76708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149480"/>
            <a:ext cx="39081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149480"/>
            <a:ext cx="39081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C814-4540-4EC0-97AF-B3B3240D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66640" y="371160"/>
            <a:ext cx="76708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AE31-6597-42DB-9E20-B287DE96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66640" y="371160"/>
            <a:ext cx="767088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8010-E3E9-43BF-8CB8-B2987B2D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6640" y="371160"/>
            <a:ext cx="76708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149480"/>
            <a:ext cx="3908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149480"/>
            <a:ext cx="39081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869640"/>
            <a:ext cx="3908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7703-02D1-4B2B-8839-7B2C7BEB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6640" y="371160"/>
            <a:ext cx="76708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149480"/>
            <a:ext cx="8008920" cy="52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C3EF-42B8-4383-B5D2-14D496BA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6640" y="371160"/>
            <a:ext cx="76708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149480"/>
            <a:ext cx="39081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149480"/>
            <a:ext cx="3908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3869640"/>
            <a:ext cx="3908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717E-8BAD-4925-B483-6AA4F405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66640" y="371160"/>
            <a:ext cx="76708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149480"/>
            <a:ext cx="3908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149480"/>
            <a:ext cx="3908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869640"/>
            <a:ext cx="80089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43BD-2E34-4BC9-BB1E-A1689B84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66640" y="371160"/>
            <a:ext cx="76708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149480"/>
            <a:ext cx="80089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869640"/>
            <a:ext cx="80089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4442-6D84-4638-BC72-08E79517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6640" y="371160"/>
            <a:ext cx="76708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149480"/>
            <a:ext cx="3908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149480"/>
            <a:ext cx="3908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869640"/>
            <a:ext cx="3908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3869640"/>
            <a:ext cx="3908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3DC2-3A2F-4199-8CFE-D1CCA6A8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66640" y="371160"/>
            <a:ext cx="76708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149480"/>
            <a:ext cx="2578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4200" y="1149480"/>
            <a:ext cx="2578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2120" y="1149480"/>
            <a:ext cx="2578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869640"/>
            <a:ext cx="2578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4200" y="3869640"/>
            <a:ext cx="2578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2120" y="3869640"/>
            <a:ext cx="2578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75E8-B63C-4913-8226-A78F468A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6640" y="371160"/>
            <a:ext cx="76708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149480"/>
            <a:ext cx="80089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24D1-AEE2-4DEA-8084-D8EFA7A5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6640" y="371160"/>
            <a:ext cx="76708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149480"/>
            <a:ext cx="39081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149480"/>
            <a:ext cx="39081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3201-F12A-474E-B398-D9EEDCBA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6640" y="371160"/>
            <a:ext cx="76708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377F-74A5-43FD-8587-0AC37479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66640" y="371160"/>
            <a:ext cx="767088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0068-0FC7-49B2-B459-CADF22BD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6640" y="371160"/>
            <a:ext cx="76708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149480"/>
            <a:ext cx="3908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149480"/>
            <a:ext cx="39081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869640"/>
            <a:ext cx="3908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5E6-F64A-46EA-A62F-461F16D4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6640" y="371160"/>
            <a:ext cx="76708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149480"/>
            <a:ext cx="39081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149480"/>
            <a:ext cx="3908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3869640"/>
            <a:ext cx="3908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5A01-1B53-44A9-A392-966B0D23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6640" y="371160"/>
            <a:ext cx="76708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149480"/>
            <a:ext cx="3908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149480"/>
            <a:ext cx="3908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869640"/>
            <a:ext cx="80089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393B-F884-4DA4-9D93-BE6D3BDC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1ab8d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66280" y="1149480"/>
            <a:ext cx="80089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57120" indent="-3571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28200" y="640404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e3e3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e3e3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029040" y="640404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e3e3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e3e3e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457680" y="640404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e3e3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52E1-E632-4641-9BCB-DDF85B2AB5FB}" type="slidenum">
              <a:rPr b="0" lang="zh-CN" sz="1200" spc="-1" strike="noStrike">
                <a:solidFill>
                  <a:srgbClr val="3e3e3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566640" y="371160"/>
            <a:ext cx="76708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e3e3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e3e3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e3e3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e3e3e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e3e3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A79C-CAF3-43B5-B927-7F88B493078B}" type="slidenum">
              <a:rPr b="0" lang="zh-CN" sz="1200" spc="-1" strike="noStrike">
                <a:solidFill>
                  <a:srgbClr val="3e3e3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47840" y="754200"/>
            <a:ext cx="64483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empus Sans ITC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indent="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buClr>
                <a:srgbClr val="30303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03030"/>
              </a:solidFill>
              <a:latin typeface="Calibri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30303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303030"/>
              </a:solidFill>
              <a:latin typeface="Calibri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30303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30303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30303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30303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7840" y="754200"/>
            <a:ext cx="64483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48920" y="1849320"/>
            <a:ext cx="6437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66640" y="371160"/>
            <a:ext cx="76708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149480"/>
            <a:ext cx="80089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2:52:00Z</dcterms:created>
  <dc:creator>admin</dc:creator>
  <dc:description/>
  <dc:language>en-US</dc:language>
  <cp:lastModifiedBy>adminh</cp:lastModifiedBy>
  <dcterms:modified xsi:type="dcterms:W3CDTF">2015-06-17T08:37:42Z</dcterms:modified>
  <cp:revision>115</cp:revision>
  <dc:subject/>
  <dc:title>fds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35416</vt:lpwstr>
  </property>
  <property fmtid="{D5CDD505-2E9C-101B-9397-08002B2CF9AE}" pid="3" name="name">
    <vt:lpwstr>A000120150128A08PWBG.ppt</vt:lpwstr>
  </property>
</Properties>
</file>