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D39-7001-42F3-A819-D6992FD3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E05-F887-4E1B-8BAA-2F60E90A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76D-87E7-4EFF-B779-20B95F6B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34B0-C3F4-4296-8A37-36827465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2FB8-6C0C-4C30-924B-95F488AC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57A4-1616-4097-8C44-63F833A6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D07A-745A-4C15-AEF2-BCC4E443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985C-374D-414C-8158-C369BD7F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2D54-0701-4C83-821E-593F5726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D0FB-36DD-4E47-BB89-3C376058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EB69-92FF-4633-AD02-F1286F5C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CED1-DF27-49AE-BA9C-75145D91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A7A9-C819-4332-9816-8E10FA9D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889C-5D45-4F02-9FCE-EB5FE900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9D02-6BC0-4665-AC31-FCD67708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3F06-80D9-4FEC-A0DE-2268D0ED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BA94-4F64-49BE-888A-EDCD5A1D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72D-AB06-412E-8E3F-10D4035A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27DE-85ED-495F-9E6C-22E62857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BB0-6EB4-4321-BA6A-57C2491C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6BD-D05E-455B-AD68-A689D17D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857-BA93-4BE2-946E-DB599B8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2C0-280E-4AC2-A678-30AC1D06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37E-4DC4-44EE-B45F-1377D7D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029A-C72D-45B8-ABE8-115AF20AC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Picture 3" descr="框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4" descr="花4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5" descr="花3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6" descr="葉子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AA23-BAC7-4CE4-8F30-4A630BF04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单身派对</a:t>
            </a:r>
            <a:endParaRPr b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预算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圣诞装饰（圣诞树，灯具等）共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精美礼品共需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提供的免费晚餐需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xxx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总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xxx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元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谢谢观看</a:t>
            </a:r>
            <a:r>
              <a:rPr b="1" lang="zh-CN" sz="8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下次再见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序言：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过圣诞节，我们都会希望和自己生命中最重要的另一半度过，但并不是每个人那么幸运，都找到了自己的另一半，有很多的人还停留在单身的队伍里。         所以，我们可以在圣诞节前夕通过宣传（发表新闻发布会、召开记者招待会、）让公众知道，我们酒店会在那一天为单身的人单身</a:t>
            </a:r>
            <a:r>
              <a:rPr b="1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party</a:t>
            </a: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希望他们提前报名参加。提前报名的，我们会为他们打折，给他们一些小礼品。让他们知道参加我们的活动可以度过一个不一样的圣诞节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形式：举办单身</a:t>
            </a: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Part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活动达到的目标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第一，让这些单身的人，在这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ty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中得到快乐，即使只有片刻的欢愉，让他们度过一个愉快的圣诞节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第二，让他们对我们酒店产生亲切感和满足感，让我们酒店成为他们以后选择酒店的不二选择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第三，在圣诞节选择一个与其他酒店不一样的方案，另辟蹊径。减少竞争对手，增加成功率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第四，提高我们的知名度和美誉度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活动的方法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以举办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arty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的形式，在节目中找到自己的朋友、知己或恋人，让他们在以后的圣诞节里不再是孤孤单单的一个人。让他们了解到世界上不止他一个人孤单。还有和他志趣相投的人，让他们在那一天抛弃无奈的自己，过快乐、轻松的一天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99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79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9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99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活动的内容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当所有参加这个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arty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成员都进入会场大厅的时候。我们就准备就绪。先给五分钟，让他们互相认识一下。然后我们就说明我们的活动规则：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们会把大厅的灯关掉十分钟，在这十分钟之内，让他们凭着自己的感觉找到想要找到的人（不仅限于异性）；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开灯之后，我们还可以提供一次机会，可以互相交换选择对象。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0948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对象选择完毕之后，每组之间可以相互比拼才艺。我们会为最有默契和最有和成功率最高一组发送我们的贵宾卡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为每组提供座位，让他们不受打扰，畅所欲言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提供优质的晚餐，让他们在心情愉悦的情况下，吃到优质的晚餐，肯定会让他们留下深刻的印象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临走时每人送一个精美礼品，并送上美好祝福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523880" y="1371600"/>
            <a:ext cx="7086600" cy="31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动时间：圣诞节  晚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: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: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动场地：酒店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品：灯光道具，餐桌，烛光，话筒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0-26T07:30:2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