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8C6-BF9B-4639-A59A-471A5B56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CC0-56D7-4698-983E-B25602C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403-97C0-42CD-977A-CC5C926D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C40-6C8A-45DB-9EE6-CCF2AC69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5E0-89C0-48DB-B657-6C283EA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FA4-2A8E-4D22-B7C5-88CCBEC1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890-E190-4844-8CF2-DFDEBCDF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4DB-1B1A-445B-970B-6047235D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FBF-EF98-45BF-B8D5-26C55A61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0AD-F499-4FF4-AE97-FC78540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2FC-85E2-450A-9FCA-8209C20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5AB-B386-463E-86A5-721A7ED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BCC-4B89-406E-9CD1-6C2B000D20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71760" y="18572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643040" y="26431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04T08:41:42Z</dcterms:modified>
  <cp:revision>75</cp:revision>
  <dc:subject/>
  <dc:title>幻灯片 1</dc:title>
</cp:coreProperties>
</file>