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0BC-9A50-4071-B196-EBF0E57C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524-11F8-4B25-B37D-59C229D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A66-A38B-4309-B2CF-A1ADAE41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B27-F6A6-4634-BE61-040DF085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B82-42D1-48AB-A1AC-16BDA7E9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366-C5C0-4C09-9B1C-925980AC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A5F-925A-476E-946E-63E440AC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662-1F54-4924-A145-35D1A7FC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3C4-D8A7-425C-90D6-9719918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BE3-220F-4A21-9F79-447D248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BCF-55BE-4299-BD1C-3B415C9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92B-D9CE-43A3-9A39-EC94EEA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621-B9A2-4C0F-893A-C53ACB6673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57160" y="1700280"/>
            <a:ext cx="5286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28800" y="2357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手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1000080" y="2357280"/>
            <a:ext cx="3214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783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498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11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783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83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926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2836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926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283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97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569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926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569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712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855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2568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568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783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6-27T01:51:55Z</dcterms:modified>
  <cp:revision>1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