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891-072D-4D29-A5F5-BE0D3FE1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A67-C922-4A48-8BAA-7EC1EA5C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7D72-F6BE-40D1-9D8E-3862165D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342-1B2F-4BB6-ADD8-FE143D21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7ADD-29D5-4EDC-9EE9-11F9630D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43F2-5969-478E-8FE1-171DF009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FD20-8968-4421-8C5E-79056BD0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B060-BAEA-4E64-BB0F-2C7CA700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1BE0-ACF0-4BB4-AFF2-25F3F9E8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5C7E-899E-4551-BC48-30D4B18B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DBAF-3F4B-4488-AA51-0D97CD48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87B-7D63-44EA-88E8-07B63BB2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6047-DFF4-4A28-87E9-C2438F48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E03A-D0E5-4FE7-998B-19966274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90C0-62B0-491B-A702-F30AE1A7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EEF6-5007-4742-A9AF-28BFFAEB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998C-9E30-4190-AE76-7959E724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D2A-5F8B-45C9-BB01-40A41CA1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DAA1-90B8-4F6D-8D5D-15375ACE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4AB-FDEC-4784-9404-1B69241D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B21B-F1C2-446A-9392-E5AC385F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E17B-096F-4BFD-904A-48D83F9C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56D-B192-4706-A6CC-C6046226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B51-77D9-4F8F-8238-DDE6F0B9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72CF-20AC-4B36-9C2C-7D825143A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8"/>
          <p:cNvGraphicFramePr/>
          <p:nvPr/>
        </p:nvGraphicFramePr>
        <p:xfrm>
          <a:off x="0" y="-1440"/>
          <a:ext cx="99061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44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AA34-662C-4376-9DC7-16F1971C9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9"/>
          <p:cNvSpPr/>
          <p:nvPr/>
        </p:nvSpPr>
        <p:spPr>
          <a:xfrm>
            <a:off x="-25560" y="6093000"/>
            <a:ext cx="7621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굴림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矩形 31"/>
          <p:cNvSpPr/>
          <p:nvPr/>
        </p:nvSpPr>
        <p:spPr>
          <a:xfrm>
            <a:off x="2762280" y="2852640"/>
            <a:ext cx="4158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597a0"/>
                </a:solidFill>
                <a:latin typeface="华文隶书"/>
                <a:ea typeface="华文隶书"/>
              </a:rPr>
              <a:t>淡雅蓝色幻灯片背景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5:05:33Z</dcterms:created>
  <dc:creator>강은정</dc:creator>
  <dc:description/>
  <dc:language>en-US</dc:language>
  <cp:lastModifiedBy>Sky123.Org</cp:lastModifiedBy>
  <dcterms:modified xsi:type="dcterms:W3CDTF">2015-07-19T03:54:33Z</dcterms:modified>
  <cp:revision>20</cp:revision>
  <dc:subject/>
  <dc:title>슬라이드 1</dc:title>
</cp:coreProperties>
</file>