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E5349-ABBA-4CE9-A10E-ED7AA4282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AE9E0-5A98-402F-9BA2-FB672CB68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E4D97-C138-4241-AF48-2281F2081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22FE7-5B13-4061-B77B-59F21025D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C27BA-49A8-49CA-9A79-F7C630D25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174BB-6504-4BA2-98A7-6B6A93659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3E91E-EE1C-4C1F-A70E-DE2F64624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DD36C-C288-4C72-AFB2-683D0663B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FE188-6836-4CF3-9CE4-1BBA8968C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D4C40-1A2F-4C12-B75C-65954E65D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72EE1-50D9-449F-850C-111D849BF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1BA4A-AFF6-466E-9B97-730608F58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061A1-7996-4177-BBAC-B71BB6083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925E6-C586-4B00-AC59-1A91380B9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BB4EE-647C-4ED9-9078-7E3FF1EFB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C41BD8-8170-4CAF-A80B-CD38424E3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F2C28-17D5-4A32-9CD4-DAD73B71E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EE497-6BA0-46B3-B3D7-2B38E20D0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BD1D8-D4BF-428F-9E13-F2073F08A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E467F-806D-4E5B-A77B-BAEEAAFD2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4D98A-D89E-4626-8647-038DEC0CF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FEF6-AB26-42A4-A0A7-6E4757BBE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3746-EE46-44F2-8A7E-8CF1EAC97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F9939-9DF7-4E8B-810A-1E8F01E5E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BC98-C1FB-4F72-85CB-95393C6693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D510-2F6F-4378-9DA4-AEF28AE089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380520"/>
            <a:ext cx="54864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宋体"/>
              </a:rPr>
              <a:t>Presentation Title</a:t>
            </a:r>
            <a:endParaRPr b="1" lang="en-US" sz="3600" spc="-1" strike="noStrike">
              <a:solidFill>
                <a:srgbClr val="000000"/>
              </a:solidFill>
              <a:latin typeface="Tahoma"/>
            </a:endParaRPr>
          </a:p>
        </p:txBody>
      </p:sp>
      <p:sp>
        <p:nvSpPr>
          <p:cNvPr id="83" name="PlaceHolder 2"/>
          <p:cNvSpPr>
            <a:spLocks noGrp="1"/>
          </p:cNvSpPr>
          <p:nvPr>
            <p:ph type="subTitle"/>
          </p:nvPr>
        </p:nvSpPr>
        <p:spPr>
          <a:xfrm>
            <a:off x="1828800" y="5714640"/>
            <a:ext cx="5029200" cy="609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ea typeface="宋体"/>
              </a:rPr>
              <a:t>Presentation Sub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lide Master</a:t>
            </a:r>
            <a:endParaRPr b="1" lang="en-US" sz="3200" spc="-1" strike="noStrike">
              <a:solidFill>
                <a:srgbClr val="000000"/>
              </a:solidFill>
              <a:latin typeface="Tahoma"/>
            </a:endParaRPr>
          </a:p>
        </p:txBody>
      </p:sp>
      <p:sp>
        <p:nvSpPr>
          <p:cNvPr id="85" name=""/>
          <p:cNvSpPr txBox="1"/>
          <p:nvPr/>
        </p:nvSpPr>
        <p:spPr>
          <a:xfrm>
            <a:off x="457200" y="2895120"/>
            <a:ext cx="8229600" cy="3962520"/>
          </a:xfrm>
          <a:prstGeom prst="rect">
            <a:avLst/>
          </a:prstGeom>
          <a:noFill/>
          <a:ln w="0">
            <a:noFill/>
          </a:ln>
        </p:spPr>
        <p:txBody>
          <a:bodyPr lIns="90000" rIns="90000" tIns="46800" bIns="46800"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int Master</a:t>
            </a:r>
            <a:endParaRPr b="1" lang="en-US" sz="3200" spc="-1" strike="noStrike">
              <a:solidFill>
                <a:srgbClr val="000000"/>
              </a:solidFill>
              <a:latin typeface="Tahoma"/>
            </a:endParaRPr>
          </a:p>
        </p:txBody>
      </p:sp>
      <p:sp>
        <p:nvSpPr>
          <p:cNvPr id="87" name=""/>
          <p:cNvSpPr txBox="1"/>
          <p:nvPr/>
        </p:nvSpPr>
        <p:spPr>
          <a:xfrm>
            <a:off x="1980720" y="1600200"/>
            <a:ext cx="670572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pc</cp:lastModifiedBy>
  <dcterms:modified xsi:type="dcterms:W3CDTF">2015-07-06T07:48:41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