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gif" ContentType="image/gif"/>
  <Override PartName="/ppt/media/image6.jpeg" ContentType="image/jpeg"/>
  <Override PartName="/ppt/media/image8.png" ContentType="image/png"/>
  <Override PartName="/ppt/media/image11.jpeg" ContentType="image/jpeg"/>
  <Override PartName="/ppt/media/image5.jpeg" ContentType="image/jpeg"/>
  <Override PartName="/ppt/media/image10.jpeg" ContentType="image/jpeg"/>
  <Override PartName="/ppt/media/image7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1870-BD88-48A4-843F-24EFF3A8F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63990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4200" y="4109400"/>
            <a:ext cx="63990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EE24-65FA-4942-8D36-225637372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563440" y="190476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4200" y="410940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563440" y="410940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CE97-D1FC-456A-9BCD-9CCAC1EE9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20602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447800" y="1904760"/>
            <a:ext cx="20602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11400" y="1904760"/>
            <a:ext cx="20602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4200" y="4109400"/>
            <a:ext cx="20602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447800" y="4109400"/>
            <a:ext cx="20602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11400" y="4109400"/>
            <a:ext cx="20602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3867-6FCD-4DBE-AA8F-A110146AD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3C989-0701-4F2C-B22C-BFFB2F390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284200" y="1904760"/>
            <a:ext cx="639900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42598-C999-4AAC-A40F-AB7AE2AA2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63990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7C835-60D3-46AC-8BA8-358B048F4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312264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563440" y="1904760"/>
            <a:ext cx="312264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D2FF7-CFF7-44E8-A8FA-928196144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E58F8-3174-4901-A69B-BFCF1DC52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284200" y="533520"/>
            <a:ext cx="63990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74893-300E-4808-9768-7377229D3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63440" y="1904760"/>
            <a:ext cx="312264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2284200" y="410940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2532B-F980-4782-8AA7-A983C2704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4200" y="1904760"/>
            <a:ext cx="639900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77C0-4BD9-476C-AF28-CD75DB784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312264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563440" y="190476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563440" y="410940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4C1F6-CC49-44AC-AC78-066AA7D04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563440" y="190476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284200" y="4109400"/>
            <a:ext cx="63990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84EED-5D84-4514-A514-CFB048DD6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63990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2284200" y="4109400"/>
            <a:ext cx="63990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C338F-952A-495E-899D-0B2D034BA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563440" y="190476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284200" y="410940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563440" y="410940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A5332-7E66-47BF-B857-33606B9D3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20602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447800" y="1904760"/>
            <a:ext cx="20602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611400" y="1904760"/>
            <a:ext cx="20602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2284200" y="4109400"/>
            <a:ext cx="20602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447800" y="4109400"/>
            <a:ext cx="20602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611400" y="4109400"/>
            <a:ext cx="20602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D7C8F-7D48-45A8-9BBC-69085278C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63990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FDD8-8459-42D4-AD20-25B82C80C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312264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563440" y="1904760"/>
            <a:ext cx="312264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E4DB-3D01-4394-8BB1-8100194A8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CAF3-0C05-4954-A946-089D14D19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4200" y="533520"/>
            <a:ext cx="63990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CACE-44FA-4B00-A0B7-CE8773429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563440" y="1904760"/>
            <a:ext cx="312264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4200" y="410940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C889-BC62-4405-8E43-1E4FDCD04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312264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563440" y="190476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563440" y="410940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77BE-25C6-422F-BF1C-BE1253077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63440" y="190476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4200" y="4109400"/>
            <a:ext cx="63990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618B-D0E9-43DF-B8A5-CEE4AE120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4200" y="1904760"/>
            <a:ext cx="63990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4881F-0D56-4E68-8F88-CA027D9AA7B6}" type="slidenum">
              <a:rPr b="0" lang="zh-CN" sz="12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0" y="3428640"/>
            <a:ext cx="6399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宋体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563B8-2B6D-46B9-84EA-3B763055B2DF}" type="slidenum">
              <a:rPr b="0" lang="zh-CN" sz="12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4.gi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4.gif"/><Relationship Id="rId6" Type="http://schemas.openxmlformats.org/officeDocument/2006/relationships/image" Target="../media/image11.jpeg"/><Relationship Id="rId7" Type="http://schemas.openxmlformats.org/officeDocument/2006/relationships/image" Target="../media/image9.jpeg"/><Relationship Id="rId8" Type="http://schemas.openxmlformats.org/officeDocument/2006/relationships/image" Target="../media/image8.pn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0" y="404640"/>
            <a:ext cx="7416720" cy="251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楷体"/>
              </a:rPr>
              <a:t>****</a:t>
            </a:r>
            <a:r>
              <a:rPr b="1" lang="zh-C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楷体"/>
              </a:rPr>
              <a:t>大学欢迎你！！！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楷体"/>
              <a:ea typeface="楷体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042920" y="2349360"/>
            <a:ext cx="6480360" cy="19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楷体"/>
              </a:rPr>
              <a:t>经管学院欢迎你！！！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楷体"/>
              <a:ea typeface="楷体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2303640" y="3860640"/>
            <a:ext cx="684036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楷体"/>
              </a:rPr>
              <a:t>会计</a:t>
            </a: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楷体"/>
              </a:rPr>
              <a:t>11</a:t>
            </a:r>
            <a:r>
              <a:rPr b="1" lang="zh-C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楷体"/>
              </a:rPr>
              <a:t>届（</a:t>
            </a: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楷体"/>
              </a:rPr>
              <a:t>2</a:t>
            </a:r>
            <a:r>
              <a:rPr b="1" lang="zh-C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楷体"/>
              </a:rPr>
              <a:t>）班欢迎你！！！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楷体"/>
              <a:ea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395280" y="692280"/>
            <a:ext cx="8137440" cy="5294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258920" y="2060640"/>
            <a:ext cx="5761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547640" y="1557360"/>
            <a:ext cx="5905800" cy="19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NCUT11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届（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）班同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无论你昨天多么辉煌，还是你昨天被不辛缠绕，从现在开始你们都将在同一起跑线上。      经历了高考你们，我相信你们各各都是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勇士！！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971640" y="981000"/>
            <a:ext cx="511308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9360">
                  <a:solidFill>
                    <a:srgbClr val="00ffff"/>
                  </a:solidFill>
                  <a:prstDash val="lgDash"/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楷体"/>
              </a:rPr>
              <a:t>我要让自己充实！！！</a:t>
            </a:r>
            <a:endParaRPr b="1" i="1" lang="en-US" sz="1800" spc="1" strike="noStrike">
              <a:ln w="9360">
                <a:solidFill>
                  <a:srgbClr val="00ffff"/>
                </a:solidFill>
                <a:prstDash val="lgDash"/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楷体"/>
              <a:ea typeface="楷体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 rot="7236600">
            <a:off x="5652720" y="2131920"/>
            <a:ext cx="2376360" cy="15130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 rot="11820600">
            <a:off x="6084720" y="4365720"/>
            <a:ext cx="2376720" cy="15127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 rot="18647400">
            <a:off x="3708360" y="4653000"/>
            <a:ext cx="2376720" cy="15127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5"/>
          <a:stretch/>
        </p:blipFill>
        <p:spPr>
          <a:xfrm rot="1382400">
            <a:off x="3564000" y="2781360"/>
            <a:ext cx="2376360" cy="15127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6"/>
          <a:stretch/>
        </p:blipFill>
        <p:spPr>
          <a:xfrm>
            <a:off x="755640" y="3141720"/>
            <a:ext cx="1944720" cy="3456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4211640" y="299736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迷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1531800">
            <a:off x="4433400" y="5041800"/>
            <a:ext cx="552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堕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588000" y="2349360"/>
            <a:ext cx="57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游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51600">
            <a:off x="6663600" y="4798800"/>
            <a:ext cx="127764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虚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050920" y="2565360"/>
            <a:ext cx="1584360" cy="100800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我要充实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2700360" y="189000"/>
            <a:ext cx="5327640" cy="64800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7093080" y="4797360"/>
            <a:ext cx="1798560" cy="16938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7596360" y="5373720"/>
            <a:ext cx="8632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ff0000"/>
                  </a:solidFill>
                  <a:prstDash val="lgDash"/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"/>
              </a:rPr>
              <a:t>高考</a:t>
            </a:r>
            <a:endParaRPr b="1" lang="en-US" sz="2400" spc="1" strike="noStrike">
              <a:ln w="19080">
                <a:solidFill>
                  <a:srgbClr val="ff0000"/>
                </a:solidFill>
                <a:prstDash val="lgDash"/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楷体"/>
              <a:ea typeface="楷体"/>
            </a:endParaRPr>
          </a:p>
        </p:txBody>
      </p:sp>
      <p:sp>
        <p:nvSpPr>
          <p:cNvPr id="101" name=""/>
          <p:cNvSpPr/>
          <p:nvPr/>
        </p:nvSpPr>
        <p:spPr>
          <a:xfrm>
            <a:off x="7308720" y="260280"/>
            <a:ext cx="1619280" cy="122400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"/>
              </a:rPr>
              <a:t>高考不算啥！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-97560" y="836640"/>
            <a:ext cx="239796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珍惜今天才是王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明天还没到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昨天已成为历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 rot="21466200">
            <a:off x="746280" y="4149720"/>
            <a:ext cx="5761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"/>
              </a:rPr>
              <a:t>时间有三种步伐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"/>
              </a:rPr>
              <a:t>未来姗姗来迟，现在象箭一样飞逝，过去永远静止不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rot="273000">
            <a:off x="1446480" y="1126800"/>
            <a:ext cx="62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如果青春的时光在闲散中度过，那么回忆岁月将会是一场凄凉的悲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0" y="2852640"/>
            <a:ext cx="3348000" cy="107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-34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9360">
                  <a:solidFill>
                    <a:srgbClr val="9933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楷体"/>
              </a:rPr>
              <a:t>时间 时间 时间</a:t>
            </a:r>
            <a:endParaRPr b="1" lang="en-US" sz="5400" spc="1" strike="noStrike">
              <a:ln w="9360">
                <a:solidFill>
                  <a:srgbClr val="99330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楷体"/>
              <a:ea typeface="楷体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3851280" y="1844640"/>
            <a:ext cx="4319640" cy="3240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5364000" y="1413000"/>
            <a:ext cx="2232360" cy="1079280"/>
          </a:xfrm>
          <a:prstGeom prst="wedgeRoundRectCallout">
            <a:avLst>
              <a:gd name="adj1" fmla="val -43740"/>
              <a:gd name="adj2" fmla="val 66027"/>
              <a:gd name="adj3" fmla="val 16667"/>
            </a:avLst>
          </a:prstGeom>
          <a:solidFill>
            <a:srgbClr val="ffffff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时间 你能慢点吗？？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 rot="511200">
            <a:off x="3635280" y="3499920"/>
            <a:ext cx="2009880" cy="28576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 rot="1089600">
            <a:off x="5076360" y="2781360"/>
            <a:ext cx="2089080" cy="30970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 rot="1362600">
            <a:off x="6804000" y="3141720"/>
            <a:ext cx="2160720" cy="31687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 txBox="1"/>
          <p:nvPr/>
        </p:nvSpPr>
        <p:spPr>
          <a:xfrm rot="20788200">
            <a:off x="0" y="907920"/>
            <a:ext cx="720108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339966"/>
                  </a:solidFill>
                  <a:prstDash val="dash"/>
                  <a:miter/>
                </a:ln>
                <a:solidFill>
                  <a:srgbClr val="ff0000"/>
                </a:solidFill>
                <a:latin typeface="楷体"/>
              </a:rPr>
              <a:t>爱惜生命，和危险说拜拜！！！</a:t>
            </a:r>
            <a:endParaRPr b="1" lang="en-US" sz="4000" spc="1" strike="noStrike">
              <a:ln w="9360">
                <a:solidFill>
                  <a:srgbClr val="339966"/>
                </a:solidFill>
                <a:prstDash val="dash"/>
                <a:miter/>
              </a:ln>
              <a:solidFill>
                <a:srgbClr val="ff0000"/>
              </a:solidFill>
              <a:latin typeface="楷体"/>
              <a:ea typeface="楷体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5"/>
          <a:stretch/>
        </p:blipFill>
        <p:spPr>
          <a:xfrm>
            <a:off x="1116000" y="3762360"/>
            <a:ext cx="2017800" cy="30956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835280" y="2637000"/>
            <a:ext cx="1800000" cy="1008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保护好自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6165720"/>
            <a:ext cx="75564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楷体"/>
              </a:rPr>
              <a:t>防骗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楷体"/>
              <a:ea typeface="楷体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-360" y="6093000"/>
            <a:ext cx="1547640" cy="57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防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5661000"/>
            <a:ext cx="1258920" cy="576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防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5157720"/>
            <a:ext cx="971640" cy="576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防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6"/>
          <a:srcRect l="0" t="5346" r="4663" b="13688"/>
          <a:stretch/>
        </p:blipFill>
        <p:spPr>
          <a:xfrm>
            <a:off x="0" y="4149720"/>
            <a:ext cx="971640" cy="10796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0" y="4221000"/>
            <a:ext cx="104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安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0" y="3213000"/>
            <a:ext cx="14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楷体"/>
              </a:rPr>
              <a:t>安全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楷体"/>
              <a:ea typeface="楷体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924360" y="4508640"/>
            <a:ext cx="1008000" cy="81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028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楷体"/>
              </a:rPr>
              <a:t>盗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楷体"/>
              <a:ea typeface="楷体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6000" y="3933720"/>
            <a:ext cx="576360" cy="57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楷体"/>
              </a:rPr>
              <a:t>火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楷体"/>
              <a:ea typeface="楷体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7596360" y="3789360"/>
            <a:ext cx="755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楷体"/>
              </a:rPr>
              <a:t>险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楷体"/>
              <a:ea typeface="楷体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7"/>
          <a:stretch/>
        </p:blipFill>
        <p:spPr>
          <a:xfrm rot="1089600">
            <a:off x="5076360" y="2781360"/>
            <a:ext cx="2089080" cy="30970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 txBox="1"/>
          <p:nvPr/>
        </p:nvSpPr>
        <p:spPr>
          <a:xfrm>
            <a:off x="7596360" y="3789360"/>
            <a:ext cx="755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楷体"/>
              </a:rPr>
              <a:t>险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楷体"/>
              <a:ea typeface="楷体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8"/>
          <a:stretch/>
        </p:blipFill>
        <p:spPr>
          <a:xfrm rot="511200">
            <a:off x="3635280" y="3499920"/>
            <a:ext cx="2009880" cy="28576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9"/>
          <a:stretch/>
        </p:blipFill>
        <p:spPr>
          <a:xfrm rot="1089600">
            <a:off x="5076360" y="2781360"/>
            <a:ext cx="2089080" cy="30970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 txBox="1"/>
          <p:nvPr/>
        </p:nvSpPr>
        <p:spPr>
          <a:xfrm>
            <a:off x="7596360" y="3789360"/>
            <a:ext cx="755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楷体"/>
              </a:rPr>
              <a:t>险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楷体"/>
              <a:ea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5T16:00:43Z</dcterms:created>
  <dc:creator>User</dc:creator>
  <dc:description/>
  <cp:keywords/>
  <dc:language>en-US</dc:language>
  <cp:lastModifiedBy>User</cp:lastModifiedBy>
  <dcterms:modified xsi:type="dcterms:W3CDTF">2011-08-21T10:40:34Z</dcterms:modified>
  <cp:revision>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594422052</vt:lpwstr>
  </property>
</Properties>
</file>