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BCB-7F0F-4189-AC2A-82FD10B6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41F-2240-4B0E-B59D-D6D82679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D62-013D-4305-B8EB-C14D6D63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0C3-C5B1-4159-9756-31CB6205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1F4-37C7-4644-8662-90667451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1BA-2AFF-480D-977B-85D4D3FB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60A-3A0D-4BA9-A7F8-AAA4D5C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769-81CB-4756-BE89-DB40D9BF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46C-3978-4EB8-B0C1-19F36272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1B3-8E05-4053-80D9-EF28013E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E69-A58C-431A-B4D4-85B871C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BE8-E788-4F51-A5E3-71549CD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A119-0BA7-459E-AB88-AFA44FB003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D5A9-3CD2-44FD-BFF4-54DA3DE604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0" t="0" r="10616" b="0"/>
          <a:stretch/>
        </p:blipFill>
        <p:spPr>
          <a:xfrm>
            <a:off x="426960" y="549360"/>
            <a:ext cx="82915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32080" y="1989000"/>
            <a:ext cx="2679840" cy="1260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5"/>
          <p:cNvSpPr/>
          <p:nvPr/>
        </p:nvSpPr>
        <p:spPr>
          <a:xfrm>
            <a:off x="2384640" y="4964040"/>
            <a:ext cx="43747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blog.sina.com.cn/caojiang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2873520" y="2962440"/>
            <a:ext cx="3431880" cy="749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4"/>
          <a:stretch/>
        </p:blipFill>
        <p:spPr>
          <a:xfrm>
            <a:off x="3193920" y="4419720"/>
            <a:ext cx="2756160" cy="74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64C-AB46-4872-A099-B2442602ECF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914400" y="849240"/>
            <a:ext cx="10528200" cy="4424400"/>
            <a:chOff x="-914400" y="849240"/>
            <a:chExt cx="10528200" cy="4424400"/>
          </a:xfrm>
        </p:grpSpPr>
        <p:sp>
          <p:nvSpPr>
            <p:cNvPr id="44" name="矩形 1"/>
            <p:cNvSpPr/>
            <p:nvPr/>
          </p:nvSpPr>
          <p:spPr>
            <a:xfrm>
              <a:off x="-914400" y="2709360"/>
              <a:ext cx="10528200" cy="614520"/>
            </a:xfrm>
            <a:prstGeom prst="rect">
              <a:avLst/>
            </a:prstGeom>
            <a:solidFill>
              <a:srgbClr val="dae5f1"/>
            </a:solidFill>
            <a:ln w="25560">
              <a:solidFill>
                <a:srgbClr val="93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987560" y="2709360"/>
              <a:ext cx="5174280" cy="615240"/>
              <a:chOff x="1987560" y="2709360"/>
              <a:chExt cx="5174280" cy="615240"/>
            </a:xfrm>
          </p:grpSpPr>
          <p:sp>
            <p:nvSpPr>
              <p:cNvPr id="46" name="矩形 2"/>
              <p:cNvSpPr/>
              <p:nvPr/>
            </p:nvSpPr>
            <p:spPr>
              <a:xfrm>
                <a:off x="1987560" y="2709360"/>
                <a:ext cx="134640" cy="61524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21"/>
              <p:cNvSpPr/>
              <p:nvPr/>
            </p:nvSpPr>
            <p:spPr>
              <a:xfrm>
                <a:off x="4507200" y="2709360"/>
                <a:ext cx="134640" cy="61524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矩形 22"/>
              <p:cNvSpPr/>
              <p:nvPr/>
            </p:nvSpPr>
            <p:spPr>
              <a:xfrm>
                <a:off x="7027200" y="2709360"/>
                <a:ext cx="134640" cy="61524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线形标注 1(带边框和强调线) 7"/>
            <p:cNvSpPr/>
            <p:nvPr/>
          </p:nvSpPr>
          <p:spPr>
            <a:xfrm>
              <a:off x="1605240" y="849240"/>
              <a:ext cx="1889640" cy="82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279" y="48965"/>
                  </a:moveTo>
                  <a:lnTo>
                    <a:pt x="-1799" y="4050"/>
                  </a:lnTo>
                </a:path>
                <a:path w="21600" h="21600">
                  <a:moveTo>
                    <a:pt x="-1799" y="0"/>
                  </a:moveTo>
                  <a:lnTo>
                    <a:pt x="-1799" y="21600"/>
                  </a:lnTo>
                </a:path>
              </a:pathLst>
            </a:custGeom>
            <a:solidFill>
              <a:srgbClr val="dae5f1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Arial"/>
                </a:rPr>
                <a:t>职业规划定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线形标注 1(带边框和强调线) 33"/>
            <p:cNvSpPr/>
            <p:nvPr/>
          </p:nvSpPr>
          <p:spPr>
            <a:xfrm>
              <a:off x="6464520" y="878760"/>
              <a:ext cx="1889640" cy="82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279" y="48965"/>
                  </a:moveTo>
                  <a:lnTo>
                    <a:pt x="-1799" y="4050"/>
                  </a:lnTo>
                </a:path>
                <a:path w="21600" h="21600">
                  <a:moveTo>
                    <a:pt x="-1799" y="0"/>
                  </a:moveTo>
                  <a:lnTo>
                    <a:pt x="-1799" y="21600"/>
                  </a:lnTo>
                </a:path>
              </a:pathLst>
            </a:custGeom>
            <a:solidFill>
              <a:srgbClr val="dae5f1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Arial"/>
                </a:rPr>
                <a:t>影响择业因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线形标注 1(带边框和强调线) 8"/>
            <p:cNvSpPr/>
            <p:nvPr/>
          </p:nvSpPr>
          <p:spPr>
            <a:xfrm>
              <a:off x="3809880" y="4449600"/>
              <a:ext cx="1686960" cy="82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7199" y="-29882"/>
                  </a:moveTo>
                  <a:lnTo>
                    <a:pt x="-1799" y="8104"/>
                  </a:lnTo>
                </a:path>
                <a:path w="21600" h="21600">
                  <a:moveTo>
                    <a:pt x="-1799" y="0"/>
                  </a:moveTo>
                  <a:lnTo>
                    <a:pt x="-1799" y="21600"/>
                  </a:lnTo>
                </a:path>
              </a:pathLst>
            </a:custGeom>
            <a:solidFill>
              <a:srgbClr val="dae5f1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Arial"/>
                </a:rPr>
                <a:t>择业</a:t>
              </a:r>
              <a:r>
                <a:rPr b="1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VS</a:t>
              </a:r>
              <a:r>
                <a:rPr b="1" lang="zh-CN" sz="2000" spc="-1" strike="noStrike">
                  <a:solidFill>
                    <a:srgbClr val="4f81bd"/>
                  </a:solidFill>
                  <a:latin typeface="Arial"/>
                </a:rPr>
                <a:t>就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线形标注 1(带边框和强调线) 36"/>
            <p:cNvSpPr/>
            <p:nvPr/>
          </p:nvSpPr>
          <p:spPr>
            <a:xfrm>
              <a:off x="7004160" y="4449600"/>
              <a:ext cx="1821960" cy="73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7984" y="-33741"/>
                  </a:moveTo>
                  <a:lnTo>
                    <a:pt x="-2100" y="7735"/>
                  </a:lnTo>
                </a:path>
                <a:path w="21600" h="21600">
                  <a:moveTo>
                    <a:pt x="-2100" y="0"/>
                  </a:moveTo>
                  <a:lnTo>
                    <a:pt x="-2100" y="21600"/>
                  </a:lnTo>
                </a:path>
              </a:pathLst>
            </a:custGeom>
            <a:solidFill>
              <a:srgbClr val="dae5f1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Arial"/>
                </a:rPr>
                <a:t>职业生涯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726120" y="2756160"/>
              <a:ext cx="7696800" cy="520560"/>
              <a:chOff x="726120" y="2756160"/>
              <a:chExt cx="7696800" cy="520560"/>
            </a:xfrm>
          </p:grpSpPr>
          <p:sp>
            <p:nvSpPr>
              <p:cNvPr id="54" name="TextBox 39"/>
              <p:cNvSpPr/>
              <p:nvPr/>
            </p:nvSpPr>
            <p:spPr>
              <a:xfrm>
                <a:off x="726120" y="2756160"/>
                <a:ext cx="394200" cy="520560"/>
              </a:xfrm>
              <a:prstGeom prst="rect">
                <a:avLst/>
              </a:prstGeom>
              <a:noFill/>
              <a:ln w="9360">
                <a:solidFill>
                  <a:srgbClr val="dae5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起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43"/>
              <p:cNvSpPr/>
              <p:nvPr/>
            </p:nvSpPr>
            <p:spPr>
              <a:xfrm>
                <a:off x="3160080" y="27561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Box 44"/>
              <p:cNvSpPr/>
              <p:nvPr/>
            </p:nvSpPr>
            <p:spPr>
              <a:xfrm>
                <a:off x="5594400" y="27561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45"/>
              <p:cNvSpPr/>
              <p:nvPr/>
            </p:nvSpPr>
            <p:spPr>
              <a:xfrm>
                <a:off x="8028720" y="27561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705-E9D2-4F13-B8CF-C2A4EAE0B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23880" y="1284120"/>
            <a:ext cx="7896240" cy="4157640"/>
            <a:chOff x="623880" y="1284120"/>
            <a:chExt cx="7896240" cy="4157640"/>
          </a:xfrm>
        </p:grpSpPr>
        <p:pic>
          <p:nvPicPr>
            <p:cNvPr id="60" name="Picture 2" descr=""/>
            <p:cNvPicPr/>
            <p:nvPr/>
          </p:nvPicPr>
          <p:blipFill>
            <a:blip r:embed="rId3"/>
            <a:stretch/>
          </p:blipFill>
          <p:spPr>
            <a:xfrm>
              <a:off x="623880" y="21175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"/>
            <p:cNvPicPr/>
            <p:nvPr/>
          </p:nvPicPr>
          <p:blipFill>
            <a:blip r:embed="rId4"/>
            <a:stretch/>
          </p:blipFill>
          <p:spPr>
            <a:xfrm>
              <a:off x="1710000" y="140688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" descr=""/>
            <p:cNvPicPr/>
            <p:nvPr/>
          </p:nvPicPr>
          <p:blipFill>
            <a:blip r:embed="rId5"/>
            <a:stretch/>
          </p:blipFill>
          <p:spPr>
            <a:xfrm>
              <a:off x="1924920" y="16513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" descr=""/>
            <p:cNvPicPr/>
            <p:nvPr/>
          </p:nvPicPr>
          <p:blipFill>
            <a:blip r:embed="rId6"/>
            <a:stretch/>
          </p:blipFill>
          <p:spPr>
            <a:xfrm>
              <a:off x="2327400" y="14263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" descr=""/>
            <p:cNvPicPr/>
            <p:nvPr/>
          </p:nvPicPr>
          <p:blipFill>
            <a:blip r:embed="rId7"/>
            <a:stretch/>
          </p:blipFill>
          <p:spPr>
            <a:xfrm>
              <a:off x="2573640" y="179748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"/>
            <p:cNvPicPr/>
            <p:nvPr/>
          </p:nvPicPr>
          <p:blipFill>
            <a:blip r:embed="rId8"/>
            <a:stretch/>
          </p:blipFill>
          <p:spPr>
            <a:xfrm>
              <a:off x="2982960" y="14407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5"/>
            <p:cNvSpPr/>
            <p:nvPr/>
          </p:nvSpPr>
          <p:spPr>
            <a:xfrm>
              <a:off x="1378080" y="30348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与组织相结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17"/>
            <p:cNvCxnSpPr/>
            <p:nvPr/>
          </p:nvCxnSpPr>
          <p:spPr>
            <a:xfrm flipV="1">
              <a:off x="1186920" y="2022120"/>
              <a:ext cx="523080" cy="371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pic>
          <p:nvPicPr>
            <p:cNvPr id="68" name="Picture 2" descr=""/>
            <p:cNvPicPr/>
            <p:nvPr/>
          </p:nvPicPr>
          <p:blipFill>
            <a:blip r:embed="rId9"/>
            <a:stretch/>
          </p:blipFill>
          <p:spPr>
            <a:xfrm>
              <a:off x="6221520" y="173916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椭圆 18"/>
            <p:cNvSpPr/>
            <p:nvPr/>
          </p:nvSpPr>
          <p:spPr>
            <a:xfrm>
              <a:off x="5632200" y="1284120"/>
              <a:ext cx="1652400" cy="1652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4"/>
            <p:cNvSpPr/>
            <p:nvPr/>
          </p:nvSpPr>
          <p:spPr>
            <a:xfrm>
              <a:off x="4514760" y="3034800"/>
              <a:ext cx="40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主客观条件进行测定、分析、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8"/>
            <p:cNvSpPr/>
            <p:nvPr/>
          </p:nvSpPr>
          <p:spPr>
            <a:xfrm>
              <a:off x="1187280" y="3669840"/>
              <a:ext cx="585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30"/>
            <p:cNvSpPr/>
            <p:nvPr/>
          </p:nvSpPr>
          <p:spPr>
            <a:xfrm>
              <a:off x="3653640" y="38239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合时代特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下箭头 29"/>
            <p:cNvSpPr/>
            <p:nvPr/>
          </p:nvSpPr>
          <p:spPr>
            <a:xfrm>
              <a:off x="4292640" y="4285800"/>
              <a:ext cx="221760" cy="64404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3196440" y="498204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确定职业方向并为之奋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2" descr=""/>
          <p:cNvPicPr/>
          <p:nvPr/>
        </p:nvPicPr>
        <p:blipFill>
          <a:blip r:embed="rId10"/>
          <a:stretch/>
        </p:blipFill>
        <p:spPr>
          <a:xfrm>
            <a:off x="2982960" y="-168120"/>
            <a:ext cx="3176640" cy="13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AC2-58DE-4373-BE95-CCF8F1B21D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952720" y="1089000"/>
            <a:ext cx="5535720" cy="1035000"/>
            <a:chOff x="2952720" y="1089000"/>
            <a:chExt cx="5535720" cy="1035000"/>
          </a:xfrm>
        </p:grpSpPr>
        <p:sp>
          <p:nvSpPr>
            <p:cNvPr id="78" name="直接连接符 4"/>
            <p:cNvSpPr/>
            <p:nvPr/>
          </p:nvSpPr>
          <p:spPr>
            <a:xfrm>
              <a:off x="2952720" y="108900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5"/>
            <p:cNvSpPr/>
            <p:nvPr/>
          </p:nvSpPr>
          <p:spPr>
            <a:xfrm>
              <a:off x="2952720" y="131400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6"/>
            <p:cNvSpPr/>
            <p:nvPr/>
          </p:nvSpPr>
          <p:spPr>
            <a:xfrm>
              <a:off x="2952720" y="158400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"/>
            <p:cNvSpPr/>
            <p:nvPr/>
          </p:nvSpPr>
          <p:spPr>
            <a:xfrm>
              <a:off x="2952720" y="185400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8"/>
            <p:cNvSpPr/>
            <p:nvPr/>
          </p:nvSpPr>
          <p:spPr>
            <a:xfrm>
              <a:off x="2952720" y="212400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52720" y="3924360"/>
            <a:ext cx="5535720" cy="1035000"/>
            <a:chOff x="2952720" y="3924360"/>
            <a:chExt cx="5535720" cy="1035000"/>
          </a:xfrm>
        </p:grpSpPr>
        <p:sp>
          <p:nvSpPr>
            <p:cNvPr id="84" name="直接连接符 10"/>
            <p:cNvSpPr/>
            <p:nvPr/>
          </p:nvSpPr>
          <p:spPr>
            <a:xfrm>
              <a:off x="2952720" y="392436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1"/>
            <p:cNvSpPr/>
            <p:nvPr/>
          </p:nvSpPr>
          <p:spPr>
            <a:xfrm>
              <a:off x="2952720" y="414936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12"/>
            <p:cNvSpPr/>
            <p:nvPr/>
          </p:nvSpPr>
          <p:spPr>
            <a:xfrm>
              <a:off x="2952720" y="441936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13"/>
            <p:cNvSpPr/>
            <p:nvPr/>
          </p:nvSpPr>
          <p:spPr>
            <a:xfrm>
              <a:off x="2952720" y="468936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14"/>
            <p:cNvSpPr/>
            <p:nvPr/>
          </p:nvSpPr>
          <p:spPr>
            <a:xfrm>
              <a:off x="2952720" y="4959360"/>
              <a:ext cx="5535720" cy="0"/>
            </a:xfrm>
            <a:prstGeom prst="line">
              <a:avLst/>
            </a:prstGeom>
            <a:ln w="936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102360" y="1268280"/>
            <a:ext cx="1125360" cy="897120"/>
            <a:chOff x="6102360" y="1268280"/>
            <a:chExt cx="1125360" cy="897120"/>
          </a:xfrm>
        </p:grpSpPr>
        <p:pic>
          <p:nvPicPr>
            <p:cNvPr id="90" name="图片 23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02360" y="1268280"/>
              <a:ext cx="112536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"/>
            <p:cNvGrpSpPr/>
            <p:nvPr/>
          </p:nvGrpSpPr>
          <p:grpSpPr>
            <a:xfrm>
              <a:off x="6237360" y="1583640"/>
              <a:ext cx="855360" cy="337320"/>
              <a:chOff x="6237360" y="1583640"/>
              <a:chExt cx="855360" cy="337320"/>
            </a:xfrm>
          </p:grpSpPr>
          <p:sp>
            <p:nvSpPr>
              <p:cNvPr id="92" name="矩形 29"/>
              <p:cNvSpPr/>
              <p:nvPr/>
            </p:nvSpPr>
            <p:spPr>
              <a:xfrm>
                <a:off x="6439680" y="1644840"/>
                <a:ext cx="450360" cy="216360"/>
              </a:xfrm>
              <a:prstGeom prst="rect">
                <a:avLst/>
              </a:prstGeom>
              <a:solidFill>
                <a:srgbClr val="93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Box 24"/>
              <p:cNvSpPr/>
              <p:nvPr/>
            </p:nvSpPr>
            <p:spPr>
              <a:xfrm>
                <a:off x="6237360" y="1583640"/>
                <a:ext cx="85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就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" name="图片 34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032360" y="1033560"/>
            <a:ext cx="1125360" cy="8953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4167360" y="1347840"/>
            <a:ext cx="855360" cy="337320"/>
            <a:chOff x="4167360" y="1347840"/>
            <a:chExt cx="855360" cy="337320"/>
          </a:xfrm>
        </p:grpSpPr>
        <p:sp>
          <p:nvSpPr>
            <p:cNvPr id="96" name="矩形 36"/>
            <p:cNvSpPr/>
            <p:nvPr/>
          </p:nvSpPr>
          <p:spPr>
            <a:xfrm>
              <a:off x="4369680" y="1409040"/>
              <a:ext cx="450360" cy="21564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7"/>
            <p:cNvSpPr/>
            <p:nvPr/>
          </p:nvSpPr>
          <p:spPr>
            <a:xfrm>
              <a:off x="4167360" y="1347840"/>
              <a:ext cx="85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择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789440" y="3368520"/>
            <a:ext cx="1125720" cy="895680"/>
            <a:chOff x="4789440" y="3368520"/>
            <a:chExt cx="1125720" cy="895680"/>
          </a:xfrm>
        </p:grpSpPr>
        <p:pic>
          <p:nvPicPr>
            <p:cNvPr id="99" name="图片 39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4789440" y="3368520"/>
              <a:ext cx="1125720" cy="89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4924440" y="3683160"/>
              <a:ext cx="855720" cy="337320"/>
              <a:chOff x="4924440" y="3683160"/>
              <a:chExt cx="855720" cy="337320"/>
            </a:xfrm>
          </p:grpSpPr>
          <p:sp>
            <p:nvSpPr>
              <p:cNvPr id="101" name="矩形 41"/>
              <p:cNvSpPr/>
              <p:nvPr/>
            </p:nvSpPr>
            <p:spPr>
              <a:xfrm>
                <a:off x="5127120" y="3744360"/>
                <a:ext cx="450360" cy="216000"/>
              </a:xfrm>
              <a:prstGeom prst="rect">
                <a:avLst/>
              </a:prstGeom>
              <a:solidFill>
                <a:srgbClr val="93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42"/>
              <p:cNvSpPr/>
              <p:nvPr/>
            </p:nvSpPr>
            <p:spPr>
              <a:xfrm>
                <a:off x="4924440" y="3683160"/>
                <a:ext cx="85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就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4786200" y="4062240"/>
            <a:ext cx="1125720" cy="897120"/>
            <a:chOff x="4786200" y="4062240"/>
            <a:chExt cx="1125720" cy="897120"/>
          </a:xfrm>
        </p:grpSpPr>
        <p:pic>
          <p:nvPicPr>
            <p:cNvPr id="104" name="图片 44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4786200" y="4062240"/>
              <a:ext cx="112572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4921200" y="4377600"/>
              <a:ext cx="855720" cy="337320"/>
              <a:chOff x="4921200" y="4377600"/>
              <a:chExt cx="855720" cy="337320"/>
            </a:xfrm>
          </p:grpSpPr>
          <p:sp>
            <p:nvSpPr>
              <p:cNvPr id="106" name="矩形 46"/>
              <p:cNvSpPr/>
              <p:nvPr/>
            </p:nvSpPr>
            <p:spPr>
              <a:xfrm>
                <a:off x="5123880" y="4438800"/>
                <a:ext cx="450360" cy="216360"/>
              </a:xfrm>
              <a:prstGeom prst="rect">
                <a:avLst/>
              </a:prstGeom>
              <a:solidFill>
                <a:srgbClr val="93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47"/>
              <p:cNvSpPr/>
              <p:nvPr/>
            </p:nvSpPr>
            <p:spPr>
              <a:xfrm>
                <a:off x="4921200" y="4377600"/>
                <a:ext cx="85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择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Box 1024"/>
          <p:cNvSpPr/>
          <p:nvPr/>
        </p:nvSpPr>
        <p:spPr>
          <a:xfrm>
            <a:off x="1669320" y="99864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领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当事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学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普通老百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0"/>
          <p:cNvSpPr/>
          <p:nvPr/>
        </p:nvSpPr>
        <p:spPr>
          <a:xfrm>
            <a:off x="1484640" y="428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规划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028"/>
          <p:cNvSpPr/>
          <p:nvPr/>
        </p:nvSpPr>
        <p:spPr>
          <a:xfrm>
            <a:off x="1463760" y="3184560"/>
            <a:ext cx="85089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29"/>
          <p:cNvSpPr/>
          <p:nvPr/>
        </p:nvSpPr>
        <p:spPr>
          <a:xfrm>
            <a:off x="5045400" y="2432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就业后择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4"/>
          <p:cNvSpPr/>
          <p:nvPr/>
        </p:nvSpPr>
        <p:spPr>
          <a:xfrm>
            <a:off x="4909320" y="5229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业择业保持同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7"/>
          <a:stretch/>
        </p:blipFill>
        <p:spPr>
          <a:xfrm>
            <a:off x="2906640" y="-130320"/>
            <a:ext cx="3328920" cy="113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8"/>
          <a:stretch/>
        </p:blipFill>
        <p:spPr>
          <a:xfrm>
            <a:off x="-104760" y="2568600"/>
            <a:ext cx="1793880" cy="117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D27-E8AC-427B-83B9-2EF6E65C49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876400" y="3282840"/>
            <a:ext cx="5238720" cy="1480320"/>
            <a:chOff x="2876400" y="3282840"/>
            <a:chExt cx="5238720" cy="1480320"/>
          </a:xfrm>
        </p:grpSpPr>
        <p:sp>
          <p:nvSpPr>
            <p:cNvPr id="117" name="TextBox 27"/>
            <p:cNvSpPr/>
            <p:nvPr/>
          </p:nvSpPr>
          <p:spPr>
            <a:xfrm flipH="1">
              <a:off x="2876400" y="3282840"/>
              <a:ext cx="2088720" cy="1008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家庭情况</a:t>
              </a: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8"/>
            <p:cNvSpPr/>
            <p:nvPr/>
          </p:nvSpPr>
          <p:spPr>
            <a:xfrm flipH="1">
              <a:off x="6429600" y="3328560"/>
              <a:ext cx="1685160" cy="143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饥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择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右箭头 30"/>
            <p:cNvSpPr/>
            <p:nvPr/>
          </p:nvSpPr>
          <p:spPr>
            <a:xfrm>
              <a:off x="5225760" y="3826800"/>
              <a:ext cx="791280" cy="450000"/>
            </a:xfrm>
            <a:prstGeom prst="rightArrow">
              <a:avLst>
                <a:gd name="adj1" fmla="val 50000"/>
                <a:gd name="adj2" fmla="val 4998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101240" y="2008080"/>
            <a:ext cx="7014240" cy="584280"/>
            <a:chOff x="1101240" y="2008080"/>
            <a:chExt cx="7014240" cy="584280"/>
          </a:xfrm>
        </p:grpSpPr>
        <p:sp>
          <p:nvSpPr>
            <p:cNvPr id="121" name="矩形 23"/>
            <p:cNvSpPr/>
            <p:nvPr/>
          </p:nvSpPr>
          <p:spPr>
            <a:xfrm rot="5400000">
              <a:off x="1762560" y="1346400"/>
              <a:ext cx="553680" cy="187668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当前经济状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24"/>
            <p:cNvSpPr/>
            <p:nvPr/>
          </p:nvSpPr>
          <p:spPr>
            <a:xfrm>
              <a:off x="3132360" y="2008080"/>
              <a:ext cx="4983120" cy="55368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2" descr=""/>
            <p:cNvPicPr/>
            <p:nvPr/>
          </p:nvPicPr>
          <p:blipFill>
            <a:blip r:embed="rId3"/>
            <a:stretch/>
          </p:blipFill>
          <p:spPr>
            <a:xfrm>
              <a:off x="4840560" y="2024280"/>
              <a:ext cx="1566720" cy="56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1101240" y="2790720"/>
            <a:ext cx="7014240" cy="555840"/>
            <a:chOff x="1101240" y="2790720"/>
            <a:chExt cx="7014240" cy="555840"/>
          </a:xfrm>
        </p:grpSpPr>
        <p:sp>
          <p:nvSpPr>
            <p:cNvPr id="125" name="矩形 15"/>
            <p:cNvSpPr/>
            <p:nvPr/>
          </p:nvSpPr>
          <p:spPr>
            <a:xfrm rot="5400000">
              <a:off x="1761480" y="2130120"/>
              <a:ext cx="555840" cy="187668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亲人朋友影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6"/>
            <p:cNvSpPr/>
            <p:nvPr/>
          </p:nvSpPr>
          <p:spPr>
            <a:xfrm>
              <a:off x="3132360" y="2790720"/>
              <a:ext cx="4983120" cy="55584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他们≠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101240" y="3543480"/>
            <a:ext cx="7014240" cy="553680"/>
            <a:chOff x="1101240" y="3543480"/>
            <a:chExt cx="7014240" cy="553680"/>
          </a:xfrm>
        </p:grpSpPr>
        <p:sp>
          <p:nvSpPr>
            <p:cNvPr id="128" name="矩形 20"/>
            <p:cNvSpPr/>
            <p:nvPr/>
          </p:nvSpPr>
          <p:spPr>
            <a:xfrm rot="5400000">
              <a:off x="1762560" y="2881800"/>
              <a:ext cx="553680" cy="187668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社会环境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竞争环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1"/>
            <p:cNvSpPr/>
            <p:nvPr/>
          </p:nvSpPr>
          <p:spPr>
            <a:xfrm>
              <a:off x="3132360" y="3543480"/>
              <a:ext cx="4983120" cy="55368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冷门就一定没出路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01240" y="4295880"/>
            <a:ext cx="7014240" cy="554040"/>
            <a:chOff x="1101240" y="4295880"/>
            <a:chExt cx="7014240" cy="554040"/>
          </a:xfrm>
        </p:grpSpPr>
        <p:sp>
          <p:nvSpPr>
            <p:cNvPr id="131" name="矩形 26"/>
            <p:cNvSpPr/>
            <p:nvPr/>
          </p:nvSpPr>
          <p:spPr>
            <a:xfrm rot="5400000">
              <a:off x="1762560" y="3634560"/>
              <a:ext cx="554040" cy="187668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个人志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9"/>
            <p:cNvSpPr/>
            <p:nvPr/>
          </p:nvSpPr>
          <p:spPr>
            <a:xfrm>
              <a:off x="3132360" y="4295880"/>
              <a:ext cx="4983120" cy="554040"/>
            </a:xfrm>
            <a:prstGeom prst="rect">
              <a:avLst/>
            </a:prstGeom>
            <a:solidFill>
              <a:srgbClr val="93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明确的梦想才能照进现实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3" descr=""/>
          <p:cNvPicPr/>
          <p:nvPr/>
        </p:nvPicPr>
        <p:blipFill>
          <a:blip r:embed="rId4"/>
          <a:stretch/>
        </p:blipFill>
        <p:spPr>
          <a:xfrm>
            <a:off x="2922480" y="-165240"/>
            <a:ext cx="3299040" cy="11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266-7E15-4257-AD6E-4868D4B7B1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250720" y="1849320"/>
            <a:ext cx="2190240" cy="3431520"/>
            <a:chOff x="2250720" y="1849320"/>
            <a:chExt cx="2190240" cy="3431520"/>
          </a:xfrm>
        </p:grpSpPr>
        <p:grpSp>
          <p:nvGrpSpPr>
            <p:cNvPr id="136" name=""/>
            <p:cNvGrpSpPr/>
            <p:nvPr/>
          </p:nvGrpSpPr>
          <p:grpSpPr>
            <a:xfrm>
              <a:off x="2602800" y="1849320"/>
              <a:ext cx="1485360" cy="2773080"/>
              <a:chOff x="2602800" y="1849320"/>
              <a:chExt cx="1485360" cy="2773080"/>
            </a:xfrm>
          </p:grpSpPr>
          <p:sp>
            <p:nvSpPr>
              <p:cNvPr id="137" name="椭圆 2"/>
              <p:cNvSpPr/>
              <p:nvPr/>
            </p:nvSpPr>
            <p:spPr>
              <a:xfrm>
                <a:off x="2650320" y="1849320"/>
                <a:ext cx="1389960" cy="1389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梯形 3"/>
              <p:cNvSpPr/>
              <p:nvPr/>
            </p:nvSpPr>
            <p:spPr>
              <a:xfrm flipV="1">
                <a:off x="2602800" y="3227760"/>
                <a:ext cx="1485360" cy="1394640"/>
              </a:xfrm>
              <a:custGeom>
                <a:avLst/>
                <a:gdLst>
                  <a:gd name="textAreaLeft" fmla="*/ 313920 w 1485360"/>
                  <a:gd name="textAreaRight" fmla="*/ 1171440 w 1485360"/>
                  <a:gd name="textAreaTop" fmla="*/ 294840 h 1394640"/>
                  <a:gd name="textAreaBottom" fmla="*/ 1099800 h 139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528" y="21600"/>
                    </a:lnTo>
                    <a:lnTo>
                      <a:pt x="507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矩形 5"/>
            <p:cNvSpPr/>
            <p:nvPr/>
          </p:nvSpPr>
          <p:spPr>
            <a:xfrm rot="20026200">
              <a:off x="2265480" y="3562200"/>
              <a:ext cx="675000" cy="22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7"/>
            <p:cNvSpPr/>
            <p:nvPr/>
          </p:nvSpPr>
          <p:spPr>
            <a:xfrm flipV="1" rot="1573800">
              <a:off x="3750840" y="3561480"/>
              <a:ext cx="675000" cy="22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8"/>
            <p:cNvSpPr/>
            <p:nvPr/>
          </p:nvSpPr>
          <p:spPr>
            <a:xfrm flipV="1" rot="3568800">
              <a:off x="3495240" y="4770360"/>
              <a:ext cx="674640" cy="22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9"/>
            <p:cNvSpPr/>
            <p:nvPr/>
          </p:nvSpPr>
          <p:spPr>
            <a:xfrm rot="18031200">
              <a:off x="2617920" y="4820760"/>
              <a:ext cx="674640" cy="22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"/>
          <p:cNvSpPr/>
          <p:nvPr/>
        </p:nvSpPr>
        <p:spPr>
          <a:xfrm>
            <a:off x="4538520" y="2124000"/>
            <a:ext cx="372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779440" y="2359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想干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5"/>
          <p:cNvSpPr/>
          <p:nvPr/>
        </p:nvSpPr>
        <p:spPr>
          <a:xfrm>
            <a:off x="4538520" y="3133800"/>
            <a:ext cx="3727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5779440" y="328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能干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7"/>
          <p:cNvSpPr/>
          <p:nvPr/>
        </p:nvSpPr>
        <p:spPr>
          <a:xfrm>
            <a:off x="4538520" y="4016520"/>
            <a:ext cx="372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5671800" y="4170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应该干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21"/>
          <p:cNvSpPr/>
          <p:nvPr/>
        </p:nvSpPr>
        <p:spPr>
          <a:xfrm>
            <a:off x="4538520" y="4881600"/>
            <a:ext cx="3727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2922480" y="-165240"/>
            <a:ext cx="3299040" cy="1119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2A2-C3FD-4533-9134-5587144C86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sp>
        <p:nvSpPr>
          <p:cNvPr id="153" name="直接连接符 21"/>
          <p:cNvSpPr/>
          <p:nvPr/>
        </p:nvSpPr>
        <p:spPr>
          <a:xfrm>
            <a:off x="1438200" y="3125880"/>
            <a:ext cx="722952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476280" y="1898640"/>
            <a:ext cx="7840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438200" y="3432240"/>
            <a:ext cx="2400480" cy="368280"/>
            <a:chOff x="1438200" y="3432240"/>
            <a:chExt cx="2400480" cy="368280"/>
          </a:xfrm>
        </p:grpSpPr>
        <p:grpSp>
          <p:nvGrpSpPr>
            <p:cNvPr id="156" name=""/>
            <p:cNvGrpSpPr/>
            <p:nvPr/>
          </p:nvGrpSpPr>
          <p:grpSpPr>
            <a:xfrm>
              <a:off x="1438200" y="3441240"/>
              <a:ext cx="734400" cy="359280"/>
              <a:chOff x="1438200" y="3441240"/>
              <a:chExt cx="734400" cy="359280"/>
            </a:xfrm>
          </p:grpSpPr>
          <p:sp>
            <p:nvSpPr>
              <p:cNvPr id="157" name="直接连接符 23"/>
              <p:cNvSpPr/>
              <p:nvPr/>
            </p:nvSpPr>
            <p:spPr>
              <a:xfrm>
                <a:off x="1438200" y="3441240"/>
                <a:ext cx="0" cy="35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25"/>
              <p:cNvSpPr/>
              <p:nvPr/>
            </p:nvSpPr>
            <p:spPr>
              <a:xfrm>
                <a:off x="1496880" y="3620880"/>
                <a:ext cx="675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104280" y="3441240"/>
              <a:ext cx="734400" cy="359280"/>
              <a:chOff x="3104280" y="3441240"/>
              <a:chExt cx="734400" cy="359280"/>
            </a:xfrm>
          </p:grpSpPr>
          <p:sp>
            <p:nvSpPr>
              <p:cNvPr id="160" name="直接连接符 29"/>
              <p:cNvSpPr/>
              <p:nvPr/>
            </p:nvSpPr>
            <p:spPr>
              <a:xfrm>
                <a:off x="3838680" y="3441240"/>
                <a:ext cx="0" cy="35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30"/>
              <p:cNvSpPr/>
              <p:nvPr/>
            </p:nvSpPr>
            <p:spPr>
              <a:xfrm flipH="1">
                <a:off x="3104280" y="3620880"/>
                <a:ext cx="675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Box 27"/>
            <p:cNvSpPr/>
            <p:nvPr/>
          </p:nvSpPr>
          <p:spPr>
            <a:xfrm>
              <a:off x="2288880" y="3432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短期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54040" y="4251240"/>
            <a:ext cx="4100760" cy="370080"/>
            <a:chOff x="1454040" y="4251240"/>
            <a:chExt cx="4100760" cy="370080"/>
          </a:xfrm>
        </p:grpSpPr>
        <p:sp>
          <p:nvSpPr>
            <p:cNvPr id="164" name="直接连接符 39"/>
            <p:cNvSpPr/>
            <p:nvPr/>
          </p:nvSpPr>
          <p:spPr>
            <a:xfrm>
              <a:off x="1454040" y="4260240"/>
              <a:ext cx="0" cy="36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40"/>
            <p:cNvSpPr/>
            <p:nvPr/>
          </p:nvSpPr>
          <p:spPr>
            <a:xfrm>
              <a:off x="1512720" y="4440960"/>
              <a:ext cx="141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37"/>
            <p:cNvSpPr/>
            <p:nvPr/>
          </p:nvSpPr>
          <p:spPr>
            <a:xfrm>
              <a:off x="5554800" y="4251240"/>
              <a:ext cx="0" cy="36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38"/>
            <p:cNvSpPr/>
            <p:nvPr/>
          </p:nvSpPr>
          <p:spPr>
            <a:xfrm flipH="1">
              <a:off x="4058280" y="4431600"/>
              <a:ext cx="1437480" cy="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36"/>
            <p:cNvSpPr/>
            <p:nvPr/>
          </p:nvSpPr>
          <p:spPr>
            <a:xfrm>
              <a:off x="3139560" y="425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期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直接连接符 45"/>
          <p:cNvSpPr/>
          <p:nvPr/>
        </p:nvSpPr>
        <p:spPr>
          <a:xfrm>
            <a:off x="1454040" y="50166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6"/>
          <p:cNvSpPr/>
          <p:nvPr/>
        </p:nvSpPr>
        <p:spPr>
          <a:xfrm>
            <a:off x="1512720" y="5195880"/>
            <a:ext cx="298296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603760" y="5006880"/>
            <a:ext cx="3063960" cy="360360"/>
            <a:chOff x="5603760" y="5006880"/>
            <a:chExt cx="3063960" cy="360360"/>
          </a:xfrm>
        </p:grpSpPr>
        <p:sp>
          <p:nvSpPr>
            <p:cNvPr id="172" name="直接连接符 47"/>
            <p:cNvSpPr/>
            <p:nvPr/>
          </p:nvSpPr>
          <p:spPr>
            <a:xfrm>
              <a:off x="8667720" y="50068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48"/>
            <p:cNvSpPr/>
            <p:nvPr/>
          </p:nvSpPr>
          <p:spPr>
            <a:xfrm flipH="1">
              <a:off x="5603760" y="5186880"/>
              <a:ext cx="3005280" cy="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9"/>
          <p:cNvSpPr/>
          <p:nvPr/>
        </p:nvSpPr>
        <p:spPr>
          <a:xfrm>
            <a:off x="4685040" y="500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长期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4"/>
          <a:stretch/>
        </p:blipFill>
        <p:spPr>
          <a:xfrm>
            <a:off x="2922480" y="-165240"/>
            <a:ext cx="3299040" cy="1119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5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F26-7175-4A78-8804-3549CC8ACE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2661120" y="2124000"/>
            <a:ext cx="3701520" cy="3702240"/>
            <a:chOff x="2661120" y="2124000"/>
            <a:chExt cx="3701520" cy="3702240"/>
          </a:xfrm>
        </p:grpSpPr>
        <p:pic>
          <p:nvPicPr>
            <p:cNvPr id="179" name="Picture 2" descr=""/>
            <p:cNvPicPr/>
            <p:nvPr/>
          </p:nvPicPr>
          <p:blipFill>
            <a:blip r:embed="rId3"/>
            <a:stretch/>
          </p:blipFill>
          <p:spPr>
            <a:xfrm rot="20872800">
              <a:off x="2781000" y="4530600"/>
              <a:ext cx="7833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>
              <a:off x="3684600" y="2124000"/>
              <a:ext cx="2678040" cy="3240360"/>
            </a:xfrm>
            <a:prstGeom prst="rect">
              <a:avLst/>
            </a:prstGeom>
            <a:solidFill>
              <a:srgbClr val="dae5f1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3"/>
            <p:cNvSpPr/>
            <p:nvPr/>
          </p:nvSpPr>
          <p:spPr>
            <a:xfrm>
              <a:off x="4308120" y="2801160"/>
              <a:ext cx="14270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·</a:t>
              </a:r>
              <a:r>
                <a:rPr b="0" lang="zh-CN" sz="28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本专业定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·</a:t>
              </a:r>
              <a:r>
                <a:rPr b="0" lang="zh-CN" sz="28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本行业定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·</a:t>
              </a:r>
              <a:r>
                <a:rPr b="0" lang="zh-CN" sz="28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行业前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3" descr=""/>
          <p:cNvPicPr/>
          <p:nvPr/>
        </p:nvPicPr>
        <p:blipFill>
          <a:blip r:embed="rId4"/>
          <a:stretch/>
        </p:blipFill>
        <p:spPr>
          <a:xfrm>
            <a:off x="2922480" y="-165240"/>
            <a:ext cx="3299040" cy="111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5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99F-CB01-4C16-9C06-C98DB4A3F9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19400" y="2637000"/>
            <a:ext cx="7391160" cy="1226880"/>
            <a:chOff x="419400" y="2637000"/>
            <a:chExt cx="7391160" cy="1226880"/>
          </a:xfrm>
        </p:grpSpPr>
        <p:pic>
          <p:nvPicPr>
            <p:cNvPr id="186" name="Picture 2" descr=""/>
            <p:cNvPicPr/>
            <p:nvPr/>
          </p:nvPicPr>
          <p:blipFill>
            <a:blip r:embed="rId3"/>
            <a:stretch/>
          </p:blipFill>
          <p:spPr>
            <a:xfrm>
              <a:off x="1819800" y="2637000"/>
              <a:ext cx="7833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4"/>
            <p:cNvSpPr/>
            <p:nvPr/>
          </p:nvSpPr>
          <p:spPr>
            <a:xfrm>
              <a:off x="419400" y="289188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7"/>
            <p:cNvSpPr/>
            <p:nvPr/>
          </p:nvSpPr>
          <p:spPr>
            <a:xfrm>
              <a:off x="1422720" y="2885040"/>
              <a:ext cx="3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8"/>
            <p:cNvSpPr/>
            <p:nvPr/>
          </p:nvSpPr>
          <p:spPr>
            <a:xfrm>
              <a:off x="3492720" y="2885040"/>
              <a:ext cx="43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=f(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才能，性格，兴趣，环境，专业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</a:t>
              </a: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3" descr=""/>
          <p:cNvPicPr/>
          <p:nvPr/>
        </p:nvPicPr>
        <p:blipFill>
          <a:blip r:embed="rId4"/>
          <a:stretch/>
        </p:blipFill>
        <p:spPr>
          <a:xfrm>
            <a:off x="2922480" y="-165240"/>
            <a:ext cx="3299040" cy="1119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5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CC0-F36C-49B9-8A56-329C1FB56E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9:00:00Z</dcterms:created>
  <dc:creator>曹将</dc:creator>
  <dc:description/>
  <dc:language>en-US</dc:language>
  <cp:lastModifiedBy>曹将</cp:lastModifiedBy>
  <dcterms:modified xsi:type="dcterms:W3CDTF">2015-08-11T06:43:49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