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17E-CE76-47D8-AD52-6745005E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012-56EA-4173-B8A5-55E1FA22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A57-F7A2-4BC8-81DC-9DA06B30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59E-229B-42FE-89D7-9CC177CB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8AD-5E1A-4DC0-A47C-B7BD2644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DD7-DE5E-4F28-A7BD-5315B178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51F-E473-4C7D-9F82-3E92E389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600-050F-4B99-A734-2D711FC2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ED4-276E-400B-90A5-F2C94F61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317-A7B8-4DC4-95C5-70A87FCE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423-CE9B-4737-829D-03D04DCC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F54-1DDC-439D-B09B-1DB0305D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C240-295D-4D3A-A086-5A132154D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大堰河" descr=""/>
          <p:cNvPicPr/>
          <p:nvPr/>
        </p:nvPicPr>
        <p:blipFill>
          <a:blip r:embed="rId1"/>
          <a:stretch/>
        </p:blipFill>
        <p:spPr>
          <a:xfrm>
            <a:off x="0" y="1676520"/>
            <a:ext cx="9220320" cy="388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92680" y="-76320"/>
            <a:ext cx="13755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0000"/>
                </a:solidFill>
                <a:latin typeface="Times New Roman"/>
                <a:ea typeface="隶书"/>
              </a:rPr>
              <a:t>　</a:t>
            </a:r>
            <a:r>
              <a:rPr b="1" i="1" lang="zh-CN" sz="800" spc="-1" strike="noStrike">
                <a:solidFill>
                  <a:srgbClr val="ff0000"/>
                </a:solidFill>
                <a:latin typeface="Times New Roman"/>
                <a:ea typeface="隶书"/>
              </a:rPr>
              <a:t>　</a:t>
            </a:r>
            <a:r>
              <a:rPr b="1" i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献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　　大堰河和千千万万像大堰河一样的伟大的母亲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4280" y="272736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大堰河－－我的保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4920" y="4343400"/>
            <a:ext cx="14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隶书"/>
                <a:ea typeface="华文隶书"/>
              </a:rPr>
              <a:t>艾　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99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99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99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99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99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99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030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节</a:t>
            </a:r>
            <a:r>
              <a:rPr b="1" lang="en-US" sz="28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大堰河是卑微得连自己姓名都没有的穷苦劳动妇女。没有姓名，没有人生自由并且悲苦低微，靠出卖乳汁和汗水谋生；</a:t>
            </a:r>
            <a:r>
              <a:rPr b="1" lang="en-US" sz="28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节交代“我”的阶级出身，点明大堰河和我的养育与被养育的关系。倾注了我对大堰河特有的深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84560" y="868320"/>
            <a:ext cx="28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第１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，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68880" y="2286000"/>
            <a:ext cx="23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介绍大堰河的身份、地位</a:t>
            </a:r>
            <a:r>
              <a:rPr b="1" lang="zh-CN" sz="2800" spc="-1" strike="noStrike">
                <a:solidFill>
                  <a:srgbClr val="3333cc"/>
                </a:solidFill>
                <a:latin typeface="Arial Unicode MS"/>
                <a:ea typeface="华文隶书"/>
              </a:rPr>
              <a:t>及其与“我”的关系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1840" y="160020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三节主要写了什么内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1520" y="1608120"/>
            <a:ext cx="1460880" cy="2044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意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雪压草盖的坟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檐头枯死的瓦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被典押了的园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长了青苔的石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133720"/>
            <a:ext cx="761760" cy="838080"/>
          </a:xfrm>
          <a:custGeom>
            <a:avLst/>
            <a:gdLst>
              <a:gd name="textAreaLeft" fmla="*/ 118800 w 761760"/>
              <a:gd name="textAreaRight" fmla="*/ 666720 w 7617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13520" y="1905120"/>
            <a:ext cx="1034280" cy="13737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意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荒寂衰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萧索凄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00920" y="1893960"/>
            <a:ext cx="1247400" cy="13737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感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深情的怀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低沉的哀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2133720"/>
            <a:ext cx="761760" cy="838080"/>
          </a:xfrm>
          <a:custGeom>
            <a:avLst/>
            <a:gdLst>
              <a:gd name="textAreaLeft" fmla="*/ 118800 w 761760"/>
              <a:gd name="textAreaRight" fmla="*/ 666720 w 7617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7160" y="10666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节运用了哪些意象？创造了怎样的意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159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一组冷落凄清的景物构成一幅令人伤感悲凉的画面，为全诗罩上悲剧的气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41280" y="1744560"/>
            <a:ext cx="333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19160"/>
            <a:ext cx="7467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: 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抒写大堰河的勤劳与善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第六节</a:t>
            </a:r>
            <a:r>
              <a:rPr b="1" lang="en-US" sz="32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: 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离开大堰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第七节</a:t>
            </a:r>
            <a:r>
              <a:rPr b="1" lang="en-US" sz="32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: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回到自己生活优裕的家中时，像陌生的新客一样忸怩不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第八节</a:t>
            </a:r>
            <a:r>
              <a:rPr b="1" lang="en-US" sz="32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: 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  <a:ea typeface="楷体_GB2312"/>
              </a:rPr>
              <a:t>大堰河到“我”家来帮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38560" y="9586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朗诵第二部分，概括各节的意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1981080"/>
            <a:ext cx="21337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搭好灶火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2514600"/>
            <a:ext cx="0" cy="6858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05520" y="2895480"/>
            <a:ext cx="914400" cy="60984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257440" y="3962520"/>
            <a:ext cx="685800" cy="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3657600"/>
            <a:ext cx="21337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尝过熟饭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029200" y="4495680"/>
            <a:ext cx="914400" cy="45720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4648320"/>
            <a:ext cx="21337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放好酱碗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5410080"/>
            <a:ext cx="21337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补好破衣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495680" y="4648320"/>
            <a:ext cx="0" cy="76176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648320"/>
            <a:ext cx="21337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包扎伤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048120" y="4419360"/>
            <a:ext cx="990360" cy="53316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581280"/>
            <a:ext cx="21337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掐死虱子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886200"/>
            <a:ext cx="685800" cy="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590920"/>
            <a:ext cx="21337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拾起鸡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895480"/>
            <a:ext cx="914400" cy="60984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3200400"/>
            <a:ext cx="137160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抚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2666880"/>
            <a:ext cx="21337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拍去炭灰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2280" y="91440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五节诗人回忆了在大堰河家的生活，摄取了哪些生活场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18520" y="1491840"/>
            <a:ext cx="5461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现了深厚的母子情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22450" t="23334" r="23696" b="21665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37000" y="914400"/>
            <a:ext cx="72900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你用你厚大的手掌把我抱在怀里，抚摸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572000"/>
            <a:ext cx="579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苦难而又温馨的母爱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伟大而又深沉的母爱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1251" t="23334" r="23749" b="23334"/>
          <a:stretch/>
        </p:blipFill>
        <p:spPr>
          <a:xfrm>
            <a:off x="5486400" y="68580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41960" y="4135320"/>
            <a:ext cx="329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4461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阅读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节，思考： “我”离开保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堰河卸去一身重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何她却流泪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9304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在这泪水里</a:t>
            </a:r>
            <a:r>
              <a:rPr b="0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包含着对乳儿无比真挚的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05480" y="5715000"/>
            <a:ext cx="38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被生我的父母领回到自己的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-30000"/>
          </a:blip>
          <a:srcRect l="21251" t="23334" r="22503" b="21665"/>
          <a:stretch/>
        </p:blipFill>
        <p:spPr>
          <a:xfrm>
            <a:off x="4267080" y="685800"/>
            <a:ext cx="4876920" cy="5486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4280" y="5318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做了生我的父母家里的新客了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48112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从住、穿、吃三个方面描写。跟“我”在大堰河家的生活形成对比。一方面突出了“我”的亲疏和爱憎；另一方面也反映了社会的不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6440" y="9144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阅读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节，思考：作者从哪些方面描写自己陌生的家，有何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838080"/>
            <a:ext cx="2590560" cy="8384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含着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1600200"/>
            <a:ext cx="2362320" cy="182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295280" y="1600200"/>
            <a:ext cx="2362320" cy="182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90560" y="1676520"/>
            <a:ext cx="1447560" cy="1676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962520" y="1752480"/>
            <a:ext cx="380880" cy="1676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1752480"/>
            <a:ext cx="457200" cy="1676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1676520"/>
            <a:ext cx="1143000" cy="1752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429000"/>
            <a:ext cx="9903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洗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429000"/>
            <a:ext cx="9907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洗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429000"/>
            <a:ext cx="9907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切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3429000"/>
            <a:ext cx="9907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喂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3429000"/>
            <a:ext cx="9907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烧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3429000"/>
            <a:ext cx="9903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晒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5400" y="990720"/>
            <a:ext cx="18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节：劳作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21251" t="21665" r="22503" b="21673"/>
          <a:stretch/>
        </p:blipFill>
        <p:spPr>
          <a:xfrm>
            <a:off x="0" y="685800"/>
            <a:ext cx="4495680" cy="5562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114156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节诗人反复强调</a:t>
            </a:r>
            <a:r>
              <a:rPr b="0" lang="zh-CN" sz="2800" spc="-1" strike="noStrike">
                <a:solidFill>
                  <a:srgbClr val="000000"/>
                </a:solidFill>
                <a:latin typeface="Arial Unicode MS"/>
                <a:ea typeface="黑体"/>
              </a:rPr>
              <a:t>大堰河来 “我”家帮佣时“含着笑”，有何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29718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这“笑”既反映</a:t>
            </a:r>
            <a:r>
              <a:rPr b="0" lang="zh-CN" sz="2800" spc="-1" strike="noStrike">
                <a:solidFill>
                  <a:srgbClr val="ff0000"/>
                </a:solidFill>
                <a:latin typeface="Arial Unicode MS"/>
                <a:ea typeface="华文隶书"/>
              </a:rPr>
              <a:t>大堰河不向艰难生活低头的倔强性格，</a:t>
            </a:r>
            <a:r>
              <a:rPr b="0" lang="zh-CN" sz="2800" spc="-1" strike="noStrike">
                <a:solidFill>
                  <a:srgbClr val="0000ff"/>
                </a:solidFill>
                <a:latin typeface="Arial Unicode MS"/>
                <a:ea typeface="华文隶书"/>
              </a:rPr>
              <a:t>同时在一定程度上也表现她的麻木与不觉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1430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节诗歌：大堰河辛劳一生，死后得到了什么？你从中读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09480" y="266688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愤怒控诉不公道的黑暗社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深切同情大堰河的悲惨命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752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没有一个诗人能够由于自身和依赖自身而伟大，他既不依赖自己的痛苦，也不依赖自己的幸福；任何伟大的诗人之所以伟大，是因为他的痛苦和幸福深深植根于社会和历史的土壤里。　　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－－〔苏联〕别林斯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41280" y="1744560"/>
            <a:ext cx="333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905120"/>
            <a:ext cx="8229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诗人呈给大堰河的挽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呈给大堰河的赞美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用呼告手法，直接抒发对大堰河的崇高敬意和深深爱戴之情。这一部分，是全诗感情发展的高潮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41280" y="1744560"/>
            <a:ext cx="333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4800" y="1066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诗歌的中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359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Unicode MS"/>
                <a:ea typeface="华文隶书"/>
              </a:rPr>
              <a:t>     </a:t>
            </a:r>
            <a:r>
              <a:rPr b="0" lang="zh-CN" sz="3600" spc="-1" strike="noStrike">
                <a:solidFill>
                  <a:srgbClr val="0000ff"/>
                </a:solidFill>
                <a:latin typeface="Arial Unicode MS"/>
                <a:ea typeface="华文隶书"/>
              </a:rPr>
              <a:t>歌颂了贫农妇女大堰河勤劳善良 、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纯朴宽厚的美好品质，描写了她的悲惨命运，并诅咒和揭露了造成她悲剧命运的黑暗社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1219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主要修辞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2080" y="2209680"/>
            <a:ext cx="50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排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容凝炼，形式整齐，节奏鲜明，气势酣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3321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感情和音节的旋律，一唱三叹，回环婉转，增强诗歌的抒情效果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76640" y="12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复、排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504800"/>
            <a:ext cx="784872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华文隶书"/>
                <a:ea typeface="华文隶书"/>
              </a:rPr>
              <a:t>作业：</a:t>
            </a:r>
            <a:r>
              <a:rPr b="1" i="1" lang="zh-CN" sz="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　　　　</a:t>
            </a:r>
            <a:r>
              <a:rPr b="1" lang="zh-CN" sz="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　　　　　　　　　　　　　　　　　　　　　　　　　　　　　　　　　　　　　　　　　　　　　　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  </a:t>
            </a:r>
            <a:r>
              <a:rPr b="0" lang="en-US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有感情地诵读这首诗，进一步感受诗人深沉真挚的感情。　　　　　　  </a:t>
            </a:r>
            <a:r>
              <a:rPr b="0" lang="en-US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华文隶书"/>
                <a:ea typeface="华文隶书"/>
              </a:rPr>
              <a:t>课后诵读艾青的诗歌：《我爱这土地》、《光的赞歌》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41280" y="1744560"/>
            <a:ext cx="333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红叶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49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05596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　　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诗人的同情是广阔的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 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  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　诗人的赞美也是广阔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艾青" descr=""/>
          <p:cNvPicPr/>
          <p:nvPr/>
        </p:nvPicPr>
        <p:blipFill>
          <a:blip r:embed="rId1">
            <a:grayscl/>
            <a:lum contrast="12000"/>
          </a:blip>
          <a:stretch/>
        </p:blipFill>
        <p:spPr>
          <a:xfrm>
            <a:off x="228600" y="838080"/>
            <a:ext cx="237492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46483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艾　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685800"/>
            <a:ext cx="62485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艾青，原名蒋海澄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我国现代著名诗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浙江金华人。因家人听信算命先生所谓“克”父母的诳言，刚出生就被寄养到贫苦农妇大堰河家。少爱美术，曾赴法国专攻美术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3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回国，加入“左联”，从事革命文艺活动，不久被捕入狱。在狱中艾青转而从事诗歌创作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3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月一个雨雪纷飞的早晨，他在狱中睹雪思人，因雪神飞，回忆起幼年生活，创作了《大堰河－－我的保姆》，并一举以感人肺腑的感情和清新自然的诗风震动诗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艾青是继郭沫若、闻一多之后推动一代诗风的重要诗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主要作品：《大堰河－－我的保姆》、《向太阳》、《火把》、《光的赞歌》、《古罗马竞技场》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62120"/>
            <a:ext cx="9144000" cy="14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大堰河其实是“大叶荷”的误写。她原出生于离艾青老家五里远的大叶荷村，很小就被卖到艾青的家乡－－畈田蒋村当童养媳。她没有名字，人们只好用她的出生地称呼她，“卑微到连自己的名字也没有！”她一生命运非常悲惨：与前夫生了三个孩子；前夫死后，从邻近的下张村招赘，又生了两个孩子。那时农民生活非常艰难，苛捐杂税，还有地主盘剥。大叶荷孩子多，生活更是艰难，她受尽煎熬，仅四十多岁就离开了人世。　　　　　　　　　　　　　　　　　　　　　　　艾青出生时因母亲难产，算命先生说他会“克死父母”，因此他一出生就受家人歧视，被寄养到大堰河家。艾青就是吮吸着大堰河的乳汁，在她精心爱抚下成长的。直到五岁才被领回家，仍然受家庭歧视，规定他不能叫父母为爸爸妈妈，而要叫叔叔婶婶。因此在艾青的情感世界里，对大堰河的爱远远超过了对父母的爱！因此他“长大一点后，总想早点离开家庭”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岁就离开了家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3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月，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岁，在狱中他满怀深情写下了《大堰河－－我的保姆》。后来诗人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5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7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两次回乡，都一往情深地去祭扫大堰河的墓。　　　　　　　　　　　　　</a:t>
            </a:r>
            <a:r>
              <a:rPr b="0" lang="zh-CN" sz="2400" spc="-1" strike="noStrike">
                <a:solidFill>
                  <a:srgbClr val="3333cc"/>
                </a:solidFill>
                <a:latin typeface="华文隶书"/>
                <a:ea typeface="华文隶书"/>
              </a:rPr>
              <a:t>艾青后来曾回忆说：“我是在一种被冷漠的环境中生活的”，“只有在大堰河家里，我才感到温暖，得到宠爱，大堰河爱我，我也爱她。”“《大堰河－－我的保姆》这首诗，是出于一种感激的心情写的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348_06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yhm" descr=""/>
          <p:cNvPicPr/>
          <p:nvPr/>
        </p:nvPicPr>
        <p:blipFill>
          <a:blip r:embed="rId1"/>
          <a:stretch/>
        </p:blipFill>
        <p:spPr>
          <a:xfrm>
            <a:off x="0" y="762120"/>
            <a:ext cx="9296280" cy="556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914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听录音朗读，概括各个部分所抒发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2178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怀念与痛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940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眷恋与感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733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同情与控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6483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讴歌与赞美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03400" y="2209680"/>
            <a:ext cx="18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：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-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5280" y="2971800"/>
            <a:ext cx="29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：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-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60160" y="3809880"/>
            <a:ext cx="31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部分：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-1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5040" y="4724280"/>
            <a:ext cx="33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四部分：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-1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906680" y="2193480"/>
            <a:ext cx="606960" cy="31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一个“情”贯穿全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41280" y="1744560"/>
            <a:ext cx="333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57000" y="852480"/>
            <a:ext cx="34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诵读全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概括各个部分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24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第一部分</a:t>
            </a:r>
            <a:r>
              <a:rPr b="0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( 1 ─4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节</a:t>
            </a:r>
            <a:r>
              <a:rPr b="0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) :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怀念与痛悼。 交代大堰河的悲苦身世及其与我的关系，表现诗人对乳母的深切怀念与痛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28177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第二部分</a:t>
            </a:r>
            <a:r>
              <a:rPr b="0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( 5─8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节</a:t>
            </a:r>
            <a:r>
              <a:rPr b="0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) :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眷恋与感激。回忆大堰河辛劳而又悲苦的一生，集中刻画大堰河勤劳、善良的品德，抒发眷恋与感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311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第三部分</a:t>
            </a:r>
            <a:r>
              <a:rPr b="0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( 9 ─1 1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节</a:t>
            </a:r>
            <a:r>
              <a:rPr b="0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) :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同情与控诉。写大堰河死后的凄凉和家人的悲惨遭遇，诅咒和控诉了黑暗的社会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21160" y="5348160"/>
            <a:ext cx="37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第四部分</a:t>
            </a:r>
            <a:r>
              <a:rPr b="0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( 1 2 ─1 3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节</a:t>
            </a:r>
            <a:r>
              <a:rPr b="0" lang="en-US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) :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讴歌与赞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7:02:16Z</dcterms:created>
  <dc:creator>zqy</dc:creator>
  <dc:description/>
  <dc:language>en-US</dc:language>
  <cp:lastModifiedBy>a</cp:lastModifiedBy>
  <dcterms:modified xsi:type="dcterms:W3CDTF">2015-07-15T07:17:48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