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DEC-83A2-4338-964F-9863B860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C72-DE96-4E78-912C-CFFF3FE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ED3-8DA7-4595-90E1-AC8F0A32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8EA-656C-4589-A982-02EC5BF6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FE8-46E1-4737-8DCE-4298E31B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BE72-D34F-4D9B-9822-C1FAE0AD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B01F-28C4-452D-9E2A-48104BE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FA3F-61A8-4013-9E94-5B23079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E774-FAA9-4E79-B5B6-3AF15DD7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FE9B-ACAC-4688-9A0A-47535D1C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10C0-3EFE-450C-BB48-3656A28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D0C-3F87-4397-8875-9900DDBC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173D-BA55-4A70-AA9A-4BBF5C4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AF48-4FEA-4F2F-9386-1DADD7A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57BA-250F-4FE8-A905-8EDF9EE2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DB1-FB64-486A-9FE5-1BF69A3A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378-CA09-4FFC-A89C-ABECE216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272-186B-4A95-A618-D5A2ED60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9F2-6826-4E11-8B2F-B20F48E1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37D-A08B-4DE0-B18D-2DE3F238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BE0-3AAC-4D6D-9575-4A018110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842-D125-46C4-B702-3A001BF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97C-46E5-4E03-83C3-9D77963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182-1CD3-4EC1-8D41-71EA9BC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8D3-77B9-41A9-BC3C-30F731F655A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6BD1-D33F-4D2D-8015-3EF6D18299F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979640" y="1773360"/>
            <a:ext cx="525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爱护弱小   甘于奉献</a:t>
            </a:r>
            <a:endParaRPr b="1" lang="en-US" sz="1800" spc="-1" strike="noStrike">
              <a:ln w="0">
                <a:noFill/>
              </a:ln>
              <a:solidFill>
                <a:srgbClr val="ff9933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59280" y="4292640"/>
            <a:ext cx="608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东关回小道德讲堂活动系列之九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77840" y="-1031760"/>
            <a:ext cx="9393120" cy="7043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25080" y="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一项       唱一首歌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981000"/>
            <a:ext cx="475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楷体_GB2312"/>
              </a:rPr>
              <a:t>《爱的奉献》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880920" cy="879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0" y="256536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心的呼唤    这是爱的奉献    这是人间的春风  这是生命的源泉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没有心的沙漠  在没有爱的荒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死神也望而却步  幸福之花处处开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  只要人人都献出一点爱   世界将变成美好的人间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17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62400" y="4762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二项  学一句经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54520" y="2133720"/>
            <a:ext cx="491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吾老以及人之老，幼吾幼以及人之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恃强凌弱 非大丈夫之所作所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凡是人 皆须爱 天同覆 地同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赠人玫瑰   手有余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68000" y="692280"/>
            <a:ext cx="342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三项   看一部短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2480" y="3141720"/>
            <a:ext cx="60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《</a:t>
            </a:r>
            <a:r>
              <a:rPr b="1" i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托举生命的最美妈妈</a:t>
            </a:r>
            <a:r>
              <a:rPr b="1" i="1" lang="en-US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——</a:t>
            </a:r>
            <a:r>
              <a:rPr b="1" i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吴菊萍</a:t>
            </a:r>
            <a:r>
              <a:rPr b="1" i="1" lang="en-US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00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31280" y="620640"/>
            <a:ext cx="342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四项   讲一个故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9200" y="249228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阿里木：烤羊肉串的爱心巴郎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8456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6712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49880" y="3933720"/>
            <a:ext cx="49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何玥：捐献肝肾的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岁女孩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8760" y="54936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五项   做一番点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 rot="10800000">
            <a:off x="899640" y="17002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向模范致以最崇高的敬意，让我们积极行动起来，一起把这种爱护弱小，甘于奉献的传统美德精神传承下去，真诚地希望每一个人都能成为道德的传播者、践行者和受益者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项   做一次善行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送一份吉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8480" y="3284640"/>
            <a:ext cx="47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展一次“大手拉小手”的学校活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7:42:53Z</dcterms:created>
  <dc:creator>USER</dc:creator>
  <dc:description/>
  <dc:language>en-US</dc:language>
  <cp:lastModifiedBy>USER</cp:lastModifiedBy>
  <dcterms:modified xsi:type="dcterms:W3CDTF">2013-10-30T03:00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