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7923213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dt" idx="25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Img"/>
          </p:nvPr>
        </p:nvSpPr>
        <p:spPr>
          <a:xfrm>
            <a:off x="914400" y="68544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 type="sldNum" idx="27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5218A368-3B29-4ADA-AFF5-66FA71E84C4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hyperlink" Target="http://baike.baidu.com/view/17816.htm" TargetMode="External"/><Relationship Id="rId2" Type="http://schemas.openxmlformats.org/officeDocument/2006/relationships/hyperlink" Target="http://baike.baidu.com/view/2759.htm" TargetMode="External"/><Relationship Id="rId3" Type="http://schemas.openxmlformats.org/officeDocument/2006/relationships/hyperlink" Target="http://baike.baidu.com/view/10382.htm" TargetMode="External"/><Relationship Id="rId4" Type="http://schemas.openxmlformats.org/officeDocument/2006/relationships/hyperlink" Target="http://baike.baidu.com/view/1483697.htm" TargetMode="External"/><Relationship Id="rId5" Type="http://schemas.openxmlformats.org/officeDocument/2006/relationships/hyperlink" Target="http://baike.baidu.com/view/351053.htm" TargetMode="External"/><Relationship Id="rId6" Type="http://schemas.openxmlformats.org/officeDocument/2006/relationships/hyperlink" Target="http://baike.baidu.com/view/3185.htm" TargetMode="External"/><Relationship Id="rId7" Type="http://schemas.openxmlformats.org/officeDocument/2006/relationships/slide" Target="../slides/slide22.xml"/><Relationship Id="rId8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4400" y="685800"/>
            <a:ext cx="50292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含义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低碳环保生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low-carbonlife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就是指生活作息时所耗用的能量要尽力减少，从而减低碳，特别是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二氧化碳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的排放量，从而减少对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大气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的污染，减缓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生态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恶化，主要是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节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节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回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三个环节来改变生活细节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　　概述低碳环保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〔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英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carbon gre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〕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种新概念的环保方式，意指较低（更低）的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温室气体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（二氧化碳为主）排放。随着世界工业经济的发展、人口的巨增、人类欲望的无限上升和生产生活方式的无节制，世界气候面临越来越严重的问题，二氧化碳排放量越来越大，地球臭氧层正遭受前所未有的危机，全球灾难性气候变化屡屡出现，已经严重危害到人类的生存环境和健康，即使人类曾经引以为豪的高速增长或膨胀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D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因为环境污染、气候变化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大打折扣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（也因此，各国曾呼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D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的发展模式和统计方式）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BE7-1D98-4CDA-AE1D-EB3A6DC1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720" y="31680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C25-5EB2-4EBD-8EBA-289EDBA8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928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319-643E-4583-8FF0-48E003D8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069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171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67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069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171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600-7E57-4907-9EA1-0941A2DC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9401-2184-4351-B4DB-2EFE69C9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6720" y="1353600"/>
            <a:ext cx="712800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CDF8-1FDD-483C-A72F-D57980AC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71280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62C3-1237-4AEE-9CE2-7020B66F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2DD7-4708-49FD-9F83-ACE62306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8AAB-F997-4F5F-8D2B-CEA752AD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96360" y="96480"/>
            <a:ext cx="653436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4A39-203C-49DF-862F-1004BF4B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69DE-A918-443A-AE88-E83BE2FC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6720" y="1353600"/>
            <a:ext cx="712800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BFB-BAAF-4E9D-ADF6-B44AEA81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04928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B828-68A1-4883-B319-4D1FB423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DE7A-4FA4-4105-B130-B92381D1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720" y="31680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F94E-41FC-41F0-97C3-886FCFDB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04928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433F-67AE-4187-A7C0-D67890B1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8069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171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967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8069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2171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9455-5BEE-4F6A-8E01-533A5377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877B3-7E65-4080-94AB-1147483A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6720" y="1353600"/>
            <a:ext cx="712800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1B913-4BB1-4739-ABDB-72002700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71280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EAF91-FC5F-46D8-A456-4DE1AB18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DED38-44CF-4DD5-9074-C7B5DB1D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0FDBB-C6B9-46A5-BBF9-8FE5C355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71280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098-308B-4311-9FFF-D2F97CD9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6360" y="96480"/>
            <a:ext cx="653436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E1315-1BA6-49EC-BE8F-2AAAAAA7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B1D40-55DD-43D7-905A-BD75BE87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04928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BFB8A-6D0C-433F-BC2F-510364F1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1872A-DDFB-4A9F-9AE1-454872A7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6720" y="31680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B233C-54F2-4956-BAF4-2D382959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04928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91E63-2825-4A1F-88FA-E428A414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069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2171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967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069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2171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D0C8D-8FCC-4A59-8C55-BF604012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1821C-83F1-4268-AB69-1D220478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6720" y="1353600"/>
            <a:ext cx="712800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9B25C-1FF2-45ED-9A2C-306943F0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71280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A48D8-4593-4A0B-BAC3-80364E88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64E-F393-4918-99A4-C02AFCDE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3DC15-F513-4A1A-8BCA-880D9874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F6E0A-7D4F-4CBC-9DE3-69655D63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96360" y="96480"/>
            <a:ext cx="653436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3F3B2-C88C-411F-97CC-72D4C04D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4DD77-7D49-4C7C-BFAB-A8A86865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04928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3D2CC-3DC5-45CB-A1DF-E427C63D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EAFA6-A370-467A-BAC3-DE21995A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6720" y="31680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1CA43-A011-418C-A591-839D5BBB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04928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33576-3B80-4856-B9F7-4319EEDB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8069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2171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67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28069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2171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369D0-FF33-47EA-AECA-DE5BA3AB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8A5A7-8886-4061-8BB8-9AEE80E5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E0D-9AD1-4EA3-ACF7-D31854CE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96720" y="1353600"/>
            <a:ext cx="712800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2D5DF-FBE4-4DD2-BFCF-160C1C38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71280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5C79E-4E99-493A-9D67-CAE6B465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49D9D-0902-4E7B-9C03-63E7E8AE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E8734-317B-41E5-A990-B69DCC5A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96360" y="96480"/>
            <a:ext cx="653436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01801-CBF8-4864-964C-63FC3B8E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545AE-C0F3-4AD8-A0BD-3CE2546E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4928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8A55D-7513-438F-8B2F-C1F28179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92945-C196-4D24-B17C-A1739F87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96720" y="31680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869D4-CA11-4D73-B188-EC7DC1CB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04928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478BB-A957-444E-9219-0BA6270E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6360" y="96480"/>
            <a:ext cx="653436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7AF-9AEE-4047-A84B-6C566027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8069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2171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967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8069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2171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71413-6447-423D-95B4-5A0721C9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7AB61-27E9-43C5-9F1E-38BDA38F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96720" y="1353600"/>
            <a:ext cx="712800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F28FC-8F00-47AF-88A4-CB0C0C91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71280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2A1D8-C084-4B72-B964-810FDF18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965FC-2005-4C02-9C02-B126C952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41462-AAE6-4D7E-A74A-8175989C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96360" y="96480"/>
            <a:ext cx="653436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446F5-1FFD-48A7-80D9-29A383E4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4E1A4-2090-48E5-A83C-C0786E78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04928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BD370-CF1C-49C0-9BDF-ED0C00B2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9C60F-F11B-4258-9B06-8EB18330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114A-2196-42E4-9188-909DC076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96720" y="31680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2049A-67FF-4820-960A-100A8290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04928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A9F73-7050-4979-BB84-AED97176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8069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2171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967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8069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2171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BDEEA-0395-4397-A59B-330F4A3A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7D913-4B70-44FD-B4FD-9E2A9BC1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96720" y="1353600"/>
            <a:ext cx="712800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910F1-D31B-45CC-8247-92EC5B90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71280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CA9CF-7487-4D19-91B9-680B3801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E1B10-B532-4C6F-8A7C-E665CA43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8F231-5AF1-4490-9220-A656B305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396360" y="96480"/>
            <a:ext cx="653436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308D4-7E6C-4AC0-AEDC-5EE2ECFD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354B5-F816-4271-B3D1-E75D5341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928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74A-A293-45A1-B334-1EF56797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04928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A2815-63D1-439E-9472-CD849560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8469D-B4D4-48E0-B8B6-E8FC3D50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96720" y="31680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A396E-DA60-4052-99A9-5B211131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04928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98ECE-3D01-4CEC-8912-4CA0F6F2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8069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2171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3967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28069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2171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097EC-7AF2-4FD6-869D-9E005FED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7F911-FF99-4C18-AB2B-F7014E57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396720" y="1353600"/>
            <a:ext cx="712800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4DDCA-DDBE-4E8E-9F06-FA17013F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71280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7B970-5F61-4CF7-A9B0-FE79FA43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6C7BC-D7DE-40C6-9B50-6F2EC1B8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AA21F-C46C-41A4-8EEC-3BDFB552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EDF0-5F5E-426D-A605-3DF02A7B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96360" y="96480"/>
            <a:ext cx="653436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FA737-0218-40C3-B099-387AFB79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A16C2-6D07-4E6C-A139-A83B492F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04928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C7A6D-85B1-479E-BABB-4025E577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9C958-0406-473A-A26D-B6C44273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96720" y="3168000"/>
            <a:ext cx="7128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AA944-B7FF-4106-9707-639DD603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049280" y="13536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9672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049280" y="3168000"/>
            <a:ext cx="347832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C0C17-1F74-400F-9D0C-93128A3D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8069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217120" y="13536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967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28069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217120" y="3168000"/>
            <a:ext cx="2295000" cy="165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1D6D5-E9F5-467C-AE27-BC1A769D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720" y="216000"/>
            <a:ext cx="71294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260360"/>
            <a:ext cx="712944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6360" y="4917600"/>
            <a:ext cx="1847880" cy="3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6480" y="4917600"/>
            <a:ext cx="2508120" cy="3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676480" y="4917600"/>
            <a:ext cx="1849320" cy="3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27FDC7C7-29C6-499A-BBA2-D223AB78360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261720" y="4917600"/>
            <a:ext cx="1982520" cy="3747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Autofit/>
          </a:bodyPr>
          <a:lstStyle>
            <a:lvl1pPr marL="216000"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2706480" y="4917600"/>
            <a:ext cx="2508120" cy="3747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Autofit/>
          </a:bodyPr>
          <a:p>
            <a:pPr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5676840" y="4917600"/>
            <a:ext cx="1982880" cy="37476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Autofit/>
          </a:bodyPr>
          <a:lstStyle>
            <a:lvl1pPr marL="216000" indent="0" algn="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244413B0-71A0-47FE-8EF8-A91B9D62ED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3640" y="479520"/>
            <a:ext cx="6734160" cy="90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593640" y="1560600"/>
            <a:ext cx="6734160" cy="324000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rmAutofit fontScale="93000"/>
          </a:bodyPr>
          <a:p>
            <a:pPr marL="265680" indent="-2656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75640" indent="-2214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84160" indent="-17532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38760" indent="-176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2640" indent="-1767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2640" indent="-1767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2640" indent="-1767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7"/>
          </p:nvPr>
        </p:nvSpPr>
        <p:spPr>
          <a:xfrm>
            <a:off x="593640" y="4920840"/>
            <a:ext cx="1650960" cy="358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8"/>
          </p:nvPr>
        </p:nvSpPr>
        <p:spPr>
          <a:xfrm>
            <a:off x="2706480" y="4920840"/>
            <a:ext cx="2508120" cy="358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9"/>
          </p:nvPr>
        </p:nvSpPr>
        <p:spPr>
          <a:xfrm>
            <a:off x="5676840" y="4920840"/>
            <a:ext cx="1650960" cy="358920"/>
          </a:xfrm>
          <a:prstGeom prst="rect">
            <a:avLst/>
          </a:prstGeom>
          <a:noFill/>
          <a:ln w="0">
            <a:noFill/>
          </a:ln>
        </p:spPr>
        <p:txBody>
          <a:bodyPr lIns="75960" rIns="75960" tIns="38160" bIns="38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8388C1-BCA3-4162-AB81-88173D1B23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6720" y="216000"/>
            <a:ext cx="7128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96720" y="1260360"/>
            <a:ext cx="712800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10"/>
          </p:nvPr>
        </p:nvSpPr>
        <p:spPr>
          <a:xfrm>
            <a:off x="396360" y="4917600"/>
            <a:ext cx="1847880" cy="3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11"/>
          </p:nvPr>
        </p:nvSpPr>
        <p:spPr>
          <a:xfrm>
            <a:off x="2706480" y="4917600"/>
            <a:ext cx="2508120" cy="3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2"/>
          </p:nvPr>
        </p:nvSpPr>
        <p:spPr>
          <a:xfrm>
            <a:off x="5676480" y="4917600"/>
            <a:ext cx="1847880" cy="3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DE8A4224-1995-4FC8-AB3F-8B938FFA85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未知"/>
          <p:cNvSpPr/>
          <p:nvPr/>
        </p:nvSpPr>
        <p:spPr>
          <a:xfrm rot="18427200">
            <a:off x="6738480" y="-12240"/>
            <a:ext cx="1006200" cy="16401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93280" y="120240"/>
            <a:ext cx="595332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593280" y="1439640"/>
            <a:ext cx="666756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12640" indent="-1969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788400" indent="-157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104120" indent="-1576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419480" indent="-1576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419480" indent="-1576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419480" indent="-1576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1186920" y="4920840"/>
            <a:ext cx="165132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079800" y="4920840"/>
            <a:ext cx="250992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5819760" y="4920840"/>
            <a:ext cx="16509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F0CE344F-12E8-4A62-9D55-A5883139D79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未知"/>
          <p:cNvSpPr/>
          <p:nvPr/>
        </p:nvSpPr>
        <p:spPr>
          <a:xfrm rot="18427200">
            <a:off x="6813720" y="18720"/>
            <a:ext cx="1009440" cy="16509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未知"/>
          <p:cNvSpPr/>
          <p:nvPr/>
        </p:nvSpPr>
        <p:spPr>
          <a:xfrm rot="18427200">
            <a:off x="6784560" y="151920"/>
            <a:ext cx="887400" cy="12366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920" y="4362480"/>
            <a:ext cx="1544760" cy="982440"/>
            <a:chOff x="7920" y="4362480"/>
            <a:chExt cx="1544760" cy="982440"/>
          </a:xfrm>
        </p:grpSpPr>
        <p:sp>
          <p:nvSpPr>
            <p:cNvPr id="171" name="未知"/>
            <p:cNvSpPr/>
            <p:nvPr/>
          </p:nvSpPr>
          <p:spPr>
            <a:xfrm>
              <a:off x="33840" y="4381200"/>
              <a:ext cx="1496160" cy="8125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05440" y="4477680"/>
              <a:ext cx="97200" cy="1612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28440" y="4717800"/>
              <a:ext cx="1088280" cy="5130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178200" y="4760280"/>
              <a:ext cx="721440" cy="4683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667440" y="4414680"/>
              <a:ext cx="185400" cy="15156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882000" y="5204880"/>
              <a:ext cx="104400" cy="1400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693360" y="4508640"/>
              <a:ext cx="265320" cy="4791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919080" y="4487400"/>
              <a:ext cx="500040" cy="21744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477720" y="4616280"/>
              <a:ext cx="214200" cy="8388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7920" y="4362480"/>
              <a:ext cx="1544760" cy="975600"/>
              <a:chOff x="7920" y="4362480"/>
              <a:chExt cx="1544760" cy="9756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686520" y="4452480"/>
                <a:ext cx="752760" cy="885600"/>
                <a:chOff x="686520" y="4452480"/>
                <a:chExt cx="752760" cy="885600"/>
              </a:xfrm>
            </p:grpSpPr>
            <p:sp>
              <p:nvSpPr>
                <p:cNvPr id="182" name="未知"/>
                <p:cNvSpPr/>
                <p:nvPr/>
              </p:nvSpPr>
              <p:spPr>
                <a:xfrm>
                  <a:off x="686520" y="4483440"/>
                  <a:ext cx="215280" cy="1087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未知"/>
                <p:cNvSpPr/>
                <p:nvPr/>
              </p:nvSpPr>
              <p:spPr>
                <a:xfrm>
                  <a:off x="874440" y="5172120"/>
                  <a:ext cx="157680" cy="165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未知"/>
                <p:cNvSpPr/>
                <p:nvPr/>
              </p:nvSpPr>
              <p:spPr>
                <a:xfrm>
                  <a:off x="1380240" y="4452480"/>
                  <a:ext cx="59040" cy="1461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未知"/>
              <p:cNvSpPr/>
              <p:nvPr/>
            </p:nvSpPr>
            <p:spPr>
              <a:xfrm>
                <a:off x="105120" y="4665240"/>
                <a:ext cx="817560" cy="3128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358200" y="4857840"/>
                <a:ext cx="335160" cy="1850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777240" y="4600080"/>
                <a:ext cx="146880" cy="29772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7920" y="4362480"/>
                <a:ext cx="1544760" cy="848160"/>
                <a:chOff x="7920" y="4362480"/>
                <a:chExt cx="1544760" cy="848160"/>
              </a:xfrm>
            </p:grpSpPr>
            <p:sp>
              <p:nvSpPr>
                <p:cNvPr id="189" name="未知"/>
                <p:cNvSpPr/>
                <p:nvPr/>
              </p:nvSpPr>
              <p:spPr>
                <a:xfrm>
                  <a:off x="920160" y="5060880"/>
                  <a:ext cx="102960" cy="1083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未知"/>
                <p:cNvSpPr/>
                <p:nvPr/>
              </p:nvSpPr>
              <p:spPr>
                <a:xfrm>
                  <a:off x="7920" y="4660200"/>
                  <a:ext cx="1157040" cy="55044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未知"/>
                <p:cNvSpPr/>
                <p:nvPr/>
              </p:nvSpPr>
              <p:spPr>
                <a:xfrm>
                  <a:off x="146520" y="4712760"/>
                  <a:ext cx="109800" cy="2088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未知"/>
                <p:cNvSpPr/>
                <p:nvPr/>
              </p:nvSpPr>
              <p:spPr>
                <a:xfrm>
                  <a:off x="617760" y="4362480"/>
                  <a:ext cx="442440" cy="743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未知"/>
                <p:cNvSpPr/>
                <p:nvPr/>
              </p:nvSpPr>
              <p:spPr>
                <a:xfrm>
                  <a:off x="795240" y="4562640"/>
                  <a:ext cx="131760" cy="31500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未知"/>
                <p:cNvSpPr/>
                <p:nvPr/>
              </p:nvSpPr>
              <p:spPr>
                <a:xfrm>
                  <a:off x="451440" y="4537440"/>
                  <a:ext cx="267840" cy="168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未知"/>
                <p:cNvSpPr/>
                <p:nvPr/>
              </p:nvSpPr>
              <p:spPr>
                <a:xfrm>
                  <a:off x="905400" y="4422600"/>
                  <a:ext cx="647280" cy="26532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未知"/>
                <p:cNvSpPr/>
                <p:nvPr/>
              </p:nvSpPr>
              <p:spPr>
                <a:xfrm>
                  <a:off x="986400" y="4507560"/>
                  <a:ext cx="336240" cy="10728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7" name=""/>
          <p:cNvGrpSpPr/>
          <p:nvPr/>
        </p:nvGrpSpPr>
        <p:grpSpPr>
          <a:xfrm>
            <a:off x="7520040" y="1666800"/>
            <a:ext cx="334440" cy="3392280"/>
            <a:chOff x="7520040" y="1666800"/>
            <a:chExt cx="334440" cy="3392280"/>
          </a:xfrm>
        </p:grpSpPr>
        <p:sp>
          <p:nvSpPr>
            <p:cNvPr id="198" name="未知"/>
            <p:cNvSpPr/>
            <p:nvPr/>
          </p:nvSpPr>
          <p:spPr>
            <a:xfrm flipH="1">
              <a:off x="7520040" y="3275280"/>
              <a:ext cx="282240" cy="178380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 flipH="1">
              <a:off x="7572240" y="1666800"/>
              <a:ext cx="282240" cy="204120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241320" y="-118800"/>
            <a:ext cx="2046240" cy="1872360"/>
            <a:chOff x="6241320" y="-118800"/>
            <a:chExt cx="2046240" cy="1872360"/>
          </a:xfrm>
        </p:grpSpPr>
        <p:grpSp>
          <p:nvGrpSpPr>
            <p:cNvPr id="201" name=""/>
            <p:cNvGrpSpPr/>
            <p:nvPr/>
          </p:nvGrpSpPr>
          <p:grpSpPr>
            <a:xfrm>
              <a:off x="6241320" y="-118800"/>
              <a:ext cx="2046240" cy="1872360"/>
              <a:chOff x="6241320" y="-118800"/>
              <a:chExt cx="2046240" cy="1872360"/>
            </a:xfrm>
          </p:grpSpPr>
          <p:sp>
            <p:nvSpPr>
              <p:cNvPr id="202" name="未知"/>
              <p:cNvSpPr/>
              <p:nvPr/>
            </p:nvSpPr>
            <p:spPr>
              <a:xfrm rot="18427200">
                <a:off x="7471440" y="1339560"/>
                <a:ext cx="77400" cy="3956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6241320" y="-118800"/>
                <a:ext cx="2046240" cy="1872360"/>
                <a:chOff x="6241320" y="-118800"/>
                <a:chExt cx="2046240" cy="1872360"/>
              </a:xfrm>
            </p:grpSpPr>
            <p:sp>
              <p:nvSpPr>
                <p:cNvPr id="204" name="未知"/>
                <p:cNvSpPr/>
                <p:nvPr/>
              </p:nvSpPr>
              <p:spPr>
                <a:xfrm rot="18427200">
                  <a:off x="6836040" y="81000"/>
                  <a:ext cx="191520" cy="171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未知"/>
                <p:cNvSpPr/>
                <p:nvPr/>
              </p:nvSpPr>
              <p:spPr>
                <a:xfrm rot="18427200">
                  <a:off x="6957000" y="385200"/>
                  <a:ext cx="336600" cy="60228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未知"/>
                <p:cNvSpPr/>
                <p:nvPr/>
              </p:nvSpPr>
              <p:spPr>
                <a:xfrm rot="18427200">
                  <a:off x="6709320" y="169560"/>
                  <a:ext cx="632520" cy="12344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未知"/>
                <p:cNvSpPr/>
                <p:nvPr/>
              </p:nvSpPr>
              <p:spPr>
                <a:xfrm rot="18427200">
                  <a:off x="6789600" y="-106200"/>
                  <a:ext cx="949320" cy="184788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未知"/>
                <p:cNvSpPr/>
                <p:nvPr/>
              </p:nvSpPr>
              <p:spPr>
                <a:xfrm rot="18427200">
                  <a:off x="7292880" y="1112760"/>
                  <a:ext cx="211320" cy="16740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未知"/>
                <p:cNvSpPr/>
                <p:nvPr/>
              </p:nvSpPr>
              <p:spPr>
                <a:xfrm rot="18427200">
                  <a:off x="7233120" y="997200"/>
                  <a:ext cx="226440" cy="1976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未知"/>
                <p:cNvSpPr/>
                <p:nvPr/>
              </p:nvSpPr>
              <p:spPr>
                <a:xfrm rot="18427200">
                  <a:off x="6863760" y="250920"/>
                  <a:ext cx="226440" cy="20196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未知"/>
                <p:cNvSpPr/>
                <p:nvPr/>
              </p:nvSpPr>
              <p:spPr>
                <a:xfrm rot="18427200">
                  <a:off x="6813720" y="165600"/>
                  <a:ext cx="224280" cy="1897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6697800" y="104760"/>
              <a:ext cx="57600" cy="11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未知"/>
          <p:cNvSpPr/>
          <p:nvPr/>
        </p:nvSpPr>
        <p:spPr>
          <a:xfrm>
            <a:off x="19080" y="9360"/>
            <a:ext cx="7705800" cy="534060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87280" y="1190520"/>
            <a:ext cx="5546880" cy="179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6"/>
          </p:nvPr>
        </p:nvSpPr>
        <p:spPr>
          <a:xfrm>
            <a:off x="593640" y="4920840"/>
            <a:ext cx="16509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7"/>
          </p:nvPr>
        </p:nvSpPr>
        <p:spPr>
          <a:xfrm>
            <a:off x="2706480" y="4920840"/>
            <a:ext cx="250812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8"/>
          </p:nvPr>
        </p:nvSpPr>
        <p:spPr>
          <a:xfrm>
            <a:off x="5676840" y="4920840"/>
            <a:ext cx="16509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D9F87177-D7D2-4BC0-8AAF-A133D7E59BE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69920" y="184320"/>
            <a:ext cx="3281400" cy="1400040"/>
            <a:chOff x="169920" y="184320"/>
            <a:chExt cx="3281400" cy="1400040"/>
          </a:xfrm>
        </p:grpSpPr>
        <p:sp>
          <p:nvSpPr>
            <p:cNvPr id="255" name="未知"/>
            <p:cNvSpPr/>
            <p:nvPr/>
          </p:nvSpPr>
          <p:spPr>
            <a:xfrm>
              <a:off x="244080" y="220320"/>
              <a:ext cx="3094200" cy="127116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228960" y="325440"/>
              <a:ext cx="3085560" cy="12589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652680" y="429120"/>
              <a:ext cx="2045880" cy="1148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69920" y="184320"/>
              <a:ext cx="3281400" cy="1351080"/>
              <a:chOff x="169920" y="184320"/>
              <a:chExt cx="3281400" cy="1351080"/>
            </a:xfrm>
          </p:grpSpPr>
          <p:sp>
            <p:nvSpPr>
              <p:cNvPr id="259" name="未知"/>
              <p:cNvSpPr/>
              <p:nvPr/>
            </p:nvSpPr>
            <p:spPr>
              <a:xfrm>
                <a:off x="2757960" y="1166400"/>
                <a:ext cx="291240" cy="267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未知"/>
              <p:cNvSpPr/>
              <p:nvPr/>
            </p:nvSpPr>
            <p:spPr>
              <a:xfrm>
                <a:off x="169920" y="184320"/>
                <a:ext cx="3281400" cy="1351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未知"/>
              <p:cNvSpPr/>
              <p:nvPr/>
            </p:nvSpPr>
            <p:spPr>
              <a:xfrm>
                <a:off x="446040" y="196560"/>
                <a:ext cx="2318400" cy="767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>
                <a:off x="563040" y="312840"/>
                <a:ext cx="312120" cy="5122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未知"/>
              <p:cNvSpPr/>
              <p:nvPr/>
            </p:nvSpPr>
            <p:spPr>
              <a:xfrm>
                <a:off x="1163880" y="669240"/>
                <a:ext cx="950040" cy="4546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6775200" y="3389760"/>
            <a:ext cx="806040" cy="935280"/>
            <a:chOff x="6775200" y="3389760"/>
            <a:chExt cx="806040" cy="935280"/>
          </a:xfrm>
        </p:grpSpPr>
        <p:sp>
          <p:nvSpPr>
            <p:cNvPr id="265" name="未知"/>
            <p:cNvSpPr/>
            <p:nvPr/>
          </p:nvSpPr>
          <p:spPr>
            <a:xfrm rot="7320000">
              <a:off x="6787440" y="3649320"/>
              <a:ext cx="786960" cy="402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 rot="7320000">
              <a:off x="6768720" y="3633480"/>
              <a:ext cx="784800" cy="3981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 rot="7320000">
              <a:off x="6898680" y="3621960"/>
              <a:ext cx="520560" cy="36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775200" y="3389760"/>
              <a:ext cx="806040" cy="935280"/>
              <a:chOff x="6775200" y="3389760"/>
              <a:chExt cx="806040" cy="935280"/>
            </a:xfrm>
          </p:grpSpPr>
          <p:sp>
            <p:nvSpPr>
              <p:cNvPr id="269" name="未知"/>
              <p:cNvSpPr/>
              <p:nvPr/>
            </p:nvSpPr>
            <p:spPr>
              <a:xfrm rot="7320000">
                <a:off x="6862320" y="3981600"/>
                <a:ext cx="73800" cy="838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 rot="7320000">
                <a:off x="6760800" y="3642840"/>
                <a:ext cx="834840" cy="428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未知"/>
              <p:cNvSpPr/>
              <p:nvPr/>
            </p:nvSpPr>
            <p:spPr>
              <a:xfrm rot="7320000">
                <a:off x="6992280" y="3735360"/>
                <a:ext cx="590760" cy="242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 rot="7320000">
                <a:off x="7379640" y="3581640"/>
                <a:ext cx="78840" cy="1623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 rot="7320000">
                <a:off x="7074360" y="3740400"/>
                <a:ext cx="241560" cy="1432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未知"/>
          <p:cNvSpPr/>
          <p:nvPr/>
        </p:nvSpPr>
        <p:spPr>
          <a:xfrm>
            <a:off x="781200" y="3981600"/>
            <a:ext cx="5897520" cy="57276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未知"/>
          <p:cNvSpPr/>
          <p:nvPr/>
        </p:nvSpPr>
        <p:spPr>
          <a:xfrm>
            <a:off x="3532320" y="1521000"/>
            <a:ext cx="769680" cy="299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99400" y="120600"/>
            <a:ext cx="0" cy="12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396720" y="1353600"/>
            <a:ext cx="71280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8760" indent="-2613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40120" indent="-2599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22720" indent="-28116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22720" indent="-281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22720" indent="-281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396360" y="4920840"/>
            <a:ext cx="184788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2706480" y="4920840"/>
            <a:ext cx="250812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5676480" y="4920840"/>
            <a:ext cx="184788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127BA3ED-2337-4588-B6E3-9EDDB03E1A2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064280" y="120600"/>
            <a:ext cx="685800" cy="1018800"/>
            <a:chOff x="7064280" y="120600"/>
            <a:chExt cx="685800" cy="1018800"/>
          </a:xfrm>
        </p:grpSpPr>
        <p:sp>
          <p:nvSpPr>
            <p:cNvPr id="319" name=""/>
            <p:cNvSpPr/>
            <p:nvPr/>
          </p:nvSpPr>
          <p:spPr>
            <a:xfrm>
              <a:off x="7064280" y="120600"/>
              <a:ext cx="103680" cy="94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9720" y="120600"/>
              <a:ext cx="103680" cy="94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55160" y="120600"/>
              <a:ext cx="103680" cy="94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64280" y="252720"/>
              <a:ext cx="103680" cy="94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9720" y="252720"/>
              <a:ext cx="103680" cy="94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55160" y="252720"/>
              <a:ext cx="103680" cy="94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00600" y="252720"/>
              <a:ext cx="103680" cy="94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64280" y="384840"/>
              <a:ext cx="103680" cy="94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09720" y="384840"/>
              <a:ext cx="103680" cy="94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55160" y="384840"/>
              <a:ext cx="103680" cy="94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00600" y="384840"/>
              <a:ext cx="103680" cy="94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46400" y="384840"/>
              <a:ext cx="103680" cy="94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64280" y="516960"/>
              <a:ext cx="103680" cy="939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09720" y="516960"/>
              <a:ext cx="103680" cy="93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55160" y="516960"/>
              <a:ext cx="103680" cy="93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00600" y="516960"/>
              <a:ext cx="103680" cy="93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64280" y="649080"/>
              <a:ext cx="103680" cy="93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09720" y="649080"/>
              <a:ext cx="103680" cy="93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55160" y="649080"/>
              <a:ext cx="103680" cy="93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00600" y="649080"/>
              <a:ext cx="103680" cy="93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46400" y="649080"/>
              <a:ext cx="103680" cy="93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064280" y="780840"/>
              <a:ext cx="103680" cy="94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09720" y="780840"/>
              <a:ext cx="103680" cy="94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55160" y="780840"/>
              <a:ext cx="103680" cy="94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00600" y="780840"/>
              <a:ext cx="103680" cy="943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64280" y="912960"/>
              <a:ext cx="103680" cy="94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09720" y="912960"/>
              <a:ext cx="103680" cy="94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55160" y="912960"/>
              <a:ext cx="103680" cy="943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00600" y="912960"/>
              <a:ext cx="103680" cy="943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09720" y="1045080"/>
              <a:ext cx="103680" cy="943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00600" y="1045080"/>
              <a:ext cx="103680" cy="943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337440" y="839880"/>
            <a:ext cx="0" cy="35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72520" y="368280"/>
            <a:ext cx="5877000" cy="16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22"/>
          </p:nvPr>
        </p:nvSpPr>
        <p:spPr>
          <a:xfrm>
            <a:off x="396360" y="4920840"/>
            <a:ext cx="184788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23"/>
          </p:nvPr>
        </p:nvSpPr>
        <p:spPr>
          <a:xfrm>
            <a:off x="2706480" y="4920840"/>
            <a:ext cx="250812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4"/>
          </p:nvPr>
        </p:nvSpPr>
        <p:spPr>
          <a:xfrm>
            <a:off x="5676480" y="4920840"/>
            <a:ext cx="184788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1044537A-1F3E-4DEF-A98D-67E6B69CBE8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491160" y="2355840"/>
            <a:ext cx="1160280" cy="1724040"/>
            <a:chOff x="6491160" y="2355840"/>
            <a:chExt cx="1160280" cy="1724040"/>
          </a:xfrm>
        </p:grpSpPr>
        <p:sp>
          <p:nvSpPr>
            <p:cNvPr id="392" name=""/>
            <p:cNvSpPr/>
            <p:nvPr/>
          </p:nvSpPr>
          <p:spPr>
            <a:xfrm>
              <a:off x="6491160" y="2355840"/>
              <a:ext cx="174600" cy="158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37400" y="2355840"/>
              <a:ext cx="174600" cy="158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84000" y="2355840"/>
              <a:ext cx="174600" cy="158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91160" y="2579400"/>
              <a:ext cx="174600" cy="158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737400" y="2579400"/>
              <a:ext cx="174600" cy="158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84000" y="2579400"/>
              <a:ext cx="174600" cy="158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0600" y="2579400"/>
              <a:ext cx="174600" cy="158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91160" y="2803320"/>
              <a:ext cx="174600" cy="158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37400" y="2803320"/>
              <a:ext cx="174600" cy="158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84000" y="2803320"/>
              <a:ext cx="174600" cy="158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30600" y="2803320"/>
              <a:ext cx="174600" cy="158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76840" y="2803320"/>
              <a:ext cx="174600" cy="158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91160" y="3025800"/>
              <a:ext cx="174600" cy="159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737400" y="3025800"/>
              <a:ext cx="17460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84000" y="3025800"/>
              <a:ext cx="17460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30600" y="3025800"/>
              <a:ext cx="174600" cy="159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91160" y="3249720"/>
              <a:ext cx="17460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37400" y="3249720"/>
              <a:ext cx="17460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84000" y="3249720"/>
              <a:ext cx="174600" cy="159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230600" y="3249720"/>
              <a:ext cx="174600" cy="159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76840" y="3249720"/>
              <a:ext cx="174600" cy="159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91160" y="3473280"/>
              <a:ext cx="174600" cy="158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37400" y="3473280"/>
              <a:ext cx="174600" cy="158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84000" y="3473280"/>
              <a:ext cx="174600" cy="158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30600" y="3473280"/>
              <a:ext cx="174600" cy="158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91160" y="3697200"/>
              <a:ext cx="174600" cy="158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37400" y="3697200"/>
              <a:ext cx="174600" cy="158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84000" y="3697200"/>
              <a:ext cx="174600" cy="158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30600" y="3697200"/>
              <a:ext cx="174600" cy="158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37400" y="3921120"/>
              <a:ext cx="174600" cy="158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30600" y="3921120"/>
              <a:ext cx="174600" cy="158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263520" y="2220840"/>
            <a:ext cx="7129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:\HERO2000\STHSVCD.exe" TargetMode="External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7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21800" cy="55213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28480" y="781200"/>
            <a:ext cx="6732720" cy="11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低碳生活  从我做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055520" y="1499760"/>
            <a:ext cx="56786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184720" y="4716360"/>
            <a:ext cx="2590920" cy="457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98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</a:rPr>
              <a:t>四年级一班主题班队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360360" y="179280"/>
            <a:ext cx="158436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zh-CN" sz="4800" spc="-1" strike="noStrike" u="sng">
                <a:solidFill>
                  <a:srgbClr val="66ffff"/>
                </a:solidFill>
                <a:uFillTx/>
                <a:latin typeface="Times New Roman"/>
                <a:ea typeface="华文行楷"/>
              </a:rPr>
              <a:t> </a:t>
            </a:r>
            <a:r>
              <a:rPr b="1" lang="zh-CN" sz="4800" spc="-1" strike="noStrike" u="sng">
                <a:solidFill>
                  <a:srgbClr val="66ffff"/>
                </a:solidFill>
                <a:uFillTx/>
                <a:latin typeface="Times New Roman"/>
                <a:ea typeface="华文行楷"/>
              </a:rPr>
              <a:t>昨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Copy of view_07"/>
          <p:cNvPicPr/>
          <p:nvPr/>
        </p:nvPicPr>
        <p:blipFill>
          <a:blip r:embed="rId2"/>
          <a:stretch/>
        </p:blipFill>
        <p:spPr>
          <a:xfrm>
            <a:off x="504720" y="2268360"/>
            <a:ext cx="3311640" cy="262116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4"/>
          <p:cNvSpPr/>
          <p:nvPr/>
        </p:nvSpPr>
        <p:spPr>
          <a:xfrm>
            <a:off x="865080" y="971640"/>
            <a:ext cx="66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蓝天、白云、青山、绿水，到处是鸟语花香。人们在这个地球上过着快乐的生活。不断的繁衍着下一代。地球是我们赖以生存的家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5" descr="842bd9dc494fc66395ee3710"/>
          <p:cNvPicPr/>
          <p:nvPr/>
        </p:nvPicPr>
        <p:blipFill>
          <a:blip r:embed="rId3"/>
          <a:srcRect l="3858" t="13056" r="9266" b="8299"/>
          <a:stretch/>
        </p:blipFill>
        <p:spPr>
          <a:xfrm>
            <a:off x="4248000" y="2268360"/>
            <a:ext cx="3168720" cy="265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144"/>
          <p:cNvPicPr/>
          <p:nvPr/>
        </p:nvPicPr>
        <p:blipFill>
          <a:blip r:embed="rId2"/>
          <a:stretch/>
        </p:blipFill>
        <p:spPr>
          <a:xfrm>
            <a:off x="4681440" y="252360"/>
            <a:ext cx="2955960" cy="35640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" descr="120"/>
          <p:cNvPicPr/>
          <p:nvPr/>
        </p:nvPicPr>
        <p:blipFill>
          <a:blip r:embed="rId3"/>
          <a:stretch/>
        </p:blipFill>
        <p:spPr>
          <a:xfrm>
            <a:off x="263520" y="120600"/>
            <a:ext cx="3841920" cy="21049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" descr="117"/>
          <p:cNvPicPr/>
          <p:nvPr/>
        </p:nvPicPr>
        <p:blipFill>
          <a:blip r:embed="rId4"/>
          <a:stretch/>
        </p:blipFill>
        <p:spPr>
          <a:xfrm>
            <a:off x="263520" y="2639880"/>
            <a:ext cx="3913200" cy="235440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5"/>
          <p:cNvSpPr/>
          <p:nvPr/>
        </p:nvSpPr>
        <p:spPr>
          <a:xfrm>
            <a:off x="4537080" y="3924360"/>
            <a:ext cx="338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Arial"/>
              </a:rPr>
              <a:t>人们在不断的建设着自己的家园，他们努力的让自己的生活更加的美好。 然而。我们还能在这里居住多久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720720" y="75564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4" descr="9"/>
          <p:cNvPicPr/>
          <p:nvPr/>
        </p:nvPicPr>
        <p:blipFill>
          <a:blip r:embed="rId2"/>
          <a:stretch/>
        </p:blipFill>
        <p:spPr>
          <a:xfrm>
            <a:off x="3456000" y="3478320"/>
            <a:ext cx="1368360" cy="863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6600">
                <a:alpha val="50000"/>
              </a:srgbClr>
            </a:outerShdw>
          </a:effectLst>
        </p:spPr>
      </p:pic>
      <p:pic>
        <p:nvPicPr>
          <p:cNvPr id="493" name="Picture 5" descr="67"/>
          <p:cNvPicPr/>
          <p:nvPr/>
        </p:nvPicPr>
        <p:blipFill>
          <a:blip r:embed="rId3"/>
          <a:stretch/>
        </p:blipFill>
        <p:spPr>
          <a:xfrm>
            <a:off x="2521080" y="1484280"/>
            <a:ext cx="1295280" cy="986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8000">
                <a:alpha val="50000"/>
              </a:srgbClr>
            </a:outerShdw>
          </a:effectLst>
        </p:spPr>
      </p:pic>
      <p:pic>
        <p:nvPicPr>
          <p:cNvPr id="494" name="Picture 6" descr="41"/>
          <p:cNvPicPr/>
          <p:nvPr/>
        </p:nvPicPr>
        <p:blipFill>
          <a:blip r:embed="rId4"/>
          <a:stretch/>
        </p:blipFill>
        <p:spPr>
          <a:xfrm>
            <a:off x="4105440" y="1498680"/>
            <a:ext cx="1295280" cy="971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8000">
                <a:alpha val="50000"/>
              </a:srgbClr>
            </a:outerShdw>
          </a:effectLst>
        </p:spPr>
      </p:pic>
      <p:pic>
        <p:nvPicPr>
          <p:cNvPr id="495" name="Picture 7" descr="7"/>
          <p:cNvPicPr/>
          <p:nvPr/>
        </p:nvPicPr>
        <p:blipFill>
          <a:blip r:embed="rId5"/>
          <a:srcRect l="0" t="0" r="5514" b="18465"/>
          <a:stretch/>
        </p:blipFill>
        <p:spPr>
          <a:xfrm>
            <a:off x="5761080" y="1461960"/>
            <a:ext cx="1366920" cy="1008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8000">
                <a:alpha val="50000"/>
              </a:srgbClr>
            </a:outerShdw>
          </a:effectLst>
        </p:spPr>
      </p:pic>
      <p:pic>
        <p:nvPicPr>
          <p:cNvPr id="496" name="Picture 8" descr="31"/>
          <p:cNvPicPr/>
          <p:nvPr/>
        </p:nvPicPr>
        <p:blipFill>
          <a:blip r:embed="rId6"/>
          <a:srcRect l="0" t="0" r="0" b="14209"/>
          <a:stretch/>
        </p:blipFill>
        <p:spPr>
          <a:xfrm>
            <a:off x="5616720" y="3478320"/>
            <a:ext cx="1223640" cy="863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6600">
                <a:alpha val="50000"/>
              </a:srgbClr>
            </a:outerShdw>
          </a:effectLst>
        </p:spPr>
      </p:pic>
      <p:sp>
        <p:nvSpPr>
          <p:cNvPr id="497" name="Text Box 9"/>
          <p:cNvSpPr/>
          <p:nvPr/>
        </p:nvSpPr>
        <p:spPr>
          <a:xfrm>
            <a:off x="3168720" y="4645080"/>
            <a:ext cx="19429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1600" spc="-1" strike="noStrike">
                <a:solidFill>
                  <a:srgbClr val="ff3399"/>
                </a:solidFill>
                <a:latin typeface="Arial"/>
              </a:rPr>
              <a:t>由于海水的污染导致某些湖泊胡赤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5545080" y="4680000"/>
            <a:ext cx="208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一条黑色的乌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5689440" y="2541600"/>
            <a:ext cx="20163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1600" spc="-1" strike="noStrike">
                <a:solidFill>
                  <a:srgbClr val="ff3399"/>
                </a:solidFill>
                <a:latin typeface="Arial"/>
              </a:rPr>
              <a:t>“</a:t>
            </a:r>
            <a:r>
              <a:rPr b="1" lang="zh-CN" sz="1600" spc="-1" strike="noStrike">
                <a:solidFill>
                  <a:srgbClr val="ff3399"/>
                </a:solidFill>
                <a:latin typeface="Arial"/>
              </a:rPr>
              <a:t>我”在这里无情的死去，你们没有点什么想法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2448000" y="2629080"/>
            <a:ext cx="302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2000" spc="-1" strike="noStrike" u="sng">
                <a:solidFill>
                  <a:srgbClr val="006600"/>
                </a:solidFill>
                <a:uFillTx/>
                <a:latin typeface="Arial"/>
              </a:rPr>
              <a:t>森</a:t>
            </a:r>
            <a:r>
              <a:rPr b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&gt;</a:t>
            </a:r>
            <a:r>
              <a:rPr b="1" lang="zh-CN" sz="2000" spc="-1" strike="noStrike" u="sng">
                <a:solidFill>
                  <a:srgbClr val="006600"/>
                </a:solidFill>
                <a:uFillTx/>
                <a:latin typeface="Arial"/>
              </a:rPr>
              <a:t>林</a:t>
            </a:r>
            <a:r>
              <a:rPr b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&gt;</a:t>
            </a:r>
            <a:r>
              <a:rPr b="1" lang="zh-CN" sz="2000" spc="-1" strike="noStrike" u="sng">
                <a:solidFill>
                  <a:srgbClr val="006600"/>
                </a:solidFill>
                <a:uFillTx/>
                <a:latin typeface="Arial"/>
              </a:rPr>
              <a:t>木 </a:t>
            </a:r>
            <a:r>
              <a:rPr b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!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d9b14"/>
                </a:solidFill>
                <a:latin typeface="Arial"/>
              </a:rPr>
              <a:t>? </a:t>
            </a:r>
            <a:r>
              <a:rPr b="1" lang="zh-CN" sz="1400" spc="-1" strike="noStrike">
                <a:solidFill>
                  <a:srgbClr val="ff3399"/>
                </a:solidFill>
                <a:latin typeface="Arial"/>
              </a:rPr>
              <a:t>当我们失去了它们以后，地球 会变成什么样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3" descr="xin_04308061609264373163122"/>
          <p:cNvPicPr/>
          <p:nvPr/>
        </p:nvPicPr>
        <p:blipFill>
          <a:blip r:embed="rId7"/>
          <a:stretch/>
        </p:blipFill>
        <p:spPr>
          <a:xfrm>
            <a:off x="1008000" y="3492360"/>
            <a:ext cx="1368360" cy="98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6600">
                <a:alpha val="50000"/>
              </a:srgbClr>
            </a:outerShdw>
          </a:effectLst>
        </p:spPr>
      </p:pic>
      <p:pic>
        <p:nvPicPr>
          <p:cNvPr id="502" name="Picture 14" descr="市汽车尾气"/>
          <p:cNvPicPr/>
          <p:nvPr/>
        </p:nvPicPr>
        <p:blipFill>
          <a:blip r:embed="rId8"/>
          <a:stretch/>
        </p:blipFill>
        <p:spPr>
          <a:xfrm>
            <a:off x="936720" y="1482840"/>
            <a:ext cx="1368360" cy="987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8000">
                <a:alpha val="50000"/>
              </a:srgbClr>
            </a:outerShdw>
          </a:effectLst>
        </p:spPr>
      </p:pic>
      <p:sp>
        <p:nvSpPr>
          <p:cNvPr id="503" name="Text Box 15"/>
          <p:cNvSpPr/>
          <p:nvPr/>
        </p:nvSpPr>
        <p:spPr>
          <a:xfrm>
            <a:off x="576360" y="2570040"/>
            <a:ext cx="194472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1500" spc="-1" strike="noStrike">
                <a:solidFill>
                  <a:srgbClr val="ff3399"/>
                </a:solidFill>
                <a:latin typeface="Arial"/>
              </a:rPr>
              <a:t>汽车的尾气给我们的城市带来了什么，难道我们还不觉悟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6"/>
          <p:cNvSpPr/>
          <p:nvPr/>
        </p:nvSpPr>
        <p:spPr>
          <a:xfrm>
            <a:off x="720720" y="4788000"/>
            <a:ext cx="22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快跑啊。洪水来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2"/>
          <p:cNvSpPr txBox="1"/>
          <p:nvPr/>
        </p:nvSpPr>
        <p:spPr>
          <a:xfrm>
            <a:off x="936720" y="252360"/>
            <a:ext cx="115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4000" spc="-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今天</a:t>
            </a:r>
            <a:endParaRPr b="0" lang="en-US" sz="4000" spc="-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8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8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80"/>
                            </p:stCondLst>
                            <p:childTnLst>
                              <p:par>
                                <p:cTn id="8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580"/>
                            </p:stCondLst>
                            <p:childTnLst>
                              <p:par>
                                <p:cTn id="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58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08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580"/>
                            </p:stCondLst>
                            <p:childTnLst>
                              <p:par>
                                <p:cTn id="1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358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4080"/>
                            </p:stCondLst>
                            <p:childTnLst>
                              <p:par>
                                <p:cTn id="1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8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580"/>
                            </p:stCondLst>
                            <p:childTnLst>
                              <p:par>
                                <p:cTn id="1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658800" y="911160"/>
            <a:ext cx="611028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504720" y="324000"/>
            <a:ext cx="57610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zh-CN" sz="4000" spc="-1" strike="noStrike" u="sng">
                <a:solidFill>
                  <a:srgbClr val="ff33cc"/>
                </a:solidFill>
                <a:uFillTx/>
                <a:latin typeface="Times New Roman"/>
                <a:ea typeface="黑体"/>
              </a:rPr>
              <a:t>看看我们自己做过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893880" y="1563840"/>
            <a:ext cx="666756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不合理开发和利用自然资而造成的生态环境的破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808200" y="3184560"/>
            <a:ext cx="66085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工农业生产的发展和人类的活动造成的污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667 0.028 0.08267 0.062 0.08267 C 0.097 0.08267 0.125 0.04667 0.125 0 C 0.125 -0.04667 0.153 -0.08267 0.188 -0.08267 C 0.222 -0.08267 0.25 -0.04667 0.25 0 E">
                                      <p:cBhvr>
                                        <p:cTn id="146" dur="3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360" y="252360"/>
            <a:ext cx="7128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ahoma"/>
                <a:ea typeface="黑体"/>
              </a:rPr>
              <a:t>由于不合理开发造成水体污染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954000" y="-19080"/>
            <a:ext cx="57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2"/>
          <p:cNvPicPr/>
          <p:nvPr/>
        </p:nvPicPr>
        <p:blipFill>
          <a:blip r:embed="rId2"/>
          <a:stretch/>
        </p:blipFill>
        <p:spPr>
          <a:xfrm>
            <a:off x="865080" y="1260360"/>
            <a:ext cx="2878200" cy="3444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" descr="2"/>
          <p:cNvPicPr/>
          <p:nvPr/>
        </p:nvPicPr>
        <p:blipFill>
          <a:blip r:embed="rId3"/>
          <a:srcRect l="5378" t="11642" r="0" b="0"/>
          <a:stretch/>
        </p:blipFill>
        <p:spPr>
          <a:xfrm>
            <a:off x="3789360" y="1260360"/>
            <a:ext cx="3672000" cy="349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3000" fill="hold"/>
                                        <p:tgtEl>
                                          <p:spTgt spid="5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3000" fill="hold"/>
                                        <p:tgtEl>
                                          <p:spTgt spid="5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504720" y="252360"/>
            <a:ext cx="6734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ahoma"/>
                <a:ea typeface="黑体"/>
              </a:rPr>
              <a:t>这样的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Tahoma"/>
                <a:ea typeface="黑体"/>
              </a:rPr>
              <a:t>音乐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ff6600"/>
                </a:solidFill>
                <a:latin typeface="Tahoma"/>
                <a:ea typeface="黑体"/>
              </a:rPr>
              <a:t>是我们想要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5"/>
          <p:cNvPicPr/>
          <p:nvPr/>
        </p:nvPicPr>
        <p:blipFill>
          <a:blip r:embed="rId2"/>
          <a:stretch/>
        </p:blipFill>
        <p:spPr>
          <a:xfrm>
            <a:off x="504720" y="1260360"/>
            <a:ext cx="3294000" cy="38163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7"/>
          <p:cNvPicPr/>
          <p:nvPr/>
        </p:nvPicPr>
        <p:blipFill>
          <a:blip r:embed="rId3"/>
          <a:stretch/>
        </p:blipFill>
        <p:spPr>
          <a:xfrm>
            <a:off x="4321080" y="1260360"/>
            <a:ext cx="32022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5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5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1122480" y="539640"/>
            <a:ext cx="5875200" cy="65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Tahoma"/>
                <a:ea typeface="黑体"/>
              </a:rPr>
              <a:t>大气污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a0103021"/>
          <p:cNvPicPr/>
          <p:nvPr/>
        </p:nvPicPr>
        <p:blipFill>
          <a:blip r:embed="rId2"/>
          <a:stretch/>
        </p:blipFill>
        <p:spPr>
          <a:xfrm>
            <a:off x="1122480" y="1187280"/>
            <a:ext cx="5940360" cy="36608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p:transition spd="slow">
    <p:wheel spokes="1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温室效应漫画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6360"/>
            <a:ext cx="3498840" cy="29466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96720" y="216000"/>
            <a:ext cx="7128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zh-CN" sz="37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610600" y="0"/>
            <a:ext cx="2311200" cy="54007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思考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812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zh-CN" sz="4500" spc="-1" strike="noStrike">
                <a:solidFill>
                  <a:srgbClr val="ffff00"/>
                </a:solidFill>
                <a:latin typeface="Times New Roman"/>
                <a:ea typeface="隶书"/>
              </a:rPr>
              <a:t>大气的污染改变气温升高，对各地区的生态环境、干湿状况和社会经济会什么影响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5" descr="xinsrc_50204041509109371556114"/>
          <p:cNvPicPr/>
          <p:nvPr/>
        </p:nvPicPr>
        <p:blipFill>
          <a:blip r:embed="rId5"/>
          <a:stretch/>
        </p:blipFill>
        <p:spPr>
          <a:xfrm>
            <a:off x="1440" y="2916360"/>
            <a:ext cx="3313440" cy="25095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温室效应漫画0"/>
          <p:cNvPicPr/>
          <p:nvPr/>
        </p:nvPicPr>
        <p:blipFill>
          <a:blip r:embed="rId2"/>
          <a:stretch/>
        </p:blipFill>
        <p:spPr>
          <a:xfrm>
            <a:off x="0" y="0"/>
            <a:ext cx="7921800" cy="540072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4"/>
          <p:cNvSpPr/>
          <p:nvPr/>
        </p:nvSpPr>
        <p:spPr>
          <a:xfrm>
            <a:off x="216000" y="179280"/>
            <a:ext cx="49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zh-CN" sz="3700" spc="-1" strike="noStrike">
                <a:solidFill>
                  <a:srgbClr val="000066"/>
                </a:solidFill>
                <a:latin typeface="Times New Roman"/>
                <a:ea typeface="黑体"/>
              </a:rPr>
              <a:t>猜，企鹅在说什么？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168720" y="609480"/>
            <a:ext cx="3816360" cy="984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98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184720" y="324000"/>
            <a:ext cx="2952720" cy="1512720"/>
          </a:xfrm>
          <a:prstGeom prst="cloudCallout">
            <a:avLst>
              <a:gd name="adj1" fmla="val -36236"/>
              <a:gd name="adj2" fmla="val 66055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898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明天，我们去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725400" y="0"/>
            <a:ext cx="6602400" cy="540072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25400" y="0"/>
            <a:ext cx="6602400" cy="5400720"/>
          </a:xfrm>
          <a:prstGeom prst="ellipse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25400" y="0"/>
            <a:ext cx="6602400" cy="540072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未知"/>
          <p:cNvSpPr/>
          <p:nvPr/>
        </p:nvSpPr>
        <p:spPr>
          <a:xfrm>
            <a:off x="3235320" y="0"/>
            <a:ext cx="792000" cy="5400720"/>
          </a:xfrm>
          <a:custGeom>
            <a:avLst/>
            <a:gdLst/>
            <a:ahLst/>
            <a:rect l="l" t="t" r="r" b="b"/>
            <a:pathLst>
              <a:path w="576" h="4320">
                <a:moveTo>
                  <a:pt x="576" y="0"/>
                </a:moveTo>
                <a:cubicBezTo>
                  <a:pt x="288" y="720"/>
                  <a:pt x="0" y="1440"/>
                  <a:pt x="0" y="2160"/>
                </a:cubicBezTo>
                <a:cubicBezTo>
                  <a:pt x="0" y="2880"/>
                  <a:pt x="480" y="3960"/>
                  <a:pt x="576" y="4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未知"/>
          <p:cNvSpPr/>
          <p:nvPr/>
        </p:nvSpPr>
        <p:spPr>
          <a:xfrm>
            <a:off x="2178000" y="60480"/>
            <a:ext cx="1849320" cy="5340240"/>
          </a:xfrm>
          <a:custGeom>
            <a:avLst/>
            <a:gdLst/>
            <a:ahLst/>
            <a:rect l="l" t="t" r="r" b="b"/>
            <a:pathLst>
              <a:path w="576" h="4320">
                <a:moveTo>
                  <a:pt x="576" y="0"/>
                </a:moveTo>
                <a:cubicBezTo>
                  <a:pt x="288" y="720"/>
                  <a:pt x="0" y="1440"/>
                  <a:pt x="0" y="2160"/>
                </a:cubicBezTo>
                <a:cubicBezTo>
                  <a:pt x="0" y="2880"/>
                  <a:pt x="480" y="3960"/>
                  <a:pt x="576" y="432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未知"/>
          <p:cNvSpPr/>
          <p:nvPr/>
        </p:nvSpPr>
        <p:spPr>
          <a:xfrm>
            <a:off x="1320840" y="60480"/>
            <a:ext cx="2706480" cy="5340240"/>
          </a:xfrm>
          <a:custGeom>
            <a:avLst/>
            <a:gdLst/>
            <a:ahLst/>
            <a:rect l="l" t="t" r="r" b="b"/>
            <a:pathLst>
              <a:path w="576" h="4320">
                <a:moveTo>
                  <a:pt x="576" y="0"/>
                </a:moveTo>
                <a:cubicBezTo>
                  <a:pt x="288" y="720"/>
                  <a:pt x="0" y="1440"/>
                  <a:pt x="0" y="2160"/>
                </a:cubicBezTo>
                <a:cubicBezTo>
                  <a:pt x="0" y="2880"/>
                  <a:pt x="480" y="3960"/>
                  <a:pt x="576" y="432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未知"/>
          <p:cNvSpPr/>
          <p:nvPr/>
        </p:nvSpPr>
        <p:spPr>
          <a:xfrm flipH="1">
            <a:off x="4027320" y="0"/>
            <a:ext cx="857520" cy="5400720"/>
          </a:xfrm>
          <a:custGeom>
            <a:avLst/>
            <a:gdLst/>
            <a:ahLst/>
            <a:rect l="l" t="t" r="r" b="b"/>
            <a:pathLst>
              <a:path w="576" h="4320">
                <a:moveTo>
                  <a:pt x="576" y="0"/>
                </a:moveTo>
                <a:cubicBezTo>
                  <a:pt x="288" y="720"/>
                  <a:pt x="0" y="1440"/>
                  <a:pt x="0" y="2160"/>
                </a:cubicBezTo>
                <a:cubicBezTo>
                  <a:pt x="0" y="2880"/>
                  <a:pt x="480" y="3960"/>
                  <a:pt x="576" y="432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未知"/>
          <p:cNvSpPr/>
          <p:nvPr/>
        </p:nvSpPr>
        <p:spPr>
          <a:xfrm flipH="1">
            <a:off x="4027320" y="0"/>
            <a:ext cx="1781280" cy="5400720"/>
          </a:xfrm>
          <a:custGeom>
            <a:avLst/>
            <a:gdLst/>
            <a:ahLst/>
            <a:rect l="l" t="t" r="r" b="b"/>
            <a:pathLst>
              <a:path w="576" h="4320">
                <a:moveTo>
                  <a:pt x="576" y="0"/>
                </a:moveTo>
                <a:cubicBezTo>
                  <a:pt x="288" y="720"/>
                  <a:pt x="0" y="1440"/>
                  <a:pt x="0" y="2160"/>
                </a:cubicBezTo>
                <a:cubicBezTo>
                  <a:pt x="0" y="2880"/>
                  <a:pt x="480" y="3960"/>
                  <a:pt x="576" y="432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未知"/>
          <p:cNvSpPr/>
          <p:nvPr/>
        </p:nvSpPr>
        <p:spPr>
          <a:xfrm flipH="1">
            <a:off x="4027320" y="60480"/>
            <a:ext cx="2640240" cy="5279760"/>
          </a:xfrm>
          <a:custGeom>
            <a:avLst/>
            <a:gdLst/>
            <a:ahLst/>
            <a:rect l="l" t="t" r="r" b="b"/>
            <a:pathLst>
              <a:path w="576" h="4320">
                <a:moveTo>
                  <a:pt x="576" y="0"/>
                </a:moveTo>
                <a:cubicBezTo>
                  <a:pt x="288" y="720"/>
                  <a:pt x="0" y="1440"/>
                  <a:pt x="0" y="2160"/>
                </a:cubicBezTo>
                <a:cubicBezTo>
                  <a:pt x="0" y="2880"/>
                  <a:pt x="480" y="3960"/>
                  <a:pt x="576" y="432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未知"/>
          <p:cNvSpPr/>
          <p:nvPr/>
        </p:nvSpPr>
        <p:spPr>
          <a:xfrm>
            <a:off x="2706840" y="239760"/>
            <a:ext cx="2574720" cy="299880"/>
          </a:xfrm>
          <a:custGeom>
            <a:avLst/>
            <a:gdLst/>
            <a:ahLst/>
            <a:rect l="l" t="t" r="r" b="b"/>
            <a:pathLst>
              <a:path w="1872" h="240">
                <a:moveTo>
                  <a:pt x="0" y="0"/>
                </a:moveTo>
                <a:cubicBezTo>
                  <a:pt x="324" y="120"/>
                  <a:pt x="648" y="240"/>
                  <a:pt x="960" y="240"/>
                </a:cubicBezTo>
                <a:cubicBezTo>
                  <a:pt x="1272" y="240"/>
                  <a:pt x="1720" y="40"/>
                  <a:pt x="187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未知"/>
          <p:cNvSpPr/>
          <p:nvPr/>
        </p:nvSpPr>
        <p:spPr>
          <a:xfrm>
            <a:off x="1650960" y="839880"/>
            <a:ext cx="4753080" cy="420480"/>
          </a:xfrm>
          <a:custGeom>
            <a:avLst/>
            <a:gdLst/>
            <a:ahLst/>
            <a:rect l="l" t="t" r="r" b="b"/>
            <a:pathLst>
              <a:path w="1872" h="240">
                <a:moveTo>
                  <a:pt x="0" y="0"/>
                </a:moveTo>
                <a:cubicBezTo>
                  <a:pt x="324" y="120"/>
                  <a:pt x="648" y="240"/>
                  <a:pt x="960" y="240"/>
                </a:cubicBezTo>
                <a:cubicBezTo>
                  <a:pt x="1272" y="240"/>
                  <a:pt x="1720" y="40"/>
                  <a:pt x="187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未知"/>
          <p:cNvSpPr/>
          <p:nvPr/>
        </p:nvSpPr>
        <p:spPr>
          <a:xfrm>
            <a:off x="990720" y="1620720"/>
            <a:ext cx="6072120" cy="419040"/>
          </a:xfrm>
          <a:custGeom>
            <a:avLst/>
            <a:gdLst/>
            <a:ahLst/>
            <a:rect l="l" t="t" r="r" b="b"/>
            <a:pathLst>
              <a:path w="1872" h="240">
                <a:moveTo>
                  <a:pt x="0" y="0"/>
                </a:moveTo>
                <a:cubicBezTo>
                  <a:pt x="324" y="120"/>
                  <a:pt x="648" y="240"/>
                  <a:pt x="960" y="240"/>
                </a:cubicBezTo>
                <a:cubicBezTo>
                  <a:pt x="1272" y="240"/>
                  <a:pt x="1720" y="40"/>
                  <a:pt x="187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未知"/>
          <p:cNvSpPr/>
          <p:nvPr/>
        </p:nvSpPr>
        <p:spPr>
          <a:xfrm flipV="1">
            <a:off x="990720" y="3359520"/>
            <a:ext cx="6072120" cy="419400"/>
          </a:xfrm>
          <a:custGeom>
            <a:avLst/>
            <a:gdLst/>
            <a:ahLst/>
            <a:rect l="l" t="t" r="r" b="b"/>
            <a:pathLst>
              <a:path w="1872" h="240">
                <a:moveTo>
                  <a:pt x="0" y="0"/>
                </a:moveTo>
                <a:cubicBezTo>
                  <a:pt x="324" y="120"/>
                  <a:pt x="648" y="240"/>
                  <a:pt x="960" y="240"/>
                </a:cubicBezTo>
                <a:cubicBezTo>
                  <a:pt x="1272" y="240"/>
                  <a:pt x="1720" y="40"/>
                  <a:pt x="187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未知"/>
          <p:cNvSpPr/>
          <p:nvPr/>
        </p:nvSpPr>
        <p:spPr>
          <a:xfrm flipV="1">
            <a:off x="1650960" y="4079880"/>
            <a:ext cx="4753080" cy="480960"/>
          </a:xfrm>
          <a:custGeom>
            <a:avLst/>
            <a:gdLst/>
            <a:ahLst/>
            <a:rect l="l" t="t" r="r" b="b"/>
            <a:pathLst>
              <a:path w="1872" h="240">
                <a:moveTo>
                  <a:pt x="0" y="0"/>
                </a:moveTo>
                <a:cubicBezTo>
                  <a:pt x="324" y="120"/>
                  <a:pt x="648" y="240"/>
                  <a:pt x="960" y="240"/>
                </a:cubicBezTo>
                <a:cubicBezTo>
                  <a:pt x="1272" y="240"/>
                  <a:pt x="1720" y="40"/>
                  <a:pt x="187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未知"/>
          <p:cNvSpPr/>
          <p:nvPr/>
        </p:nvSpPr>
        <p:spPr>
          <a:xfrm flipV="1">
            <a:off x="2639880" y="4860360"/>
            <a:ext cx="2706840" cy="239400"/>
          </a:xfrm>
          <a:custGeom>
            <a:avLst/>
            <a:gdLst/>
            <a:ahLst/>
            <a:rect l="l" t="t" r="r" b="b"/>
            <a:pathLst>
              <a:path w="1872" h="240">
                <a:moveTo>
                  <a:pt x="0" y="0"/>
                </a:moveTo>
                <a:cubicBezTo>
                  <a:pt x="324" y="120"/>
                  <a:pt x="648" y="240"/>
                  <a:pt x="960" y="240"/>
                </a:cubicBezTo>
                <a:cubicBezTo>
                  <a:pt x="1272" y="240"/>
                  <a:pt x="1720" y="40"/>
                  <a:pt x="187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1716120" y="1439640"/>
            <a:ext cx="2112840" cy="900000"/>
          </a:xfrm>
          <a:prstGeom prst="blockArc">
            <a:avLst>
              <a:gd name="adj1" fmla="val 10072928"/>
              <a:gd name="adj2" fmla="val 727072"/>
              <a:gd name="adj3" fmla="val 235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290840" y="1379160"/>
            <a:ext cx="2046600" cy="900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73440" y="3900600"/>
            <a:ext cx="2376360" cy="1079280"/>
          </a:xfrm>
          <a:prstGeom prst="blockArc">
            <a:avLst>
              <a:gd name="adj1" fmla="val 11143480"/>
              <a:gd name="adj2" fmla="val 21256520"/>
              <a:gd name="adj3" fmla="val 256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06840" y="2521080"/>
            <a:ext cx="66600" cy="17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773440" y="2879640"/>
            <a:ext cx="65160" cy="1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05200" y="3240000"/>
            <a:ext cx="65160" cy="1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81560" y="2521080"/>
            <a:ext cx="65160" cy="17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14960" y="2879640"/>
            <a:ext cx="66600" cy="1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083200" y="3240000"/>
            <a:ext cx="66600" cy="1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3640" y="-393840"/>
            <a:ext cx="6397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960" rIns="75960" tIns="38160" bIns="38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听，我们的地球在哭泣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89080" y="1116000"/>
            <a:ext cx="7416720" cy="1493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05d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低碳生活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low-carbonlif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就是指生活作息时所耗用的能量要尽力减少，从而减低碳，特别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二氧化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排放量，从而减少对大气的污染，减缓生态恶化，主要是从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节电、节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回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个环节来改变生活细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98200" y="2532600"/>
            <a:ext cx="724680" cy="335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05d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温室气体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76360" y="252360"/>
            <a:ext cx="2376360" cy="57924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53753" dir="2700000" blurRad="0" rotWithShape="0">
              <a:srgbClr val="987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知道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36720" y="3780000"/>
            <a:ext cx="2016000" cy="579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05d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温室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313080" y="3780000"/>
            <a:ext cx="2016000" cy="579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05d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物种减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3" descr="5a573a121844a0f1c2fd785b"/>
          <p:cNvPicPr/>
          <p:nvPr/>
        </p:nvPicPr>
        <p:blipFill>
          <a:blip r:embed="rId2"/>
          <a:srcRect l="607" t="4127" r="0" b="0"/>
          <a:stretch/>
        </p:blipFill>
        <p:spPr>
          <a:xfrm>
            <a:off x="289080" y="0"/>
            <a:ext cx="5184720" cy="5400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553" name=""/>
          <p:cNvSpPr/>
          <p:nvPr/>
        </p:nvSpPr>
        <p:spPr>
          <a:xfrm>
            <a:off x="5834160" y="252360"/>
            <a:ext cx="1828800" cy="4753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05d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看，</a:t>
            </a:r>
            <a:r>
              <a:rPr b="1" lang="zh-CN" sz="6000" spc="-1" strike="noStrike">
                <a:solidFill>
                  <a:srgbClr val="ff6600"/>
                </a:solidFill>
                <a:latin typeface="Arial"/>
              </a:rPr>
              <a:t>你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又有何感想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83"/>
          <p:cNvPicPr/>
          <p:nvPr/>
        </p:nvPicPr>
        <p:blipFill>
          <a:blip r:embed="rId2"/>
          <a:stretch/>
        </p:blipFill>
        <p:spPr>
          <a:xfrm>
            <a:off x="396720" y="1260360"/>
            <a:ext cx="3498840" cy="35640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6720" y="216000"/>
            <a:ext cx="7128000" cy="9000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700" spc="-1" strike="noStrike">
                <a:solidFill>
                  <a:srgbClr val="ff3399"/>
                </a:solidFill>
                <a:latin typeface="Arial"/>
              </a:rPr>
              <a:t>谁来‘帮助’我们拯救“家园”</a:t>
            </a:r>
            <a:endParaRPr b="0" lang="en-US" sz="37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56" name="Picture 4" descr="bfd855703f54442b8701b096"/>
          <p:cNvPicPr/>
          <p:nvPr/>
        </p:nvPicPr>
        <p:blipFill>
          <a:blip r:embed="rId3"/>
          <a:stretch/>
        </p:blipFill>
        <p:spPr>
          <a:xfrm>
            <a:off x="3889440" y="1260360"/>
            <a:ext cx="3498840" cy="35640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p:transition spd="slow">
    <p:wheel spokes="1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2808360" y="3924360"/>
            <a:ext cx="48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WordArt 3"/>
          <p:cNvSpPr txBox="1"/>
          <p:nvPr/>
        </p:nvSpPr>
        <p:spPr>
          <a:xfrm>
            <a:off x="504720" y="395280"/>
            <a:ext cx="129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1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明天</a:t>
            </a:r>
            <a:endParaRPr b="0" lang="en-US" sz="16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1008000" y="1547640"/>
            <a:ext cx="62643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Arial"/>
                <a:ea typeface="华文行楷"/>
              </a:rPr>
              <a:t>绿色低碳，节能减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7" descr="37bOOOPIC7a"/>
          <p:cNvPicPr/>
          <p:nvPr/>
        </p:nvPicPr>
        <p:blipFill>
          <a:blip r:embed="rId2">
            <a:lum contrast="2000"/>
          </a:blip>
          <a:srcRect l="73" t="17797" r="0" b="0"/>
          <a:stretch/>
        </p:blipFill>
        <p:spPr>
          <a:xfrm>
            <a:off x="865080" y="2916360"/>
            <a:ext cx="6264360" cy="22604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448000" y="539640"/>
            <a:ext cx="3816360" cy="640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05d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我们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144000" y="972720"/>
            <a:ext cx="77058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Bef>
                <a:spcPts val="55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选用节能电器，省电每天做到。点亮节能灯，省电看得清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电视机、电脑屏幕暗一点，节能又护眼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用完电器拔插头，省电又安全。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科学用电脑，节电效果好。暂时不用电脑时，缩短显示器进入睡眠模式的时间设定；当彻底不用电脑时，记得拔掉插头。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巧用电冰箱，省电效果强。电冰箱及时除霜、尽量减少开门次数、将冷冻室内需解冻的食品提前取出，放入冷藏室解冻。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煮饭提前淘米，并浸泡十分钟，然后再用电饭锅煮，可缩短米熟的时间，节电约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10%</a:t>
            </a: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。用燃气灶等煮炖饭菜时，开锅后转为小火，保持沸腾即可。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576360" y="252360"/>
            <a:ext cx="669744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3000" spc="-1" strike="noStrike" u="sng">
                <a:solidFill>
                  <a:srgbClr val="ff3399"/>
                </a:solidFill>
                <a:uFillTx/>
                <a:latin typeface="Arial"/>
              </a:rPr>
              <a:t>低碳生活你知道多少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44360" y="396720"/>
            <a:ext cx="777744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出门骑上自行车，健身环保一举两得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少买不必要的衣服，才是环保新时尚。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减少购买过度包装的商品。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少用一次性塑料袋，绿色购物节能源。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少用一次性木筷，保护森林减碳排。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学会废物新利用，将垃圾变为有用材料。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做到一水多用，用洗菜水和淘米水浇花，洗脸水、洗衣服水等倒入桶中可用来拖地、冲厕所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47640" y="4284720"/>
            <a:ext cx="7128000" cy="5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3000" spc="-1" strike="noStrike">
                <a:solidFill>
                  <a:srgbClr val="ff3399"/>
                </a:solidFill>
                <a:latin typeface="Arial"/>
                <a:ea typeface="黑体"/>
              </a:rPr>
              <a:t>这些是我们能做到的。低碳生活并不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5" descr="E:\ppt模板\ppt素材图片\091214161522fe49fe65c576a9.jpg"/>
          <p:cNvPicPr/>
          <p:nvPr/>
        </p:nvPicPr>
        <p:blipFill>
          <a:blip r:embed="rId2"/>
          <a:stretch/>
        </p:blipFill>
        <p:spPr>
          <a:xfrm>
            <a:off x="0" y="0"/>
            <a:ext cx="7921800" cy="5556240"/>
          </a:xfrm>
          <a:prstGeom prst="rect">
            <a:avLst/>
          </a:prstGeom>
          <a:ln w="0">
            <a:noFill/>
          </a:ln>
        </p:spPr>
      </p:pic>
      <p:sp>
        <p:nvSpPr>
          <p:cNvPr id="567" name="TextBox 1"/>
          <p:cNvSpPr/>
          <p:nvPr/>
        </p:nvSpPr>
        <p:spPr>
          <a:xfrm>
            <a:off x="0" y="396720"/>
            <a:ext cx="7935840" cy="686160"/>
          </a:xfrm>
          <a:prstGeom prst="rect">
            <a:avLst/>
          </a:prstGeom>
          <a:noFill/>
          <a:ln w="0">
            <a:noFill/>
          </a:ln>
          <a:effectLst>
            <a:outerShdw dist="64600" dir="1687483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28720" y="1260360"/>
            <a:ext cx="5400720" cy="1099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05d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6600" spc="-1" strike="noStrike">
                <a:solidFill>
                  <a:srgbClr val="ff3399"/>
                </a:solidFill>
                <a:latin typeface="Arial"/>
              </a:rPr>
              <a:t>低碳生活，你、我、他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593640" y="603360"/>
            <a:ext cx="5631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9400" y="3421080"/>
            <a:ext cx="56293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9600" spc="-1" strike="noStrike">
                <a:solidFill>
                  <a:srgbClr val="703dff"/>
                </a:solidFill>
                <a:latin typeface="华文彩云"/>
                <a:ea typeface="华文彩云"/>
              </a:rPr>
              <a:t>    </a:t>
            </a:r>
            <a:r>
              <a:rPr b="1" lang="zh-CN" sz="9600" spc="-1" strike="noStrike">
                <a:solidFill>
                  <a:srgbClr val="703dff"/>
                </a:solidFill>
                <a:latin typeface="华文彩云"/>
                <a:ea typeface="华文彩云"/>
              </a:rPr>
              <a:t>谢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1090440" y="714240"/>
            <a:ext cx="5365800" cy="2667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406440" y="318960"/>
            <a:ext cx="6099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2400" spc="-1" strike="noStrike">
                <a:solidFill>
                  <a:srgbClr val="7e9ce8"/>
                </a:solidFill>
                <a:latin typeface="楷体_GB2312"/>
                <a:ea typeface="楷体_GB2312"/>
              </a:rPr>
              <a:t>低碳生活，勿以善小而不为：中国人有句俗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2400" spc="-1" strike="noStrike">
                <a:solidFill>
                  <a:srgbClr val="7e9ce8"/>
                </a:solidFill>
                <a:latin typeface="楷体_GB2312"/>
                <a:ea typeface="楷体_GB2312"/>
              </a:rPr>
              <a:t>勿以善小而不为，勿以恶小而为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zh-CN" sz="2400" spc="-1" strike="noStrike">
                <a:solidFill>
                  <a:srgbClr val="7e9ce8"/>
                </a:solidFill>
                <a:latin typeface="楷体_GB2312"/>
                <a:ea typeface="楷体_GB2312"/>
              </a:rPr>
              <a:t>低碳生活其实只需要你稍稍改变自己的生活方式。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008000" y="2987640"/>
            <a:ext cx="2676600" cy="1216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4176720" y="2556000"/>
            <a:ext cx="2674800" cy="12160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1154160" y="2984400"/>
            <a:ext cx="4427640" cy="205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6360" y="96480"/>
            <a:ext cx="653436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96720" y="1353600"/>
            <a:ext cx="71280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手下留情，足下留青，爱护环境，人人有责。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植树造林，功在千秋。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爱祖国，护绿化，保清洁，爱家园。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保持地球生态平衡，就是保护人数自身。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保护环境，就是爱惜生命。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兴我中华，爱我昆山。爱护家园，人人有责。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那里有绿色，哪里就有生命。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地球只有一个，失去它，我们到哪里去寻找家园。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绿化做得好，染污就减少。垃圾分类放，环境有保障。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爱护环境，保护地球，让我们托起双手共同撑起一片蔚蓝的天空。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请高抬贵脚，听，小草在哭泣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! 12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谁能忍受每天戴着防毒面具过日子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还空气清新吧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! 13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天空是小鸟家，河流是鱼儿的家，地球是我们的家。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让地球妈妈永远年轻美丽。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把绿色带到世界每一个角落，让绿色流入人们心中。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废气，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op!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废水，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op!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染污，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o away! 17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绿树成荫，花香扑鼻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理想家园靠大家。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破坏环境的人终将得到大自然的惩罚。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节约能源，人人有责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! 20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用好你的手，垃圾无处溜。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0" y="299880"/>
            <a:ext cx="7921800" cy="4800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0" y="396720"/>
            <a:ext cx="7921800" cy="4606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0" y="299880"/>
            <a:ext cx="7921800" cy="4861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0" y="420840"/>
            <a:ext cx="7921800" cy="4559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0" y="360360"/>
            <a:ext cx="7921800" cy="4619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0" y="360360"/>
            <a:ext cx="7921800" cy="4602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0" y="450720"/>
            <a:ext cx="7921800" cy="4500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7T06:22:03Z</dcterms:created>
  <dc:creator/>
  <dc:description/>
  <cp:keywords/>
  <dc:language>en-US</dc:language>
  <cp:lastModifiedBy>微软用户</cp:lastModifiedBy>
  <cp:lastPrinted>1899-12-30T00:00:00Z</cp:lastPrinted>
  <dcterms:modified xsi:type="dcterms:W3CDTF">2012-08-25T04:56:14Z</dcterms:modified>
  <cp:revision>1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