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B08-87A0-440D-97BC-14A359B0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A86-7B87-4A58-8B83-1548CCED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3EB-450B-457B-A981-518126E1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5D9-3ECC-4941-AE02-937F44A3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217A0-F1F4-493C-81CF-6144D9CD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50ED2-7EBA-47D9-92F5-E6787880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5DBEA-E53E-41EB-ADD7-24D74592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4DB99-C127-42C6-9463-85CFDF6E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BC27B-6097-4F8D-BEE0-18EC35E8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9E001-DFC8-455F-A491-2FFB7B5A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E7CDA-F3B6-4EF2-97B3-16C2B537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6A2-5941-4E20-910F-9B1D4D7A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7F4D2-A8D0-4CDD-BB69-AD0D4D7B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A3C57-CA30-4FB5-AA24-564A4B25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A3BD6-D68E-4559-9696-2EBC83E5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43A76-C73F-4E77-A568-0EB49D6C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0E61A-E4C2-487B-9621-2FCB6BD4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7BB45-D6C2-4DE7-9ABA-F7F212AD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C56BD-D36A-4639-8A52-41B245F0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F587-2CAC-49CD-B2B3-E57054A0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8809-078F-49A4-B29D-87942FF8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14B1-8293-4998-93B3-B4D46AD9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274-BB8F-4D09-8EBE-BA873542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38B41-EA3C-4993-A916-612EB096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8FC7-35B2-4DBB-827A-FF876C27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0F0D-E9CD-4C2E-B86F-30A65AC2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4AF3C-93A1-4EC7-82A7-21EF668F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E6C7-DB70-4546-9A7D-1412BC75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0F7F7-6EB8-457D-ADBC-B861C713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47EC8-62AF-43E9-9E63-2AE65D98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A3A6E-ED9C-485D-92FF-A84D977D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C5534-A336-4383-B06F-035F5063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BD785-22A1-4262-A2AE-C17FD842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4A1-34E9-494A-B7F3-6D140B4A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ACA8D-BCA7-4E6B-8204-4701501B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D6F68-35C2-4BB2-9614-B98973DE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21AE3-FE82-4862-B2A3-CC0B1667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49CB9-D4C1-4289-A221-7D9D1366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953C0-7778-43D1-9CA5-0F9BA04E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A498A-98FA-4563-ACD9-1C3505DC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0A8CF-41B3-4635-8016-86EC9C82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0A163-8262-4901-A790-97D9113C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8C186-11C4-42B1-B9A7-9346CE76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46096-0545-45CE-A09B-4F21E72E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9DF-F4A8-4BC9-AF8E-57FDABFE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AB2D9-AB0A-4F45-8DA1-04FF3A01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B07D4-7F23-45D4-833F-B1BB1547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1653B-ADE1-43AB-A2BA-3F419601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1A6E3-27EA-4985-812E-DAB1D92A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BF80B-E96F-428C-A931-A01D6BCD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D5AD3-7A04-4C7E-8424-7C3F94F1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7A114-24E3-4D9F-BC0D-5737CC75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93836-CB71-4CB4-82F9-33883C89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74B8E-31C2-43DD-9F32-D10B2FA0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A9128-4A33-45F1-970B-3606C36A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B9C-6BCD-460C-BDA9-9ABE5B95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6FCC8-9C7B-43AD-967C-0E9AE43C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C97-DFF2-42ED-9819-35C89CAC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090-40B2-485B-BDEB-52C64521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C07-4317-4113-B5E9-DC3F989D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1ECC-E9FD-4855-967F-894DDC907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06BE-A176-4221-8E75-9DAB3D2B16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8C16-E005-4929-9682-BA2BB841B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0315-1F32-48A4-8905-AEE9D4E53AA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66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185" name="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186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188" name="未知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未知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未知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未知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未知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未知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未知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未知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F710-9168-4F39-87FF-93E32F1AC1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39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43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249" name="未知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253" name="未知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未知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未知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未知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未知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39640" y="0"/>
            <a:ext cx="820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华文中宋"/>
                <a:ea typeface="华文中宋"/>
              </a:rPr>
              <a:t>17</a:t>
            </a:r>
            <a:r>
              <a:rPr b="1" lang="zh-CN" sz="66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、地震中的父与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39640" y="1341360"/>
            <a:ext cx="820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他挖了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小时，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12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小时，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24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小时，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36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小时，没人再来阻挡他。</a:t>
            </a:r>
            <a:r>
              <a:rPr b="0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47640" y="4292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4941720"/>
            <a:ext cx="30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了不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13080" y="494172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伟大的父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5360" y="565200"/>
            <a:ext cx="816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华文彩云"/>
              </a:rPr>
              <a:t>好心人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“谁愿意帮助我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8000" y="169704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华文彩云"/>
              </a:rPr>
              <a:t>消防队长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你是不是来帮助我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8000" y="294012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华文彩云"/>
              </a:rPr>
              <a:t>警察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你是不是来帮助我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252360" y="1440"/>
            <a:ext cx="8891640" cy="6669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52360" y="1917720"/>
            <a:ext cx="84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ahoma"/>
                <a:ea typeface="楷体_GB2312"/>
              </a:rPr>
              <a:t>请同学们默读课文</a:t>
            </a:r>
            <a:r>
              <a:rPr b="1" lang="zh-CN" sz="5400" spc="-1" strike="noStrike">
                <a:solidFill>
                  <a:srgbClr val="0000cc"/>
                </a:solidFill>
                <a:latin typeface="Tahoma"/>
                <a:ea typeface="楷体_GB2312"/>
              </a:rPr>
              <a:t>13—24</a:t>
            </a:r>
            <a:r>
              <a:rPr b="1" lang="zh-CN" sz="5400" spc="-1" strike="noStrike">
                <a:solidFill>
                  <a:srgbClr val="0000cc"/>
                </a:solidFill>
                <a:latin typeface="Tahoma"/>
                <a:ea typeface="楷体_GB2312"/>
              </a:rPr>
              <a:t>自然段。看看课文有哪些地方，哪些语句告诉你这是位了不起的儿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39640" y="18900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黑体"/>
              </a:rPr>
              <a:t>我告诉同学们不要害怕，说只要我爸爸活着就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一定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黑体"/>
              </a:rPr>
              <a:t>会来救我，也能救大家。因为你说过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不论发生什么，你总会和我在一起！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47640" y="4292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4941720"/>
            <a:ext cx="30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了不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03640" y="4941720"/>
            <a:ext cx="641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坚定的信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755640" y="260280"/>
            <a:ext cx="8209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黑体"/>
              </a:rPr>
              <a:t>不！爸爸。先让同学们出去吧！我知道你会跟我在一起，我不怕。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黑体"/>
              </a:rPr>
              <a:t>不论发生了什么，我知道你总会跟我在一起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47640" y="4292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76360" y="4941720"/>
            <a:ext cx="30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了不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68720" y="494172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勇敢、无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252360" y="5805360"/>
            <a:ext cx="8381880" cy="7635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395280" y="-169920"/>
            <a:ext cx="5010120" cy="63738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869080" y="1092240"/>
            <a:ext cx="30988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这对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黑体"/>
              </a:rPr>
              <a:t>了不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父与子，无比幸福地紧紧拥抱在一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-34920" y="-9684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539640" y="620640"/>
            <a:ext cx="4176720" cy="5543640"/>
            <a:chOff x="539640" y="620640"/>
            <a:chExt cx="4176720" cy="5543640"/>
          </a:xfrm>
        </p:grpSpPr>
        <p:pic>
          <p:nvPicPr>
            <p:cNvPr id="359" name="" descr=""/>
            <p:cNvPicPr/>
            <p:nvPr/>
          </p:nvPicPr>
          <p:blipFill>
            <a:blip r:embed="rId3"/>
            <a:stretch/>
          </p:blipFill>
          <p:spPr>
            <a:xfrm>
              <a:off x="539640" y="620640"/>
              <a:ext cx="4176720" cy="2808360"/>
            </a:xfrm>
            <a:prstGeom prst="rect">
              <a:avLst/>
            </a:prstGeom>
            <a:ln w="57240">
              <a:solidFill>
                <a:srgbClr val="5c0000"/>
              </a:solidFill>
              <a:miter/>
            </a:ln>
          </p:spPr>
        </p:pic>
        <p:pic>
          <p:nvPicPr>
            <p:cNvPr id="360" name="" descr=""/>
            <p:cNvPicPr/>
            <p:nvPr/>
          </p:nvPicPr>
          <p:blipFill>
            <a:blip r:embed="rId4"/>
            <a:stretch/>
          </p:blipFill>
          <p:spPr>
            <a:xfrm>
              <a:off x="539640" y="3571920"/>
              <a:ext cx="4176720" cy="2592360"/>
            </a:xfrm>
            <a:prstGeom prst="rect">
              <a:avLst/>
            </a:prstGeom>
            <a:ln w="57240">
              <a:solidFill>
                <a:srgbClr val="5c0000"/>
              </a:solidFill>
              <a:miter/>
            </a:ln>
          </p:spPr>
        </p:pic>
      </p:grpSp>
      <p:sp>
        <p:nvSpPr>
          <p:cNvPr id="361" name=""/>
          <p:cNvSpPr/>
          <p:nvPr/>
        </p:nvSpPr>
        <p:spPr>
          <a:xfrm>
            <a:off x="4788000" y="836640"/>
            <a:ext cx="71276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总有一个人将我们支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总有一种爱让我们心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这 个 人 就 是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父亲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这 种 爱 就 是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父 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408480" y="76212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8ea00"/>
                </a:solidFill>
                <a:latin typeface="Arial"/>
                <a:ea typeface="华文新魏"/>
              </a:rPr>
              <a:t>推荐阅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2362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4800" spc="-1" strike="noStrike">
                <a:solidFill>
                  <a:srgbClr val="0000ff"/>
                </a:solidFill>
                <a:latin typeface="宋体"/>
              </a:rPr>
              <a:t>《背影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宋体"/>
              </a:rPr>
              <a:t>       </a:t>
            </a:r>
            <a:r>
              <a:rPr b="0" lang="zh-CN" sz="4800" spc="-1" strike="noStrike">
                <a:solidFill>
                  <a:srgbClr val="0000ff"/>
                </a:solidFill>
                <a:latin typeface="宋体"/>
              </a:rPr>
              <a:t>《奇迹的名字叫父亲》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11280" y="2354040"/>
            <a:ext cx="71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Arial"/>
              </a:rPr>
              <a:t>小练笔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请你想象一下：在漆黑的瓦砾下，没有水，没有食物，没有爸爸妈妈，有的只是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14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个七岁的小伙伴，阿曼达和小伙伴们会说些什么、做些什么、想些什么呢？把你想到的写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755640" y="62064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读读下列词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5280" y="1341360"/>
            <a:ext cx="863928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s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震   洛杉矶  混乱  安顿  挖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昔日  废墟  阿曼达  坚定   绝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爆炸  叹息  悲痛  颤抖  拥抱 疾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瓦砾  砸碎  欢声笑语  破烂不堪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19640" y="1341360"/>
            <a:ext cx="79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j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1640" y="1413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hù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2349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x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84360" y="24829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x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03640" y="2349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m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335772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b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42920" y="44989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l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79280" y="1628640"/>
            <a:ext cx="359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幼圆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9640" y="2492280"/>
            <a:ext cx="795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想一想课文讲了一件什么事？并思考这是一对怎样的父与子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52360" y="1917720"/>
            <a:ext cx="84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ahoma"/>
                <a:ea typeface="楷体_GB2312"/>
              </a:rPr>
              <a:t>请同学们默读课文</a:t>
            </a:r>
            <a:r>
              <a:rPr b="1" lang="en-US" sz="5400" spc="-1" strike="noStrike">
                <a:solidFill>
                  <a:srgbClr val="0000cc"/>
                </a:solidFill>
                <a:latin typeface="Tahoma"/>
                <a:ea typeface="楷体_GB2312"/>
              </a:rPr>
              <a:t>1—12</a:t>
            </a:r>
            <a:r>
              <a:rPr b="1" lang="zh-CN" sz="5400" spc="-1" strike="noStrike">
                <a:solidFill>
                  <a:srgbClr val="0000cc"/>
                </a:solidFill>
                <a:latin typeface="Tahoma"/>
                <a:ea typeface="楷体_GB2312"/>
              </a:rPr>
              <a:t>自然段。看看课文有哪些地方，哪些语句告诉你这是位了不起的父亲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39640" y="1341360"/>
            <a:ext cx="820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在混乱中，一位年轻的父亲安顿好受伤的妻子，冲向他</a:t>
            </a:r>
            <a:r>
              <a:rPr b="0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7</a:t>
            </a:r>
            <a:r>
              <a:rPr b="0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岁的儿子的学校。</a:t>
            </a:r>
            <a:r>
              <a:rPr b="0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47640" y="4292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2360" y="5013360"/>
            <a:ext cx="30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华文彩云"/>
              </a:rPr>
              <a:t>了不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44720" y="501336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华文彩云"/>
              </a:rPr>
              <a:t>理智和对孩子的牵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9640" y="134136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他顿时感到眼前一片漆黑，大喊：“阿曼达，我的儿子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47640" y="4292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2360" y="4510080"/>
            <a:ext cx="30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彩云"/>
              </a:rPr>
              <a:t>了不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29080" y="451008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彩云"/>
              </a:rPr>
              <a:t>爱子心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11280" y="406440"/>
            <a:ext cx="842472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en-US" sz="48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跪在地上大哭了一阵后，他猛然想起自己常对儿子说的一句话：“不论发生什么，我总会和你在一起！”他坚定地起身，向那片废墟走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47640" y="4292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4941720"/>
            <a:ext cx="30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彩云"/>
              </a:rPr>
              <a:t>了不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13080" y="494172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彩云"/>
              </a:rPr>
              <a:t>坚定信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54936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挖了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他满脸灰尘，双眼布满血丝，衣服破烂不堪。到处都是血迹。……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47640" y="4292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4941720"/>
            <a:ext cx="30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彩云"/>
              </a:rPr>
              <a:t>了不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13080" y="494172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彩云"/>
              </a:rPr>
              <a:t>不畏艰难，不畏生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0" y="-2556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39640" y="422100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2360" y="422100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64360" y="3141720"/>
            <a:ext cx="21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21800" y="2060640"/>
            <a:ext cx="21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91480" y="981000"/>
            <a:ext cx="239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6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-179280" y="5518080"/>
            <a:ext cx="10544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父亲寻找儿子过程的漫长及艰辛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45080" y="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8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3:33:29Z</dcterms:created>
  <dc:creator>d</dc:creator>
  <dc:description/>
  <dc:language>en-US</dc:language>
  <cp:lastModifiedBy>Lenovo User</cp:lastModifiedBy>
  <dcterms:modified xsi:type="dcterms:W3CDTF">2013-11-06T14:51:29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