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811-0585-43CF-91A8-4FBA1A34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E38-16EA-4ECB-8B4B-C02B5854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88F-92F5-4A63-9831-577AB24D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4B9-2094-439F-9D79-521AE844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EB6-D5C3-4CD3-BCEC-D94877C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C6B-D7AF-4DC7-BA01-D681E598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9CD-AC38-45A8-82FA-4D63FD7D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AF0-60EF-4FC2-B8D9-5015A867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736-DB75-40B5-B238-B960074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680-C4AD-4B61-B78D-A96E0E8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CAE-91D8-4767-9AD7-16F70360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178-B72C-4A74-B53F-A75091FE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79520" indent="47772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2" marL="958680" indent="-144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3" marL="1438200" indent="-48096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4" marL="1917720" indent="-96048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5" marL="1917720" indent="-96048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6" marL="1917720" indent="-96048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marL="9572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marL="9572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D92B-18DC-4C62-A992-642E93C22F12}" type="datetime">
              <a:rPr b="0" lang="zh-CN" sz="1200" spc="-1" strike="noStrike">
                <a:solidFill>
                  <a:srgbClr val="898989"/>
                </a:solidFill>
                <a:latin typeface="Verdana"/>
                <a:ea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7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marL="9572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marL="9572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65D7-9CCB-441E-A3F7-5E1A9EF8D1D7}" type="slidenum">
              <a:rPr b="0" lang="zh-CN" sz="12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30005;&#24433;&#24320;&#22330;.wav" TargetMode="External"/><Relationship Id="rId2" Type="http://schemas.microsoft.com/office/2007/relationships/media" Target="file:///tmp/home/.config/libreoffice/4/user/gallery/&#30005;&#24433;&#24320;&#22330;.wav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绿背景"/>
          <p:cNvSpPr/>
          <p:nvPr/>
        </p:nvSpPr>
        <p:spPr>
          <a:xfrm>
            <a:off x="0" y="479520"/>
            <a:ext cx="9156600" cy="5857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7240" indent="-9572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龙logo" descr="C:\Users\XX&amp;YY\Desktop\Pic\logo.png"/>
          <p:cNvPicPr/>
          <p:nvPr/>
        </p:nvPicPr>
        <p:blipFill>
          <a:blip r:embed="rId1"/>
          <a:stretch/>
        </p:blipFill>
        <p:spPr>
          <a:xfrm>
            <a:off x="4065480" y="1079640"/>
            <a:ext cx="1025640" cy="1054080"/>
          </a:xfrm>
          <a:prstGeom prst="rect">
            <a:avLst/>
          </a:prstGeom>
          <a:ln w="0">
            <a:noFill/>
          </a:ln>
        </p:spPr>
      </p:pic>
      <p:sp>
        <p:nvSpPr>
          <p:cNvPr id="81" name="公映许可"/>
          <p:cNvSpPr/>
          <p:nvPr/>
        </p:nvSpPr>
        <p:spPr>
          <a:xfrm>
            <a:off x="3233880" y="22194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7240" indent="-9572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公映许可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240" indent="-9572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电审数字</a:t>
            </a:r>
            <a:r>
              <a:rPr b="1" lang="en-US" sz="1800" spc="-1" strike="noStrike">
                <a:solidFill>
                  <a:srgbClr val="ffff00"/>
                </a:solidFill>
                <a:latin typeface="黑体"/>
                <a:ea typeface="黑体"/>
              </a:rPr>
              <a:t>[2012]</a:t>
            </a:r>
            <a:r>
              <a:rPr b="1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1" lang="en-US" sz="1800" spc="-1" strike="noStrike">
                <a:solidFill>
                  <a:srgbClr val="ffff00"/>
                </a:solidFill>
                <a:latin typeface="黑体"/>
                <a:ea typeface="黑体"/>
              </a:rPr>
              <a:t>38</a:t>
            </a:r>
            <a:r>
              <a:rPr b="1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广电"/>
          <p:cNvGrpSpPr/>
          <p:nvPr/>
        </p:nvGrpSpPr>
        <p:grpSpPr>
          <a:xfrm>
            <a:off x="1585800" y="4897440"/>
            <a:ext cx="5958000" cy="696240"/>
            <a:chOff x="1585800" y="4897440"/>
            <a:chExt cx="5958000" cy="696240"/>
          </a:xfrm>
        </p:grpSpPr>
        <p:sp>
          <p:nvSpPr>
            <p:cNvPr id="83" name="TextBox 3"/>
            <p:cNvSpPr/>
            <p:nvPr/>
          </p:nvSpPr>
          <p:spPr>
            <a:xfrm flipH="1">
              <a:off x="2714400" y="4897440"/>
              <a:ext cx="36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7240" indent="-95724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国家广播电影电视总局电影管理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5"/>
            <p:cNvSpPr/>
            <p:nvPr/>
          </p:nvSpPr>
          <p:spPr>
            <a:xfrm>
              <a:off x="1585800" y="5317200"/>
              <a:ext cx="595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7240" indent="-95724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FILM BUREAU STATE ADMINISTRATION OF RADIO FILM &amp;T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光尾右"/>
          <p:cNvGrpSpPr/>
          <p:nvPr/>
        </p:nvGrpSpPr>
        <p:grpSpPr>
          <a:xfrm>
            <a:off x="9329760" y="2698920"/>
            <a:ext cx="2193840" cy="142560"/>
            <a:chOff x="9329760" y="2698920"/>
            <a:chExt cx="2193840" cy="142560"/>
          </a:xfrm>
        </p:grpSpPr>
        <p:sp>
          <p:nvSpPr>
            <p:cNvPr id="86" name="椭圆 7"/>
            <p:cNvSpPr/>
            <p:nvPr/>
          </p:nvSpPr>
          <p:spPr>
            <a:xfrm>
              <a:off x="9329760" y="2698920"/>
              <a:ext cx="119160" cy="1425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57240" indent="-95724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等腰三角形 8"/>
            <p:cNvSpPr/>
            <p:nvPr/>
          </p:nvSpPr>
          <p:spPr>
            <a:xfrm rot="5400000">
              <a:off x="10437120" y="1727280"/>
              <a:ext cx="87480" cy="20851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57240" indent="-95724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光尾左"/>
          <p:cNvGrpSpPr/>
          <p:nvPr/>
        </p:nvGrpSpPr>
        <p:grpSpPr>
          <a:xfrm>
            <a:off x="-2483640" y="2392200"/>
            <a:ext cx="2194560" cy="142920"/>
            <a:chOff x="-2483640" y="2392200"/>
            <a:chExt cx="2194560" cy="142920"/>
          </a:xfrm>
        </p:grpSpPr>
        <p:sp>
          <p:nvSpPr>
            <p:cNvPr id="89" name="椭圆 16"/>
            <p:cNvSpPr/>
            <p:nvPr/>
          </p:nvSpPr>
          <p:spPr>
            <a:xfrm flipH="1">
              <a:off x="-408600" y="2392200"/>
              <a:ext cx="119160" cy="1429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57240" indent="-95724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等腰三角形 17"/>
            <p:cNvSpPr/>
            <p:nvPr/>
          </p:nvSpPr>
          <p:spPr>
            <a:xfrm flipH="1" rot="16200000">
              <a:off x="-1484640" y="1420560"/>
              <a:ext cx="87480" cy="20851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57240" indent="-95724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片头1" descr="C:\Users\XX&amp;YY\Desktop\Pic\一.png"/>
          <p:cNvPicPr/>
          <p:nvPr/>
        </p:nvPicPr>
        <p:blipFill>
          <a:blip r:embed="rId2"/>
          <a:stretch/>
        </p:blipFill>
        <p:spPr>
          <a:xfrm>
            <a:off x="3492360" y="1749600"/>
            <a:ext cx="5651640" cy="4483080"/>
          </a:xfrm>
          <a:prstGeom prst="rect">
            <a:avLst/>
          </a:prstGeom>
          <a:ln w="0">
            <a:noFill/>
          </a:ln>
        </p:spPr>
      </p:pic>
      <p:pic>
        <p:nvPicPr>
          <p:cNvPr id="92" name="片头2" descr="C:\Users\XX&amp;YY\Desktop\Pic\片头 二.png"/>
          <p:cNvPicPr/>
          <p:nvPr/>
        </p:nvPicPr>
        <p:blipFill>
          <a:blip r:embed="rId3"/>
          <a:stretch/>
        </p:blipFill>
        <p:spPr>
          <a:xfrm>
            <a:off x="3233880" y="1471680"/>
            <a:ext cx="5910120" cy="5132160"/>
          </a:xfrm>
          <a:prstGeom prst="rect">
            <a:avLst/>
          </a:prstGeom>
          <a:ln w="0">
            <a:noFill/>
          </a:ln>
        </p:spPr>
      </p:pic>
      <p:pic>
        <p:nvPicPr>
          <p:cNvPr id="93" name="片头3" descr="C:\Users\XX&amp;YY\Desktop\Pic\片头 三.png"/>
          <p:cNvPicPr/>
          <p:nvPr/>
        </p:nvPicPr>
        <p:blipFill>
          <a:blip r:embed="rId4"/>
          <a:stretch/>
        </p:blipFill>
        <p:spPr>
          <a:xfrm>
            <a:off x="3321000" y="2770200"/>
            <a:ext cx="5327640" cy="3530520"/>
          </a:xfrm>
          <a:prstGeom prst="rect">
            <a:avLst/>
          </a:prstGeom>
          <a:ln w="0">
            <a:noFill/>
          </a:ln>
        </p:spPr>
      </p:pic>
      <p:pic>
        <p:nvPicPr>
          <p:cNvPr id="94" name="片头4" descr="C:\Users\XX&amp;YY\Desktop\Pic\片头 四.png"/>
          <p:cNvPicPr/>
          <p:nvPr/>
        </p:nvPicPr>
        <p:blipFill>
          <a:blip r:embed="rId5"/>
          <a:stretch/>
        </p:blipFill>
        <p:spPr>
          <a:xfrm>
            <a:off x="3362400" y="2682720"/>
            <a:ext cx="2528640" cy="3392640"/>
          </a:xfrm>
          <a:prstGeom prst="rect">
            <a:avLst/>
          </a:prstGeom>
          <a:ln w="0">
            <a:noFill/>
          </a:ln>
        </p:spPr>
      </p:pic>
      <p:pic>
        <p:nvPicPr>
          <p:cNvPr id="95" name="片头5" descr="C:\Users\XX&amp;YY\Desktop\Pic\片头 五.png"/>
          <p:cNvPicPr/>
          <p:nvPr/>
        </p:nvPicPr>
        <p:blipFill>
          <a:blip r:embed="rId6"/>
          <a:stretch/>
        </p:blipFill>
        <p:spPr>
          <a:xfrm>
            <a:off x="3870360" y="2108160"/>
            <a:ext cx="2027160" cy="2270160"/>
          </a:xfrm>
          <a:prstGeom prst="rect">
            <a:avLst/>
          </a:prstGeom>
          <a:ln w="0">
            <a:noFill/>
          </a:ln>
        </p:spPr>
      </p:pic>
      <p:pic>
        <p:nvPicPr>
          <p:cNvPr id="96" name="片头6" descr="C:\Users\XX&amp;YY\Desktop\Pic\片头 六.png"/>
          <p:cNvPicPr/>
          <p:nvPr/>
        </p:nvPicPr>
        <p:blipFill>
          <a:blip r:embed="rId7"/>
          <a:stretch/>
        </p:blipFill>
        <p:spPr>
          <a:xfrm>
            <a:off x="4137120" y="1833480"/>
            <a:ext cx="1492200" cy="1670040"/>
          </a:xfrm>
          <a:prstGeom prst="rect">
            <a:avLst/>
          </a:prstGeom>
          <a:ln w="0">
            <a:noFill/>
          </a:ln>
        </p:spPr>
      </p:pic>
      <p:pic>
        <p:nvPicPr>
          <p:cNvPr id="97" name="片头7" descr="C:\Users\XX&amp;YY\Desktop\Pic\片头 八.png"/>
          <p:cNvPicPr/>
          <p:nvPr/>
        </p:nvPicPr>
        <p:blipFill>
          <a:blip r:embed="rId8"/>
          <a:stretch/>
        </p:blipFill>
        <p:spPr>
          <a:xfrm>
            <a:off x="4152960" y="1125360"/>
            <a:ext cx="1101600" cy="10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2"/>
                            </p:stCondLst>
                            <p:childTnLst>
                              <p:par>
                                <p:cTn id="17" dur="indefinite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03"/>
                            </p:stCondLst>
                            <p:childTnLst>
                              <p:par>
                                <p:cTn id="22" dur="indefinite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304"/>
                            </p:stCondLst>
                            <p:childTnLst>
                              <p:par>
                                <p:cTn id="31" dur="indefinite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5"/>
                            </p:stCondLst>
                            <p:childTnLst>
                              <p:par>
                                <p:cTn id="36" dur="indefinite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6"/>
                            </p:stCondLst>
                            <p:childTnLst>
                              <p:par>
                                <p:cTn id="41" dur="indefinite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07"/>
                            </p:stCondLst>
                            <p:childTnLst>
                              <p:par>
                                <p:cTn id="46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1.11111E-006 L 1.28021 -0.01694 E">
                                      <p:cBhvr>
                                        <p:cTn id="47" dur="7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1.2743 -0.00028 E">
                                      <p:cBhvr>
                                        <p:cTn id="49" dur="7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7"/>
                            </p:stCondLst>
                            <p:childTnLst>
                              <p:par>
                                <p:cTn id="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36"/>
          <p:cNvSpPr/>
          <p:nvPr/>
        </p:nvSpPr>
        <p:spPr>
          <a:xfrm>
            <a:off x="3270600" y="4981680"/>
            <a:ext cx="260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7240" indent="-9572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人民解放军八一电影制片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五角星"/>
          <p:cNvGrpSpPr/>
          <p:nvPr/>
        </p:nvGrpSpPr>
        <p:grpSpPr>
          <a:xfrm>
            <a:off x="3144960" y="1469880"/>
            <a:ext cx="2660400" cy="2530800"/>
            <a:chOff x="3144960" y="1469880"/>
            <a:chExt cx="2660400" cy="2530800"/>
          </a:xfrm>
        </p:grpSpPr>
        <p:sp>
          <p:nvSpPr>
            <p:cNvPr id="100" name="Freeform 3"/>
            <p:cNvSpPr/>
            <p:nvPr/>
          </p:nvSpPr>
          <p:spPr>
            <a:xfrm>
              <a:off x="4163040" y="1469880"/>
              <a:ext cx="616680" cy="1344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cc00">
                  <a:alpha val="4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"/>
            <p:cNvSpPr/>
            <p:nvPr/>
          </p:nvSpPr>
          <p:spPr>
            <a:xfrm>
              <a:off x="3144960" y="2440440"/>
              <a:ext cx="1323360" cy="61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ffcc00">
                  <a:alpha val="4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"/>
            <p:cNvSpPr/>
            <p:nvPr/>
          </p:nvSpPr>
          <p:spPr>
            <a:xfrm>
              <a:off x="4468320" y="2433600"/>
              <a:ext cx="1337040" cy="609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ffcc00">
                  <a:alpha val="4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"/>
            <p:cNvSpPr/>
            <p:nvPr/>
          </p:nvSpPr>
          <p:spPr>
            <a:xfrm>
              <a:off x="3657600" y="2814840"/>
              <a:ext cx="810360" cy="1178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ffcc00">
                  <a:alpha val="4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>
              <a:off x="4468320" y="2808000"/>
              <a:ext cx="817200" cy="119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ffcc00">
                  <a:alpha val="4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椭圆 177"/>
          <p:cNvSpPr/>
          <p:nvPr/>
        </p:nvSpPr>
        <p:spPr>
          <a:xfrm>
            <a:off x="2698920" y="1154160"/>
            <a:ext cx="3357360" cy="301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7240" indent="-9572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77"/>
          <p:cNvGrpSpPr/>
          <p:nvPr/>
        </p:nvGrpSpPr>
        <p:grpSpPr>
          <a:xfrm>
            <a:off x="2333160" y="648000"/>
            <a:ext cx="4303440" cy="4325040"/>
            <a:chOff x="2333160" y="648000"/>
            <a:chExt cx="4303440" cy="4325040"/>
          </a:xfrm>
        </p:grpSpPr>
        <p:sp>
          <p:nvSpPr>
            <p:cNvPr id="107" name="Oval 23"/>
            <p:cNvSpPr/>
            <p:nvPr/>
          </p:nvSpPr>
          <p:spPr>
            <a:xfrm>
              <a:off x="4475160" y="648000"/>
              <a:ext cx="41400" cy="79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 flipH="1" rot="1440000">
              <a:off x="5225040" y="894600"/>
              <a:ext cx="41400" cy="63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3"/>
            <p:cNvSpPr/>
            <p:nvPr/>
          </p:nvSpPr>
          <p:spPr>
            <a:xfrm flipH="1" rot="2880000">
              <a:off x="5797800" y="1469160"/>
              <a:ext cx="41400" cy="64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 flipH="1" rot="4320000">
              <a:off x="6136920" y="2053800"/>
              <a:ext cx="4140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3"/>
            <p:cNvSpPr/>
            <p:nvPr/>
          </p:nvSpPr>
          <p:spPr>
            <a:xfrm flipH="1" rot="5100000">
              <a:off x="6193800" y="2731680"/>
              <a:ext cx="41400" cy="64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3"/>
            <p:cNvSpPr/>
            <p:nvPr/>
          </p:nvSpPr>
          <p:spPr>
            <a:xfrm flipH="1" rot="7200000">
              <a:off x="6047640" y="3583080"/>
              <a:ext cx="4140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3"/>
            <p:cNvSpPr/>
            <p:nvPr/>
          </p:nvSpPr>
          <p:spPr>
            <a:xfrm flipH="1" rot="8640000">
              <a:off x="5407560" y="4136400"/>
              <a:ext cx="41400" cy="64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3"/>
            <p:cNvSpPr/>
            <p:nvPr/>
          </p:nvSpPr>
          <p:spPr>
            <a:xfrm flipH="1" rot="20160000">
              <a:off x="3677760" y="951840"/>
              <a:ext cx="41400" cy="71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3"/>
            <p:cNvSpPr/>
            <p:nvPr/>
          </p:nvSpPr>
          <p:spPr>
            <a:xfrm flipH="1" rot="10080000">
              <a:off x="4700520" y="4336200"/>
              <a:ext cx="41400" cy="63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3"/>
            <p:cNvSpPr/>
            <p:nvPr/>
          </p:nvSpPr>
          <p:spPr>
            <a:xfrm flipH="1" rot="10800000">
              <a:off x="4033800" y="4224600"/>
              <a:ext cx="41400" cy="64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3"/>
            <p:cNvSpPr/>
            <p:nvPr/>
          </p:nvSpPr>
          <p:spPr>
            <a:xfrm flipH="1" rot="13200000">
              <a:off x="3412800" y="3988080"/>
              <a:ext cx="41400" cy="63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3"/>
            <p:cNvSpPr/>
            <p:nvPr/>
          </p:nvSpPr>
          <p:spPr>
            <a:xfrm flipH="1" rot="14580000">
              <a:off x="2954520" y="3445920"/>
              <a:ext cx="41040" cy="64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3"/>
            <p:cNvSpPr/>
            <p:nvPr/>
          </p:nvSpPr>
          <p:spPr>
            <a:xfrm flipH="1" rot="15840000">
              <a:off x="2687400" y="2808000"/>
              <a:ext cx="4140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3"/>
            <p:cNvSpPr/>
            <p:nvPr/>
          </p:nvSpPr>
          <p:spPr>
            <a:xfrm flipH="1" rot="17280000">
              <a:off x="2622240" y="2112840"/>
              <a:ext cx="41400" cy="64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3"/>
            <p:cNvSpPr/>
            <p:nvPr/>
          </p:nvSpPr>
          <p:spPr>
            <a:xfrm flipH="1" rot="18720000">
              <a:off x="2943720" y="1400400"/>
              <a:ext cx="4140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3"/>
            <p:cNvSpPr/>
            <p:nvPr/>
          </p:nvSpPr>
          <p:spPr>
            <a:xfrm rot="720000">
              <a:off x="4931640" y="67212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3"/>
            <p:cNvSpPr/>
            <p:nvPr/>
          </p:nvSpPr>
          <p:spPr>
            <a:xfrm flipH="1" rot="2160000">
              <a:off x="5446440" y="100908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 flipH="1" rot="3600000">
              <a:off x="5873400" y="1604160"/>
              <a:ext cx="4176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3"/>
            <p:cNvSpPr/>
            <p:nvPr/>
          </p:nvSpPr>
          <p:spPr>
            <a:xfrm flipH="1" rot="5040000">
              <a:off x="6045480" y="218988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3"/>
            <p:cNvSpPr/>
            <p:nvPr/>
          </p:nvSpPr>
          <p:spPr>
            <a:xfrm flipH="1" rot="6480000">
              <a:off x="6133680" y="298044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3"/>
            <p:cNvSpPr/>
            <p:nvPr/>
          </p:nvSpPr>
          <p:spPr>
            <a:xfrm flipH="1" rot="7920000">
              <a:off x="5658840" y="353376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3"/>
            <p:cNvSpPr/>
            <p:nvPr/>
          </p:nvSpPr>
          <p:spPr>
            <a:xfrm flipH="1" rot="9360000">
              <a:off x="5015880" y="399024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3"/>
            <p:cNvSpPr/>
            <p:nvPr/>
          </p:nvSpPr>
          <p:spPr>
            <a:xfrm flipH="1" rot="20880000">
              <a:off x="4135680" y="64620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 flipH="1" rot="10800000">
              <a:off x="4385160" y="382536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 flipH="1" rot="11520000">
              <a:off x="3692880" y="4059000"/>
              <a:ext cx="41400" cy="89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3"/>
            <p:cNvSpPr/>
            <p:nvPr/>
          </p:nvSpPr>
          <p:spPr>
            <a:xfrm flipH="1" rot="13920000">
              <a:off x="3344040" y="335160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3"/>
            <p:cNvSpPr/>
            <p:nvPr/>
          </p:nvSpPr>
          <p:spPr>
            <a:xfrm flipH="1" rot="15300000">
              <a:off x="2889360" y="292860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3"/>
            <p:cNvSpPr/>
            <p:nvPr/>
          </p:nvSpPr>
          <p:spPr>
            <a:xfrm flipH="1" rot="16560000">
              <a:off x="2896560" y="230148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flipH="1" rot="18000000">
              <a:off x="2822400" y="1523160"/>
              <a:ext cx="4176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3"/>
            <p:cNvSpPr/>
            <p:nvPr/>
          </p:nvSpPr>
          <p:spPr>
            <a:xfrm flipH="1" rot="19440000">
              <a:off x="3350160" y="990000"/>
              <a:ext cx="41400" cy="100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78"/>
          <p:cNvGrpSpPr/>
          <p:nvPr/>
        </p:nvGrpSpPr>
        <p:grpSpPr>
          <a:xfrm>
            <a:off x="806040" y="198000"/>
            <a:ext cx="6872400" cy="6117120"/>
            <a:chOff x="806040" y="198000"/>
            <a:chExt cx="6872400" cy="6117120"/>
          </a:xfrm>
        </p:grpSpPr>
        <p:sp>
          <p:nvSpPr>
            <p:cNvPr id="138" name="Oval 23"/>
            <p:cNvSpPr/>
            <p:nvPr/>
          </p:nvSpPr>
          <p:spPr>
            <a:xfrm>
              <a:off x="4608720" y="313920"/>
              <a:ext cx="61200" cy="112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3"/>
            <p:cNvSpPr/>
            <p:nvPr/>
          </p:nvSpPr>
          <p:spPr>
            <a:xfrm flipH="1" rot="1860000">
              <a:off x="5602680" y="540360"/>
              <a:ext cx="61200" cy="90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3"/>
            <p:cNvSpPr/>
            <p:nvPr/>
          </p:nvSpPr>
          <p:spPr>
            <a:xfrm flipH="1" rot="3660000">
              <a:off x="6446160" y="1513440"/>
              <a:ext cx="59040" cy="9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 flipH="1" rot="4620000">
              <a:off x="6942960" y="2162520"/>
              <a:ext cx="5904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3"/>
            <p:cNvSpPr/>
            <p:nvPr/>
          </p:nvSpPr>
          <p:spPr>
            <a:xfrm flipH="1" rot="5760000">
              <a:off x="7028640" y="3125160"/>
              <a:ext cx="59040" cy="94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3"/>
            <p:cNvSpPr/>
            <p:nvPr/>
          </p:nvSpPr>
          <p:spPr>
            <a:xfrm flipH="1" rot="7680000">
              <a:off x="6814800" y="4138920"/>
              <a:ext cx="59040" cy="9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3"/>
            <p:cNvSpPr/>
            <p:nvPr/>
          </p:nvSpPr>
          <p:spPr>
            <a:xfrm flipH="1" rot="8640000">
              <a:off x="5873400" y="5129280"/>
              <a:ext cx="61200" cy="90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3"/>
            <p:cNvSpPr/>
            <p:nvPr/>
          </p:nvSpPr>
          <p:spPr>
            <a:xfrm flipH="1" rot="19860000">
              <a:off x="3323880" y="622440"/>
              <a:ext cx="61200" cy="10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3"/>
            <p:cNvSpPr/>
            <p:nvPr/>
          </p:nvSpPr>
          <p:spPr>
            <a:xfrm flipH="1" rot="10080000">
              <a:off x="4833000" y="5412960"/>
              <a:ext cx="61200" cy="90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 flipH="1" rot="10800000">
              <a:off x="3851280" y="5255280"/>
              <a:ext cx="61200" cy="90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 flipH="1" rot="12600000">
              <a:off x="2936520" y="4920120"/>
              <a:ext cx="61200" cy="90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3"/>
            <p:cNvSpPr/>
            <p:nvPr/>
          </p:nvSpPr>
          <p:spPr>
            <a:xfrm flipH="1" rot="14220000">
              <a:off x="2265120" y="4136760"/>
              <a:ext cx="59040" cy="942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3"/>
            <p:cNvSpPr/>
            <p:nvPr/>
          </p:nvSpPr>
          <p:spPr>
            <a:xfrm flipH="1" rot="15360000">
              <a:off x="1870920" y="3418560"/>
              <a:ext cx="5904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3"/>
            <p:cNvSpPr/>
            <p:nvPr/>
          </p:nvSpPr>
          <p:spPr>
            <a:xfrm flipH="1" rot="16920000">
              <a:off x="1775880" y="2245680"/>
              <a:ext cx="59040" cy="94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3"/>
            <p:cNvSpPr/>
            <p:nvPr/>
          </p:nvSpPr>
          <p:spPr>
            <a:xfrm flipH="1" rot="18180000">
              <a:off x="2052000" y="1237680"/>
              <a:ext cx="59040" cy="9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rot="720000">
              <a:off x="5104800" y="225360"/>
              <a:ext cx="61200" cy="141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3"/>
            <p:cNvSpPr/>
            <p:nvPr/>
          </p:nvSpPr>
          <p:spPr>
            <a:xfrm flipH="1" rot="2580000">
              <a:off x="5930640" y="703440"/>
              <a:ext cx="61200" cy="141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3"/>
            <p:cNvSpPr/>
            <p:nvPr/>
          </p:nvSpPr>
          <p:spPr>
            <a:xfrm flipH="1" rot="4380000">
              <a:off x="6767640" y="1619640"/>
              <a:ext cx="59040" cy="14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 flipH="1" rot="5040000">
              <a:off x="6809400" y="2347560"/>
              <a:ext cx="59040" cy="14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3"/>
            <p:cNvSpPr/>
            <p:nvPr/>
          </p:nvSpPr>
          <p:spPr>
            <a:xfrm flipH="1" rot="6480000">
              <a:off x="6939720" y="3468960"/>
              <a:ext cx="59040" cy="14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3"/>
            <p:cNvSpPr/>
            <p:nvPr/>
          </p:nvSpPr>
          <p:spPr>
            <a:xfrm flipH="1" rot="7920000">
              <a:off x="6242040" y="4251240"/>
              <a:ext cx="59040" cy="14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 flipH="1" rot="9360000">
              <a:off x="5297040" y="4923360"/>
              <a:ext cx="61200" cy="141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3"/>
            <p:cNvSpPr/>
            <p:nvPr/>
          </p:nvSpPr>
          <p:spPr>
            <a:xfrm flipH="1" rot="20880000">
              <a:off x="3887640" y="189000"/>
              <a:ext cx="61200" cy="141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3"/>
            <p:cNvSpPr/>
            <p:nvPr/>
          </p:nvSpPr>
          <p:spPr>
            <a:xfrm flipH="1" rot="10800000">
              <a:off x="4284720" y="4690080"/>
              <a:ext cx="61200" cy="141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 flipH="1" rot="11520000">
              <a:off x="3363480" y="4744800"/>
              <a:ext cx="61200" cy="141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 flipH="1" rot="13200000">
              <a:off x="2836440" y="4104000"/>
              <a:ext cx="58680" cy="14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 flipH="1" rot="14880000">
              <a:off x="2168640" y="3493080"/>
              <a:ext cx="59040" cy="14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 flipH="1" rot="15900000">
              <a:off x="1512000" y="2412360"/>
              <a:ext cx="59040" cy="1472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3"/>
            <p:cNvSpPr/>
            <p:nvPr/>
          </p:nvSpPr>
          <p:spPr>
            <a:xfrm flipH="1" rot="18000000">
              <a:off x="1800360" y="1402200"/>
              <a:ext cx="59040" cy="14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3"/>
            <p:cNvSpPr/>
            <p:nvPr/>
          </p:nvSpPr>
          <p:spPr>
            <a:xfrm flipH="1" rot="19020000">
              <a:off x="2843640" y="676080"/>
              <a:ext cx="61200" cy="141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94"/>
          <p:cNvGrpSpPr/>
          <p:nvPr/>
        </p:nvGrpSpPr>
        <p:grpSpPr>
          <a:xfrm>
            <a:off x="-127800" y="14760"/>
            <a:ext cx="9424800" cy="6817680"/>
            <a:chOff x="-127800" y="14760"/>
            <a:chExt cx="9424800" cy="6817680"/>
          </a:xfrm>
        </p:grpSpPr>
        <p:sp>
          <p:nvSpPr>
            <p:cNvPr id="169" name="Oval 23"/>
            <p:cNvSpPr/>
            <p:nvPr/>
          </p:nvSpPr>
          <p:spPr>
            <a:xfrm rot="600000">
              <a:off x="4844880" y="140040"/>
              <a:ext cx="88920" cy="124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3"/>
            <p:cNvSpPr/>
            <p:nvPr/>
          </p:nvSpPr>
          <p:spPr>
            <a:xfrm flipH="1" rot="2580000">
              <a:off x="6552720" y="393840"/>
              <a:ext cx="88920" cy="100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3"/>
            <p:cNvSpPr/>
            <p:nvPr/>
          </p:nvSpPr>
          <p:spPr>
            <a:xfrm flipH="1" rot="4080000">
              <a:off x="7520760" y="1043280"/>
              <a:ext cx="65520" cy="136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 flipH="1" rot="4620000">
              <a:off x="8243280" y="2043360"/>
              <a:ext cx="65520" cy="136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3"/>
            <p:cNvSpPr/>
            <p:nvPr/>
          </p:nvSpPr>
          <p:spPr>
            <a:xfrm flipH="1" rot="5760000">
              <a:off x="8366760" y="3115080"/>
              <a:ext cx="65520" cy="136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3"/>
            <p:cNvSpPr/>
            <p:nvPr/>
          </p:nvSpPr>
          <p:spPr>
            <a:xfrm flipH="1" rot="7200000">
              <a:off x="8056080" y="4457160"/>
              <a:ext cx="65520" cy="136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3"/>
            <p:cNvSpPr/>
            <p:nvPr/>
          </p:nvSpPr>
          <p:spPr>
            <a:xfrm flipH="1" rot="8640000">
              <a:off x="6678360" y="5507640"/>
              <a:ext cx="88920" cy="101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3"/>
            <p:cNvSpPr/>
            <p:nvPr/>
          </p:nvSpPr>
          <p:spPr>
            <a:xfrm flipH="1" rot="19440000">
              <a:off x="2663280" y="108720"/>
              <a:ext cx="88920" cy="1136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3"/>
            <p:cNvSpPr/>
            <p:nvPr/>
          </p:nvSpPr>
          <p:spPr>
            <a:xfrm flipH="1" rot="10080000">
              <a:off x="5170320" y="5824440"/>
              <a:ext cx="88920" cy="100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3"/>
            <p:cNvSpPr/>
            <p:nvPr/>
          </p:nvSpPr>
          <p:spPr>
            <a:xfrm flipH="1" rot="10800000">
              <a:off x="3599280" y="5648760"/>
              <a:ext cx="88920" cy="101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3"/>
            <p:cNvSpPr/>
            <p:nvPr/>
          </p:nvSpPr>
          <p:spPr>
            <a:xfrm flipH="1" rot="13200000">
              <a:off x="2418840" y="5275440"/>
              <a:ext cx="88920" cy="100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3"/>
            <p:cNvSpPr/>
            <p:nvPr/>
          </p:nvSpPr>
          <p:spPr>
            <a:xfrm flipH="1" rot="14580000">
              <a:off x="1452600" y="4240440"/>
              <a:ext cx="65520" cy="136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3"/>
            <p:cNvSpPr/>
            <p:nvPr/>
          </p:nvSpPr>
          <p:spPr>
            <a:xfrm flipH="1" rot="15840000">
              <a:off x="883080" y="3234960"/>
              <a:ext cx="65520" cy="136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3"/>
            <p:cNvSpPr/>
            <p:nvPr/>
          </p:nvSpPr>
          <p:spPr>
            <a:xfrm flipH="1" rot="16440000">
              <a:off x="744480" y="2136240"/>
              <a:ext cx="65520" cy="136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3"/>
            <p:cNvSpPr/>
            <p:nvPr/>
          </p:nvSpPr>
          <p:spPr>
            <a:xfrm flipH="1" rot="18180000">
              <a:off x="1145520" y="755280"/>
              <a:ext cx="65520" cy="136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3"/>
            <p:cNvSpPr/>
            <p:nvPr/>
          </p:nvSpPr>
          <p:spPr>
            <a:xfrm rot="1920000">
              <a:off x="6120000" y="-70920"/>
              <a:ext cx="88920" cy="157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 flipH="1" rot="3060000">
              <a:off x="7162920" y="286560"/>
              <a:ext cx="88920" cy="157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 flipH="1" rot="4380000">
              <a:off x="7988760" y="1439280"/>
              <a:ext cx="65520" cy="213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3"/>
            <p:cNvSpPr/>
            <p:nvPr/>
          </p:nvSpPr>
          <p:spPr>
            <a:xfrm flipH="1" rot="5040000">
              <a:off x="8048880" y="2159640"/>
              <a:ext cx="65520" cy="213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3"/>
            <p:cNvSpPr/>
            <p:nvPr/>
          </p:nvSpPr>
          <p:spPr>
            <a:xfrm flipH="1" rot="6480000">
              <a:off x="8237880" y="3412080"/>
              <a:ext cx="65520" cy="213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 flipH="1" rot="7920000">
              <a:off x="7225560" y="4280040"/>
              <a:ext cx="65520" cy="213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3"/>
            <p:cNvSpPr/>
            <p:nvPr/>
          </p:nvSpPr>
          <p:spPr>
            <a:xfrm flipH="1" rot="9060000">
              <a:off x="5842440" y="5278320"/>
              <a:ext cx="88920" cy="157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 flipH="1" rot="20640000">
              <a:off x="3620160" y="5760"/>
              <a:ext cx="88920" cy="107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3"/>
            <p:cNvSpPr/>
            <p:nvPr/>
          </p:nvSpPr>
          <p:spPr>
            <a:xfrm flipH="1" rot="10380000">
              <a:off x="4636080" y="5018400"/>
              <a:ext cx="88920" cy="157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3"/>
            <p:cNvSpPr/>
            <p:nvPr/>
          </p:nvSpPr>
          <p:spPr>
            <a:xfrm flipH="1" rot="11520000">
              <a:off x="3038040" y="5079960"/>
              <a:ext cx="88920" cy="157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 flipH="1" rot="13500000">
              <a:off x="2273400" y="4239720"/>
              <a:ext cx="85680" cy="164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3"/>
            <p:cNvSpPr/>
            <p:nvPr/>
          </p:nvSpPr>
          <p:spPr>
            <a:xfrm flipH="1" rot="14880000">
              <a:off x="836640" y="3568320"/>
              <a:ext cx="65520" cy="176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23"/>
            <p:cNvSpPr/>
            <p:nvPr/>
          </p:nvSpPr>
          <p:spPr>
            <a:xfrm flipH="1" rot="15900000">
              <a:off x="1329120" y="2430720"/>
              <a:ext cx="65520" cy="213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3"/>
            <p:cNvSpPr/>
            <p:nvPr/>
          </p:nvSpPr>
          <p:spPr>
            <a:xfrm flipH="1" rot="18000000">
              <a:off x="604080" y="1001160"/>
              <a:ext cx="65520" cy="172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3"/>
            <p:cNvSpPr/>
            <p:nvPr/>
          </p:nvSpPr>
          <p:spPr>
            <a:xfrm flipH="1" rot="18780000">
              <a:off x="1980720" y="250920"/>
              <a:ext cx="88920" cy="157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3"/>
            <p:cNvSpPr/>
            <p:nvPr/>
          </p:nvSpPr>
          <p:spPr>
            <a:xfrm flipH="1" rot="3960000">
              <a:off x="8388360" y="1116360"/>
              <a:ext cx="65520" cy="147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3"/>
            <p:cNvSpPr/>
            <p:nvPr/>
          </p:nvSpPr>
          <p:spPr>
            <a:xfrm flipH="1" rot="3600000">
              <a:off x="7925760" y="383400"/>
              <a:ext cx="65520" cy="147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207"/>
          <p:cNvGrpSpPr/>
          <p:nvPr/>
        </p:nvGrpSpPr>
        <p:grpSpPr>
          <a:xfrm>
            <a:off x="-79200" y="-3600"/>
            <a:ext cx="8907120" cy="6861600"/>
            <a:chOff x="-79200" y="-3600"/>
            <a:chExt cx="8907120" cy="6861600"/>
          </a:xfrm>
        </p:grpSpPr>
        <p:sp>
          <p:nvSpPr>
            <p:cNvPr id="202" name="Oval 23"/>
            <p:cNvSpPr/>
            <p:nvPr/>
          </p:nvSpPr>
          <p:spPr>
            <a:xfrm flipH="1" rot="3720000">
              <a:off x="638640" y="5011920"/>
              <a:ext cx="65520" cy="136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3"/>
            <p:cNvSpPr/>
            <p:nvPr/>
          </p:nvSpPr>
          <p:spPr>
            <a:xfrm flipH="1" rot="3240000">
              <a:off x="852120" y="5391720"/>
              <a:ext cx="65520" cy="136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3"/>
            <p:cNvSpPr/>
            <p:nvPr/>
          </p:nvSpPr>
          <p:spPr>
            <a:xfrm flipH="1" rot="2280000">
              <a:off x="1435680" y="5618520"/>
              <a:ext cx="65520" cy="136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 flipH="1" rot="6780000">
              <a:off x="439920" y="1656720"/>
              <a:ext cx="65520" cy="115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3"/>
            <p:cNvSpPr/>
            <p:nvPr/>
          </p:nvSpPr>
          <p:spPr>
            <a:xfrm flipH="1" rot="7440000">
              <a:off x="780120" y="-51120"/>
              <a:ext cx="65520" cy="136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3"/>
            <p:cNvSpPr/>
            <p:nvPr/>
          </p:nvSpPr>
          <p:spPr>
            <a:xfrm flipH="1" rot="7320000">
              <a:off x="225720" y="729360"/>
              <a:ext cx="65160" cy="75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3"/>
            <p:cNvSpPr/>
            <p:nvPr/>
          </p:nvSpPr>
          <p:spPr>
            <a:xfrm flipH="1" rot="10620000">
              <a:off x="4217040" y="-2160"/>
              <a:ext cx="65520" cy="68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3"/>
            <p:cNvSpPr/>
            <p:nvPr/>
          </p:nvSpPr>
          <p:spPr>
            <a:xfrm flipH="1" rot="11880000">
              <a:off x="5494320" y="-6480"/>
              <a:ext cx="65520" cy="68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3"/>
            <p:cNvSpPr/>
            <p:nvPr/>
          </p:nvSpPr>
          <p:spPr>
            <a:xfrm flipH="1" rot="13140000">
              <a:off x="7279200" y="139680"/>
              <a:ext cx="65520" cy="68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3"/>
            <p:cNvSpPr/>
            <p:nvPr/>
          </p:nvSpPr>
          <p:spPr>
            <a:xfrm flipH="1" rot="13860000">
              <a:off x="8369640" y="-75600"/>
              <a:ext cx="65520" cy="104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 flipH="1" rot="18480000">
              <a:off x="8268480" y="5280840"/>
              <a:ext cx="65520" cy="104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3"/>
            <p:cNvSpPr/>
            <p:nvPr/>
          </p:nvSpPr>
          <p:spPr>
            <a:xfrm flipH="1" rot="18840000">
              <a:off x="7324560" y="5489640"/>
              <a:ext cx="65520" cy="104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57240" indent="-9572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122"/>
          <p:cNvSpPr/>
          <p:nvPr/>
        </p:nvSpPr>
        <p:spPr>
          <a:xfrm>
            <a:off x="0" y="5800680"/>
            <a:ext cx="914400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7240" indent="-9572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7240" indent="-9572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125"/>
          <p:cNvSpPr/>
          <p:nvPr/>
        </p:nvSpPr>
        <p:spPr>
          <a:xfrm>
            <a:off x="2743200" y="1305000"/>
            <a:ext cx="3613320" cy="3087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7240" indent="-9572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158920" y="-1170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0967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6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6" presetSubtype="32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6" presetSubtype="32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6" presetSubtype="32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7:59:45Z</dcterms:created>
  <dc:creator>Administrator</dc:creator>
  <dc:description/>
  <dc:language>en-US</dc:language>
  <cp:lastModifiedBy>雨林木风</cp:lastModifiedBy>
  <dcterms:modified xsi:type="dcterms:W3CDTF">2015-07-23T08:31:13Z</dcterms:modified>
  <cp:revision>2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569a060000000001024140</vt:lpwstr>
  </property>
</Properties>
</file>