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34D-4AE1-46B5-8A56-55F9FF75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40D-AF7F-439E-88AD-C8ECAE8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873-0010-4698-B817-742A21BC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1F9-6F22-4786-8141-7FAE93A5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5BC-5ED5-4EF4-9296-8DBA56F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8C4-663C-4132-A1B4-73C277A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0DD-62C3-43FD-91BD-47230C8C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7A2-C415-4C0F-BE4E-C121D1B7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3C0-CE4B-40AA-8FEC-C4CF569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359-8E05-4687-A635-4216E86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F31-F205-477E-861F-13A817B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8F2-6340-406C-B137-C01BA34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F9DD-D6EF-43DE-982F-98266D25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baa"/>
            </a:gs>
            <a:gs pos="100000">
              <a:srgbClr val="ffcec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万智\2012之前\年会\年终PPT\市场\图片1.jpg"/>
          <p:cNvPicPr/>
          <p:nvPr/>
        </p:nvPicPr>
        <p:blipFill>
          <a:blip r:embed="rId1"/>
          <a:stretch/>
        </p:blipFill>
        <p:spPr>
          <a:xfrm>
            <a:off x="-1563840" y="0"/>
            <a:ext cx="122666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万智\2012之前\年会\年终PPT\市场\素材\蝴蝶7.gif"/>
          <p:cNvPicPr/>
          <p:nvPr/>
        </p:nvPicPr>
        <p:blipFill>
          <a:blip r:embed="rId2"/>
          <a:stretch/>
        </p:blipFill>
        <p:spPr>
          <a:xfrm rot="3424200">
            <a:off x="-1820160" y="6564960"/>
            <a:ext cx="714240" cy="58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万智\2012之前\年会\年终PPT\市场\素材\蝴蝶1.gif"/>
          <p:cNvPicPr/>
          <p:nvPr/>
        </p:nvPicPr>
        <p:blipFill>
          <a:blip r:embed="rId3"/>
          <a:stretch/>
        </p:blipFill>
        <p:spPr>
          <a:xfrm>
            <a:off x="838080" y="6858000"/>
            <a:ext cx="7146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万智\2012之前\年会\年终PPT\市场\素材\蝴蝶2.gif"/>
          <p:cNvPicPr/>
          <p:nvPr/>
        </p:nvPicPr>
        <p:blipFill>
          <a:blip r:embed="rId4"/>
          <a:stretch/>
        </p:blipFill>
        <p:spPr>
          <a:xfrm rot="4339200">
            <a:off x="-780480" y="4527000"/>
            <a:ext cx="71460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万智\2012之前\年会\年终PPT\市场\素材\蝴蝶3.gif"/>
          <p:cNvPicPr/>
          <p:nvPr/>
        </p:nvPicPr>
        <p:blipFill>
          <a:blip r:embed="rId5"/>
          <a:stretch/>
        </p:blipFill>
        <p:spPr>
          <a:xfrm rot="2773800">
            <a:off x="-1488960" y="4049640"/>
            <a:ext cx="7142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D:\万智\2012之前\年会\年终PPT\市场\素材\蝴蝶4.gif"/>
          <p:cNvPicPr/>
          <p:nvPr/>
        </p:nvPicPr>
        <p:blipFill>
          <a:blip r:embed="rId6"/>
          <a:stretch/>
        </p:blipFill>
        <p:spPr>
          <a:xfrm>
            <a:off x="-712800" y="6858000"/>
            <a:ext cx="712800" cy="7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:\万智\2012之前\年会\年终PPT\市场\素材\蝴蝶5.gif"/>
          <p:cNvPicPr/>
          <p:nvPr/>
        </p:nvPicPr>
        <p:blipFill>
          <a:blip r:embed="rId7"/>
          <a:stretch/>
        </p:blipFill>
        <p:spPr>
          <a:xfrm>
            <a:off x="-712800" y="5791320"/>
            <a:ext cx="712800" cy="75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:\万智\2012之前\年会\年终PPT\市场\素材\蝴蝶6.gif"/>
          <p:cNvPicPr/>
          <p:nvPr/>
        </p:nvPicPr>
        <p:blipFill>
          <a:blip r:embed="rId8"/>
          <a:stretch/>
        </p:blipFill>
        <p:spPr>
          <a:xfrm>
            <a:off x="-1598760" y="5257800"/>
            <a:ext cx="714600" cy="6811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5886 -0.01227 0.02274 -0.00788 0.10833 -0.00348 C 0.14931 0.00625 0.18733 0.03518 0.22674 0.05763 C 0.24636 0.06875 0.26823 0.06921 0.28837 0.07199 C 0.31198 0.08217 0.32917 0.08356 0.35399 0.08657 C 0.37327 0.08865 0.41146 0.09375 0.41146 0.09421 C 0.42865 0.09259 0.46649 0.0912 0.48785 0.08657 C 0.51563 0.08078 0.54236 0.07175 0.57066 0.06851 C 0.58837 0.06319 0.60538 0.0574 0.62344 0.05416 C 0.64045 0.04421 0.61788 0.05879 0.63629 0.03981 C 0.63941 0.03634 0.64358 0.03518 0.64705 0.0324 C 0.65781 0.02199 0.65747 0.01273 0.67031 0.0074 C 0.67604 4.81480999999992E-006 0.68316 -0.0044 0.68733 -0.01436 C 0.68837 -0.01806 0.68959 -0.02246 0.69149 -0.025 C 0.69323 -0.02755 0.69584 -0.02755 0.69792 -0.02871 C 0.70764 -0.04144 0.7184 -0.05417 0.72743 -0.06829 C 0.74688 -0.09792 0.73472 -0.08959 0.74896 -0.09723 C 0.7566 -0.10695 0.76406 -0.11366 0.77222 -0.12246 C 0.77518 -0.1257 0.77778 -0.12917 0.78056 -0.13334 C 0.78281 -0.13658 0.78455 -0.14121 0.78698 -0.14399 C 0.80608 -0.16575 0.77969 -0.12663 0.79965 -0.15463 C 0.80938 -0.16829 0.81979 -0.18426 0.8316 -0.19098 C 0.83854 -0.20278 0.84514 -0.20649 0.85278 -0.21598 C 0.85538 -0.21899 0.85677 -0.22362 0.85903 -0.22686 C 0.86441 -0.2345 0.86788 -0.23519 0.87396 -0.24121 C 0.88212 -0.24908 0.88854 -0.25764 0.89722 -0.26274 C 0.90886 -0.27732 0.91962 -0.29098 0.93334 -0.29885 C 0.93976 -0.31482 0.94688 -0.31551 0.95677 -0.32408 C 0.9632 -0.3294 0.96597 -0.3345 0.97396 -0.3345 E">
                                      <p:cBhvr>
                                        <p:cTn id="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3.7037E-006 C 0.00417 -0.00718 0.00816 -0.01436 0.01215 -0.02037 C 0.01406 -0.02292 0.01632 -0.02246 0.01806 -0.02547 C 0.03299 -0.05047 0.0158 -0.03311 0.03004 -0.04561 C 0.03924 -0.08125 0.05972 -0.09491 0.07483 -0.11019 C 0.08594 -0.1213 0.09584 -0.13797 0.10643 -0.15 C 0.12344 -0.16922 0.14705 -0.17848 0.16597 -0.18496 C 0.21858 -0.22963 0.27518 -0.22593 0.33004 -0.22986 C 0.35938 -0.22662 0.38455 -0.21713 0.41302 -0.21019 C 0.44931 -0.17986 0.50139 -0.19028 0.53959 -0.18496 C 0.55261 -0.18611 0.59775 -0.18542 0.62066 -0.19491 C 0.66198 -0.2125 0.70278 -0.23936 0.74341 -0.26482 C 0.76493 -0.30116 0.73177 -0.24769 0.75712 -0.27963 C 0.76927 -0.29514 0.77031 -0.31181 0.78281 -0.31968 C 0.78959 -0.33079 0.79549 -0.33357 0.8007 -0.34977 C 0.80226 -0.3544 0.80486 -0.36436 0.80486 -0.36412 E">
                                      <p:cBhvr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-0.01527 C 0.02795 0.000240000000000001 0.05365 0.02431 0.0816 0.03635 C 0.08854 0.03936 0.09879 0.04908 0.10625 0.05 C 0.11563 0.05139 0.12535 0.05232 0.1349 0.05348 C 0.16268 0.06297 0.18959 0.06204 0.21841 0.06366 C 0.27691 0.07662 0.24948 0.07292 0.30018 0.07778 C 0.3592 0.09445 0.34323 0.0838 0.45538 0.08079 C 0.48299 0.07454 0.51007 0.06505 0.53716 0.05348 C 0.53993 0.05232 0.54236 0.04838 0.54532 0.04653 C 0.57327 0.02871 0.60122 0.00672 0.63108 -0.00162 C 0.63768 -0.00625 0.64497 -0.00717 0.65139 -0.0118 C 0.66893 -0.02361 0.68698 -0.04236 0.70261 -0.05995 C 0.7158 -0.075 0.73073 -0.09976 0.74549 -0.1081 C 0.75868 -0.12546 0.77327 -0.13912 0.78646 -0.15601 C 0.80209 -0.17662 0.81476 -0.20301 0.83125 -0.22176 C 0.84097 -0.24583 0.8283 -0.21643 0.84358 -0.24213 C 0.84601 -0.24606 0.84757 -0.25185 0.84966 -0.25601 C 0.85365 -0.26296 0.85782 -0.2699 0.86198 -0.27639 C 0.8783 -0.30162 0.8974 -0.32245 0.91302 -0.34884 C 0.91476 -0.35162 0.91563 -0.35601 0.91719 -0.35902 C 0.91979 -0.36412 0.9224 -0.36851 0.92535 -0.37291 C 0.92847 -0.37777 0.93247 -0.38148 0.93559 -0.38657 C 0.95087 -0.4125 0.92952 -0.38889 0.95382 -0.42106 C 0.9599 -0.42916 0.96684 -0.43588 0.97222 -0.4449 C 0.97431 -0.44838 0.97622 -0.45208 0.9783 -0.45532 C 0.98542 -0.46504 0.98542 -0.46018 0.99271 -0.47268 C 0.99514 -0.47662 0.99618 -0.48264 0.99879 -0.48634 C 1.00417 -0.49467 1.01111 -0.5 1.01736 -0.50694 C 1.01945 -0.50949 1.02136 -0.51342 1.02344 -0.51713 C 1.02483 -0.52037 1.02761 -0.52731 1.02761 -0.52708 E">
                                      <p:cBhvr>
                                        <p:cTn id="10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0.0007 C 0.00434 -0.02246 -0.00139 0.00139 0.00798 -0.02107 C 0.01823 -0.0463 0.00399 -0.02431 0.01979 -0.04468 C 0.02656 -0.06829 0.02153 -0.05486 0.03715 -0.08218 C 0.04097 -0.08889 0.04305 -0.09861 0.0467 -0.10579 C 0.05642 -0.12547 0.06684 -0.14352 0.07604 -0.16389 C 0.08021 -0.18449 0.075 -0.16273 0.08594 -0.1875 C 0.09271 -0.20278 0.09791 -0.22778 0.10746 -0.23843 C 0.12205 -0.27685 0.13767 -0.31459 0.15659 -0.34723 C 0.15868 -0.35116 0.16198 -0.35324 0.16406 -0.35741 C 0.16666 -0.36158 0.16805 -0.36713 0.17031 -0.37084 C 0.17882 -0.38635 0.1908 -0.39653 0.19965 -0.41181 C 0.20798 -0.42593 0.21753 -0.44051 0.22708 -0.45255 C 0.24132 -0.47014 0.25833 -0.4831 0.27413 -0.49653 C 0.3092 -0.52732 0.35139 -0.5331 0.38975 -0.54398 C 0.4243 -0.54306 0.45885 -0.54283 0.4934 -0.54098 C 0.49757 -0.54074 0.51024 -0.53148 0.51302 -0.53056 C 0.53628 -0.52385 0.55885 -0.5132 0.58177 -0.50695 C 0.59982 -0.49121 0.57691 -0.50926 0.60312 -0.49653 C 0.61111 -0.49306 0.61892 -0.48449 0.62673 -0.47963 C 0.63298 -0.4757 0.6401 -0.47385 0.64653 -0.46945 C 0.66267 -0.4581 0.67621 -0.44144 0.6934 -0.43542 C 0.71423 -0.4176 0.73715 -0.41273 0.76007 -0.40486 C 0.78212 -0.40625 0.80451 -0.40648 0.82673 -0.40834 C 0.83316 -0.40903 0.84462 -0.42199 0.85017 -0.42894 C 0.85278 -0.43195 0.85521 -0.43611 0.85798 -0.43889 C 0.85972 -0.44051 0.86406 -0.44236 0.86406 -0.44213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0 C 0.0158 -0.0081 0.02708 -0.02083 0.04166 -0.03171 C 0.04739 -0.04537 0.05555 -0.05417 0.06441 -0.06319 C 0.07725 -0.09213 0.05989 -0.05694 0.07482 -0.07593 C 0.0776 -0.07917 0.0783 -0.08519 0.08107 -0.08866 C 0.08333 -0.09167 0.08698 -0.09236 0.08923 -0.09491 C 0.10104 -0.10625 0.11232 -0.11667 0.12448 -0.12616 C 0.12656 -0.12801 0.12847 -0.12847 0.13055 -0.1294 C 0.1342 -0.13148 0.13767 -0.13333 0.14097 -0.13565 C 0.15243 -0.14514 0.1618 -0.15787 0.17396 -0.16412 C 0.18385 -0.17546 0.19392 -0.1787 0.20503 -0.18634 C 0.21198 -0.19097 0.22031 -0.19884 0.22795 -0.20208 C 0.24652 -0.20949 0.26684 -0.21157 0.28593 -0.21458 C 0.30468 -0.21366 0.35468 -0.21296 0.38125 -0.20833 C 0.39635 -0.20556 0.42673 -0.19884 0.42673 -0.19861 C 0.46146 -0.2 0.49687 -0.19236 0.53055 -0.20532 C 0.58507 -0.22593 0.49843 -0.19861 0.55121 -0.21458 C 0.5618 -0.225 0.57448 -0.23056 0.58437 -0.24282 C 0.59375 -0.25486 0.59323 -0.26227 0.60503 -0.2713 C 0.60712 -0.27546 0.60937 -0.2794 0.61146 -0.28403 C 0.61302 -0.28796 0.61371 -0.29282 0.61545 -0.29653 C 0.61718 -0.30023 0.61996 -0.30231 0.6217 -0.30602 C 0.62968 -0.32292 0.62986 -0.34051 0.64027 -0.35648 C 0.64566 -0.38125 0.65712 -0.40509 0.66736 -0.42593 C 0.67448 -0.45787 0.68958 -0.47616 0.7026 -0.50162 C 0.70712 -0.51042 0.70972 -0.52176 0.7151 -0.52986 C 0.72326 -0.54259 0.73159 -0.55532 0.73993 -0.56782 C 0.74392 -0.57407 0.75017 -0.57708 0.75434 -0.58333 C 0.75677 -0.58727 0.75798 -0.59282 0.76059 -0.59606 C 0.76441 -0.60116 0.78593 -0.62477 0.79166 -0.62778 C 0.80225 -0.64375 0.79531 -0.63495 0.81458 -0.64977 C 0.83368 -0.66458 0.82083 -0.65741 0.83316 -0.67199 C 0.85173 -0.69375 0.83941 -0.67662 0.85173 -0.69074 C 0.85451 -0.69375 0.86024 -0.7 0.86024 -0.7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0 C 0.00503 -0.01736 0.00243 -0.01227 0.0118 -0.02801 C 0.01562 -0.03449 0.02361 -0.04676 0.02361 -0.04653 C 0.02639 -0.05995 0.03333 -0.06782 0.04097 -0.07708 C 0.04496 -0.09097 0.0493 -0.10069 0.05659 -0.11204 C 0.06128 -0.12847 0.06649 -0.14537 0.07239 -0.16111 C 0.07569 -0.17037 0.08125 -0.17847 0.08594 -0.18681 C 0.09097 -0.19606 0.0967 -0.21574 0.10364 -0.22176 C 0.10625 -0.22407 0.1092 -0.22616 0.11128 -0.22894 C 0.12239 -0.2419 0.12743 -0.25995 0.1408 -0.27083 C 0.14844 -0.28588 0.15972 -0.2956 0.17014 -0.3081 C 0.17187 -0.31019 0.17239 -0.31319 0.17413 -0.31505 C 0.18159 -0.32407 0.1901 -0.33171 0.19757 -0.34074 C 0.19965 -0.34329 0.20295 -0.34352 0.20538 -0.3456 C 0.21892 -0.35648 0.22187 -0.36111 0.23455 -0.36875 C 0.2368 -0.36991 0.23889 -0.37176 0.24062 -0.37338 C 0.24253 -0.37569 0.24409 -0.37894 0.24653 -0.38032 C 0.25191 -0.38403 0.2585 -0.38449 0.26406 -0.3875 C 0.28541 -0.39907 0.27239 -0.39468 0.28732 -0.39907 C 0.30087 -0.40972 0.2842 -0.39792 0.30521 -0.40602 C 0.30746 -0.40694 0.30885 -0.40949 0.31094 -0.41065 C 0.31892 -0.41481 0.32656 -0.41921 0.33455 -0.42269 C 0.34062 -0.425 0.35278 -0.42778 0.35989 -0.4294 C 0.37083 -0.43588 0.38194 -0.43796 0.39323 -0.44352 C 0.40347 -0.44838 0.41371 -0.45208 0.42448 -0.45509 C 0.44028 -0.45926 0.45659 -0.46227 0.47135 -0.46898 C 0.48698 -0.47616 0.50121 -0.48495 0.51649 -0.49236 C 0.52291 -0.4956 0.53021 -0.49676 0.53611 -0.50162 C 0.53819 -0.5037 0.53941 -0.50741 0.54201 -0.5088 C 0.54757 -0.51227 0.55399 -0.51181 0.55955 -0.51574 C 0.5717 -0.52431 0.56545 -0.52153 0.57708 -0.525 C 0.58437 -0.53796 0.60173 -0.54815 0.6125 -0.55764 C 0.63021 -0.57361 0.64409 -0.59514 0.66337 -0.60903 C 0.66823 -0.61782 0.67552 -0.62199 0.6809 -0.63009 C 0.68385 -0.63472 0.68507 -0.64097 0.68871 -0.64398 C 0.696 -0.65069 0.69948 -0.6581 0.70642 -0.66505 C 0.70885 -0.66759 0.7118 -0.66921 0.71423 -0.67199 C 0.7158 -0.67407 0.71649 -0.67685 0.71805 -0.67894 C 0.71805 -0.67894 0.73281 -0.69676 0.73576 -0.7 C 0.74149 -0.70694 0.7493 -0.71019 0.75521 -0.71644 C 0.76441 -0.72569 0.76857 -0.73866 0.77882 -0.74676 C 0.78142 -0.75602 0.78455 -0.76065 0.79045 -0.76759 C 0.79392 -0.77986 0.79132 -0.77245 0.80034 -0.78866 C 0.8026 -0.79282 0.80295 -0.79815 0.80416 -0.80278 C 0.80555 -0.80741 0.80677 -0.81204 0.80816 -0.81667 C 0.80868 -0.81898 0.81007 -0.82361 0.81007 -0.82361 C 0.81128 -0.83495 0.81406 -0.84514 0.81406 -0.85625 E">
                                      <p:cBhvr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573 4.44444E-006 C 0.0184 -0.00116 0.04045 0.00208 0.06319 -0.00533 C 0.07604 -0.0095 0.08802 -0.0169 0.10069 -0.02153 C 0.11615 -0.02686 0.1316 -0.03102 0.1467 -0.0375 C 0.16389 -0.04491 0.17934 -0.05602 0.19687 -0.06158 C 0.20729 -0.06968 0.21753 -0.08149 0.2283 -0.08843 C 0.2467 -0.10024 0.26667 -0.10787 0.28472 -0.12061 C 0.29531 -0.12801 0.30677 -0.13426 0.31597 -0.14468 C 0.31892 -0.14792 0.32101 -0.15232 0.3243 -0.15533 C 0.3276 -0.15787 0.33177 -0.15811 0.3349 -0.16065 C 0.34427 -0.16806 0.35295 -0.17662 0.36198 -0.18473 C 0.37378 -0.19514 0.38733 -0.20209 0.39965 -0.21158 C 0.4099 -0.21922 0.42031 -0.22732 0.42865 -0.2382 C 0.43576 -0.24723 0.44149 -0.25764 0.44983 -0.26505 C 0.45729 -0.27223 0.4651 -0.2794 0.47274 -0.28635 C 0.51458 -0.32547 0.45555 -0.27848 0.4934 -0.30787 C 0.50816 -0.33241 0.48941 -0.30278 0.51233 -0.33195 C 0.52396 -0.34676 0.53437 -0.36274 0.54601 -0.37755 C 0.55347 -0.38704 0.56007 -0.39954 0.56892 -0.40695 C 0.57847 -0.43125 0.56632 -0.4044 0.58142 -0.4257 C 0.58941 -0.43704 0.59462 -0.45463 0.60451 -0.4632 C 0.63437 -0.51667 0.66354 -0.57037 0.69635 -0.62107 C 0.70469 -0.63403 0.69635 -0.62431 0.70469 -0.63982 C 0.72899 -0.6845 0.71007 -0.64838 0.72778 -0.67454 C 0.72934 -0.67709 0.73003 -0.68056 0.73194 -0.68264 C 0.73559 -0.68635 0.74062 -0.68727 0.74444 -0.69051 C 0.75087 -0.70301 0.75833 -0.70463 0.76962 -0.70926 C 0.77205 -0.71042 0.77361 -0.71343 0.77587 -0.71482 C 0.77778 -0.71598 0.78003 -0.71667 0.78212 -0.71737 C 0.79496 -0.722 0.80972 -0.7257 0.82187 -0.73334 E">
                                      <p:cBhvr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00:54Z</dcterms:created>
  <dc:creator/>
  <dc:description/>
  <dc:language>en-US</dc:language>
  <cp:lastModifiedBy>雨林木风</cp:lastModifiedBy>
  <dcterms:modified xsi:type="dcterms:W3CDTF">2015-08-27T08:21:56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