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1F9-8998-4D5C-BDC8-9597F33E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6BF-B35B-4D5B-9B0A-93C3929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399-0674-4450-9B77-5DC9C3E8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CAB-70C1-41FA-A027-A5F4870E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A97-2055-44DD-A8BF-8121890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5D8-1146-4A66-9424-6B1FAC2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4F5-E18E-4EB0-BCD6-BE60DD4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7D3-4CC8-426C-95F4-15B9944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F1B-FD26-4AA0-8EAC-2F906B48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939-11AB-41B4-913C-D1FFFFDC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445-A2F1-450A-A8F5-1F4945A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AD2-1A03-40AC-8E0C-A7F191A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2C7EFE-0357-44DA-8027-AC810CD6494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圆角矩形 3"/>
          <p:cNvSpPr/>
          <p:nvPr/>
        </p:nvSpPr>
        <p:spPr>
          <a:xfrm>
            <a:off x="3666960" y="1741680"/>
            <a:ext cx="2044800" cy="3220560"/>
          </a:xfrm>
          <a:prstGeom prst="roundRect">
            <a:avLst>
              <a:gd name="adj" fmla="val 1321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" name="组合 1"/>
          <p:cNvGrpSpPr/>
          <p:nvPr/>
        </p:nvGrpSpPr>
        <p:grpSpPr>
          <a:xfrm>
            <a:off x="3996720" y="2549160"/>
            <a:ext cx="1761120" cy="1536480"/>
            <a:chOff x="3996720" y="2549160"/>
            <a:chExt cx="1761120" cy="1536480"/>
          </a:xfrm>
        </p:grpSpPr>
        <p:sp>
          <p:nvSpPr>
            <p:cNvPr id="41" name="文本框 32"/>
            <p:cNvSpPr/>
            <p:nvPr/>
          </p:nvSpPr>
          <p:spPr>
            <a:xfrm>
              <a:off x="3996720" y="2549160"/>
              <a:ext cx="7009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24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卡号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余额：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文本框 19"/>
            <p:cNvSpPr/>
            <p:nvPr/>
          </p:nvSpPr>
          <p:spPr>
            <a:xfrm>
              <a:off x="4338000" y="2549160"/>
              <a:ext cx="141984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0.65</a:t>
              </a:r>
              <a:r>
                <a:rPr b="0" lang="zh-CN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文本框 20"/>
            <p:cNvSpPr/>
            <p:nvPr/>
          </p:nvSpPr>
          <p:spPr>
            <a:xfrm>
              <a:off x="3996720" y="3310200"/>
              <a:ext cx="7009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24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卡号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余额：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1"/>
            <p:cNvSpPr/>
            <p:nvPr/>
          </p:nvSpPr>
          <p:spPr>
            <a:xfrm>
              <a:off x="4338000" y="3310200"/>
              <a:ext cx="141984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36.5</a:t>
              </a:r>
              <a:r>
                <a:rPr b="0" lang="zh-CN" sz="2100" spc="-114" strike="noStrike">
                  <a:solidFill>
                    <a:srgbClr val="7030a0"/>
                  </a:solidFill>
                  <a:latin typeface="方正经黑简体"/>
                  <a:ea typeface="方正经黑简体"/>
                </a:rPr>
                <a:t>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文本框 2"/>
          <p:cNvSpPr/>
          <p:nvPr/>
        </p:nvSpPr>
        <p:spPr>
          <a:xfrm>
            <a:off x="3758040" y="2144160"/>
            <a:ext cx="1848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7030a0"/>
                </a:solidFill>
                <a:latin typeface="造字工房尚黑 G0v1 常规体"/>
                <a:ea typeface="造字工房尚黑 G0v1 常规体"/>
              </a:rPr>
              <a:t>生活没我们想的那么好，也没我们想的那么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7030a0"/>
                </a:solidFill>
                <a:latin typeface="造字工房尚黑 G0v1 常规体"/>
                <a:ea typeface="造字工房尚黑 G0v1 常规体"/>
              </a:rPr>
              <a:t>强者自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7030a0"/>
                </a:solidFill>
                <a:latin typeface="造字工房尚黑 G0v1 常规体"/>
                <a:ea typeface="造字工房尚黑 G0v1 常规体"/>
              </a:rPr>
              <a:t>圣者渡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6"/>
          <p:cNvSpPr/>
          <p:nvPr/>
        </p:nvSpPr>
        <p:spPr>
          <a:xfrm>
            <a:off x="-25200" y="0"/>
            <a:ext cx="9168840" cy="6857640"/>
          </a:xfrm>
          <a:custGeom>
            <a:avLst/>
            <a:gdLst>
              <a:gd name="textAreaLeft" fmla="*/ 0 w 9168840"/>
              <a:gd name="textAreaRight" fmla="*/ 9169200 w 916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69305" h="6858000">
                <a:moveTo>
                  <a:pt x="3719401" y="1741847"/>
                </a:moveTo>
                <a:cubicBezTo>
                  <a:pt x="3704480" y="1741847"/>
                  <a:pt x="3692385" y="1753942"/>
                  <a:pt x="3692385" y="1768863"/>
                </a:cubicBezTo>
                <a:lnTo>
                  <a:pt x="3692385" y="4935866"/>
                </a:lnTo>
                <a:cubicBezTo>
                  <a:pt x="3692385" y="4950787"/>
                  <a:pt x="3704480" y="4962882"/>
                  <a:pt x="3719401" y="4962882"/>
                </a:cubicBezTo>
                <a:lnTo>
                  <a:pt x="5710523" y="4962882"/>
                </a:lnTo>
                <a:cubicBezTo>
                  <a:pt x="5725444" y="4962882"/>
                  <a:pt x="5737539" y="4950787"/>
                  <a:pt x="5737539" y="4935866"/>
                </a:cubicBezTo>
                <a:lnTo>
                  <a:pt x="5737539" y="1768863"/>
                </a:lnTo>
                <a:cubicBezTo>
                  <a:pt x="5737539" y="1753942"/>
                  <a:pt x="5725444" y="1741847"/>
                  <a:pt x="5710523" y="1741847"/>
                </a:cubicBezTo>
                <a:close/>
                <a:moveTo>
                  <a:pt x="0" y="0"/>
                </a:moveTo>
                <a:lnTo>
                  <a:pt x="9169305" y="0"/>
                </a:lnTo>
                <a:lnTo>
                  <a:pt x="9169305" y="6858000"/>
                </a:lnTo>
                <a:lnTo>
                  <a:pt x="0" y="6858000"/>
                </a:ln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任意多边形 9"/>
          <p:cNvSpPr/>
          <p:nvPr/>
        </p:nvSpPr>
        <p:spPr>
          <a:xfrm>
            <a:off x="3694320" y="4253400"/>
            <a:ext cx="4273560" cy="2904120"/>
          </a:xfrm>
          <a:custGeom>
            <a:avLst/>
            <a:gdLst>
              <a:gd name="textAreaLeft" fmla="*/ 0 w 4273560"/>
              <a:gd name="textAreaRight" fmla="*/ 4273920 w 4273560"/>
              <a:gd name="textAreaTop" fmla="*/ 0 h 2904120"/>
              <a:gd name="textAreaBottom" fmla="*/ 2904480 h 2904120"/>
            </a:gdLst>
            <a:ahLst/>
            <a:rect l="textAreaLeft" t="textAreaTop" r="textAreaRight" b="textAreaBottom"/>
            <a:pathLst>
              <a:path w="5698760" h="3809167">
                <a:moveTo>
                  <a:pt x="5698760" y="3733027"/>
                </a:moveTo>
                <a:lnTo>
                  <a:pt x="2203480" y="3809167"/>
                </a:lnTo>
                <a:cubicBezTo>
                  <a:pt x="1197095" y="3271128"/>
                  <a:pt x="96882" y="1910568"/>
                  <a:pt x="59599" y="1255486"/>
                </a:cubicBezTo>
                <a:cubicBezTo>
                  <a:pt x="-219035" y="877446"/>
                  <a:pt x="558375" y="1301057"/>
                  <a:pt x="763903" y="1331537"/>
                </a:cubicBezTo>
                <a:cubicBezTo>
                  <a:pt x="969431" y="1362017"/>
                  <a:pt x="1362779" y="1509336"/>
                  <a:pt x="1679815" y="1514506"/>
                </a:cubicBezTo>
                <a:lnTo>
                  <a:pt x="2453245" y="1381593"/>
                </a:lnTo>
                <a:lnTo>
                  <a:pt x="2694545" y="182380"/>
                </a:lnTo>
                <a:lnTo>
                  <a:pt x="3766425" y="0"/>
                </a:lnTo>
                <a:cubicBezTo>
                  <a:pt x="4650768" y="971550"/>
                  <a:pt x="4479439" y="2883382"/>
                  <a:pt x="5698760" y="3733027"/>
                </a:cubicBezTo>
                <a:close/>
              </a:path>
            </a:pathLst>
          </a:cu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任意多边形 31"/>
          <p:cNvSpPr/>
          <p:nvPr/>
        </p:nvSpPr>
        <p:spPr>
          <a:xfrm>
            <a:off x="3552840" y="1521000"/>
            <a:ext cx="2273400" cy="394092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3940920"/>
              <a:gd name="textAreaBottom" fmla="*/ 3941280 h 3940920"/>
            </a:gdLst>
            <a:ahLst/>
            <a:rect l="textAreaLeft" t="textAreaTop" r="textAreaRight" b="textAreaBottom"/>
            <a:pathLst>
              <a:path w="2788170" h="5255003">
                <a:moveTo>
                  <a:pt x="254953" y="428846"/>
                </a:moveTo>
                <a:cubicBezTo>
                  <a:pt x="237880" y="428846"/>
                  <a:pt x="224040" y="442686"/>
                  <a:pt x="224040" y="459759"/>
                </a:cubicBezTo>
                <a:lnTo>
                  <a:pt x="224040" y="4458470"/>
                </a:lnTo>
                <a:cubicBezTo>
                  <a:pt x="224040" y="4475543"/>
                  <a:pt x="237880" y="4489383"/>
                  <a:pt x="254953" y="4489383"/>
                </a:cubicBezTo>
                <a:lnTo>
                  <a:pt x="2533217" y="4489383"/>
                </a:lnTo>
                <a:cubicBezTo>
                  <a:pt x="2550290" y="4489383"/>
                  <a:pt x="2564130" y="4475543"/>
                  <a:pt x="2564130" y="4458470"/>
                </a:cubicBezTo>
                <a:lnTo>
                  <a:pt x="2564130" y="459759"/>
                </a:lnTo>
                <a:cubicBezTo>
                  <a:pt x="2564130" y="442686"/>
                  <a:pt x="2550290" y="428846"/>
                  <a:pt x="2533217" y="428846"/>
                </a:cubicBezTo>
                <a:close/>
                <a:moveTo>
                  <a:pt x="395139" y="0"/>
                </a:moveTo>
                <a:lnTo>
                  <a:pt x="2393031" y="0"/>
                </a:lnTo>
                <a:cubicBezTo>
                  <a:pt x="2611260" y="0"/>
                  <a:pt x="2788170" y="176910"/>
                  <a:pt x="2788170" y="395139"/>
                </a:cubicBezTo>
                <a:lnTo>
                  <a:pt x="2788170" y="4859864"/>
                </a:lnTo>
                <a:cubicBezTo>
                  <a:pt x="2788170" y="5078093"/>
                  <a:pt x="2611260" y="5255003"/>
                  <a:pt x="2393031" y="5255003"/>
                </a:cubicBezTo>
                <a:lnTo>
                  <a:pt x="395139" y="5255003"/>
                </a:lnTo>
                <a:cubicBezTo>
                  <a:pt x="176910" y="5255003"/>
                  <a:pt x="0" y="5078093"/>
                  <a:pt x="0" y="4859864"/>
                </a:cubicBezTo>
                <a:lnTo>
                  <a:pt x="0" y="395139"/>
                </a:lnTo>
                <a:cubicBezTo>
                  <a:pt x="0" y="176910"/>
                  <a:pt x="176910" y="0"/>
                  <a:pt x="395139" y="0"/>
                </a:cubicBezTo>
                <a:close/>
              </a:path>
            </a:pathLst>
          </a:custGeom>
          <a:solidFill>
            <a:srgbClr val="2525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4"/>
          <p:cNvSpPr/>
          <p:nvPr/>
        </p:nvSpPr>
        <p:spPr>
          <a:xfrm>
            <a:off x="4445640" y="4947480"/>
            <a:ext cx="487440" cy="487440"/>
          </a:xfrm>
          <a:prstGeom prst="ellipse">
            <a:avLst/>
          </a:prstGeom>
          <a:solidFill>
            <a:schemeClr val="tx1"/>
          </a:soli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圆角矩形 5"/>
          <p:cNvSpPr/>
          <p:nvPr/>
        </p:nvSpPr>
        <p:spPr>
          <a:xfrm>
            <a:off x="3151440" y="2787120"/>
            <a:ext cx="900000" cy="633960"/>
          </a:xfrm>
          <a:prstGeom prst="roundRect">
            <a:avLst>
              <a:gd name="adj" fmla="val 50000"/>
            </a:avLst>
          </a:pr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圆角矩形 6"/>
          <p:cNvSpPr/>
          <p:nvPr/>
        </p:nvSpPr>
        <p:spPr>
          <a:xfrm>
            <a:off x="3151440" y="3421440"/>
            <a:ext cx="900000" cy="633960"/>
          </a:xfrm>
          <a:prstGeom prst="roundRect">
            <a:avLst>
              <a:gd name="adj" fmla="val 50000"/>
            </a:avLst>
          </a:pr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圆角矩形 7"/>
          <p:cNvSpPr/>
          <p:nvPr/>
        </p:nvSpPr>
        <p:spPr>
          <a:xfrm>
            <a:off x="3151440" y="4055400"/>
            <a:ext cx="900000" cy="633960"/>
          </a:xfrm>
          <a:prstGeom prst="roundRect">
            <a:avLst>
              <a:gd name="adj" fmla="val 50000"/>
            </a:avLst>
          </a:pr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圆角矩形 8"/>
          <p:cNvSpPr/>
          <p:nvPr/>
        </p:nvSpPr>
        <p:spPr>
          <a:xfrm>
            <a:off x="3166560" y="4684680"/>
            <a:ext cx="900000" cy="633960"/>
          </a:xfrm>
          <a:prstGeom prst="roundRect">
            <a:avLst>
              <a:gd name="adj" fmla="val 50000"/>
            </a:avLst>
          </a:pr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圆角矩形 11"/>
          <p:cNvSpPr/>
          <p:nvPr/>
        </p:nvSpPr>
        <p:spPr>
          <a:xfrm rot="14628000">
            <a:off x="5301000" y="3959640"/>
            <a:ext cx="1727640" cy="759960"/>
          </a:xfrm>
          <a:custGeom>
            <a:avLst/>
            <a:gdLst>
              <a:gd name="textAreaLeft" fmla="*/ 0 w 1727640"/>
              <a:gd name="textAreaRight" fmla="*/ 1728000 w 1727640"/>
              <a:gd name="textAreaTop" fmla="*/ 0 h 759960"/>
              <a:gd name="textAreaBottom" fmla="*/ 760320 h 759960"/>
            </a:gdLst>
            <a:ahLst/>
            <a:rect l="textAreaLeft" t="textAreaTop" r="textAreaRight" b="textAreaBottom"/>
            <a:pathLst>
              <a:path w="2303785" h="1013903">
                <a:moveTo>
                  <a:pt x="0" y="509004"/>
                </a:moveTo>
                <a:cubicBezTo>
                  <a:pt x="0" y="230156"/>
                  <a:pt x="226051" y="4105"/>
                  <a:pt x="504899" y="4105"/>
                </a:cubicBezTo>
                <a:lnTo>
                  <a:pt x="1228815" y="0"/>
                </a:lnTo>
                <a:lnTo>
                  <a:pt x="1798886" y="4105"/>
                </a:lnTo>
                <a:cubicBezTo>
                  <a:pt x="2077734" y="4105"/>
                  <a:pt x="2303785" y="230156"/>
                  <a:pt x="2303785" y="509004"/>
                </a:cubicBezTo>
                <a:lnTo>
                  <a:pt x="2303784" y="509004"/>
                </a:lnTo>
                <a:cubicBezTo>
                  <a:pt x="2303784" y="787852"/>
                  <a:pt x="2077733" y="1013903"/>
                  <a:pt x="1798885" y="1013903"/>
                </a:cubicBezTo>
                <a:lnTo>
                  <a:pt x="504899" y="1013902"/>
                </a:lnTo>
                <a:cubicBezTo>
                  <a:pt x="226051" y="1013902"/>
                  <a:pt x="0" y="787851"/>
                  <a:pt x="0" y="509003"/>
                </a:cubicBezTo>
                <a:lnTo>
                  <a:pt x="0" y="509004"/>
                </a:lnTo>
                <a:close/>
              </a:path>
            </a:pathLst>
          </a:custGeom>
          <a:solidFill>
            <a:srgbClr val="ffd9a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圆角矩形 12"/>
          <p:cNvSpPr/>
          <p:nvPr/>
        </p:nvSpPr>
        <p:spPr>
          <a:xfrm>
            <a:off x="4445640" y="1649880"/>
            <a:ext cx="487440" cy="62640"/>
          </a:xfrm>
          <a:prstGeom prst="roundRect">
            <a:avLst>
              <a:gd name="adj" fmla="val 50000"/>
            </a:avLst>
          </a:prstGeom>
          <a:solidFill>
            <a:srgbClr val="05050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" name="组合 18"/>
          <p:cNvGrpSpPr/>
          <p:nvPr/>
        </p:nvGrpSpPr>
        <p:grpSpPr>
          <a:xfrm>
            <a:off x="4630320" y="2816280"/>
            <a:ext cx="2691360" cy="2142720"/>
            <a:chOff x="4630320" y="2816280"/>
            <a:chExt cx="2691360" cy="2142720"/>
          </a:xfrm>
        </p:grpSpPr>
        <p:sp>
          <p:nvSpPr>
            <p:cNvPr id="57" name="圆角矩形 10"/>
            <p:cNvSpPr/>
            <p:nvPr/>
          </p:nvSpPr>
          <p:spPr>
            <a:xfrm rot="19569000">
              <a:off x="4694400" y="3784680"/>
              <a:ext cx="1727640" cy="757080"/>
            </a:xfrm>
            <a:prstGeom prst="roundRect">
              <a:avLst>
                <a:gd name="adj" fmla="val 50000"/>
              </a:avLst>
            </a:prstGeom>
            <a:solidFill>
              <a:srgbClr val="ffd9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圆角矩形 17"/>
            <p:cNvSpPr/>
            <p:nvPr/>
          </p:nvSpPr>
          <p:spPr>
            <a:xfrm rot="19569000">
              <a:off x="5529240" y="3233160"/>
              <a:ext cx="1727640" cy="757080"/>
            </a:xfrm>
            <a:prstGeom prst="roundRect">
              <a:avLst>
                <a:gd name="adj" fmla="val 50000"/>
              </a:avLst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9" name="任意多边形 23"/>
          <p:cNvSpPr/>
          <p:nvPr/>
        </p:nvSpPr>
        <p:spPr>
          <a:xfrm>
            <a:off x="4556520" y="4943880"/>
            <a:ext cx="295920" cy="456480"/>
          </a:xfrm>
          <a:custGeom>
            <a:avLst/>
            <a:gdLst>
              <a:gd name="textAreaLeft" fmla="*/ 0 w 295920"/>
              <a:gd name="textAreaRight" fmla="*/ 296280 w 295920"/>
              <a:gd name="textAreaTop" fmla="*/ 0 h 456480"/>
              <a:gd name="textAreaBottom" fmla="*/ 456840 h 456480"/>
            </a:gdLst>
            <a:ahLst/>
            <a:rect l="textAreaLeft" t="textAreaTop" r="textAreaRight" b="textAreaBottom"/>
            <a:pathLst>
              <a:path w="1935162" h="2983104">
                <a:moveTo>
                  <a:pt x="540558" y="0"/>
                </a:moveTo>
                <a:lnTo>
                  <a:pt x="568978" y="5978"/>
                </a:lnTo>
                <a:cubicBezTo>
                  <a:pt x="691549" y="44300"/>
                  <a:pt x="804384" y="118376"/>
                  <a:pt x="890526" y="226301"/>
                </a:cubicBezTo>
                <a:cubicBezTo>
                  <a:pt x="955133" y="307246"/>
                  <a:pt x="997844" y="398610"/>
                  <a:pt x="1019463" y="493240"/>
                </a:cubicBezTo>
                <a:lnTo>
                  <a:pt x="1026896" y="541783"/>
                </a:lnTo>
                <a:lnTo>
                  <a:pt x="1034532" y="521164"/>
                </a:lnTo>
                <a:cubicBezTo>
                  <a:pt x="1046309" y="496602"/>
                  <a:pt x="1061384" y="475819"/>
                  <a:pt x="1076459" y="456926"/>
                </a:cubicBezTo>
                <a:cubicBezTo>
                  <a:pt x="1110377" y="419139"/>
                  <a:pt x="1148064" y="396466"/>
                  <a:pt x="1193289" y="381352"/>
                </a:cubicBezTo>
                <a:cubicBezTo>
                  <a:pt x="1238513" y="366237"/>
                  <a:pt x="1287506" y="362458"/>
                  <a:pt x="1336499" y="370016"/>
                </a:cubicBezTo>
                <a:cubicBezTo>
                  <a:pt x="1385492" y="381352"/>
                  <a:pt x="1434485" y="404024"/>
                  <a:pt x="1475941" y="453147"/>
                </a:cubicBezTo>
                <a:cubicBezTo>
                  <a:pt x="1434485" y="506049"/>
                  <a:pt x="1404336" y="536279"/>
                  <a:pt x="1370418" y="562729"/>
                </a:cubicBezTo>
                <a:cubicBezTo>
                  <a:pt x="1336499" y="585402"/>
                  <a:pt x="1306350" y="604295"/>
                  <a:pt x="1272431" y="615631"/>
                </a:cubicBezTo>
                <a:cubicBezTo>
                  <a:pt x="1255472" y="621299"/>
                  <a:pt x="1238513" y="625078"/>
                  <a:pt x="1220612" y="627440"/>
                </a:cubicBezTo>
                <a:lnTo>
                  <a:pt x="1194152" y="628962"/>
                </a:lnTo>
                <a:lnTo>
                  <a:pt x="1209358" y="634040"/>
                </a:lnTo>
                <a:cubicBezTo>
                  <a:pt x="1433218" y="736040"/>
                  <a:pt x="1588115" y="974629"/>
                  <a:pt x="1588115" y="1251335"/>
                </a:cubicBezTo>
                <a:cubicBezTo>
                  <a:pt x="1588115" y="1296512"/>
                  <a:pt x="1584343" y="1334159"/>
                  <a:pt x="1580571" y="1375571"/>
                </a:cubicBezTo>
                <a:cubicBezTo>
                  <a:pt x="1795589" y="1541218"/>
                  <a:pt x="1935162" y="1793454"/>
                  <a:pt x="1935162" y="2075808"/>
                </a:cubicBezTo>
                <a:cubicBezTo>
                  <a:pt x="1935162" y="2576515"/>
                  <a:pt x="1501354" y="2983104"/>
                  <a:pt x="965695" y="2983104"/>
                </a:cubicBezTo>
                <a:cubicBezTo>
                  <a:pt x="433808" y="2983104"/>
                  <a:pt x="0" y="2576515"/>
                  <a:pt x="0" y="2075808"/>
                </a:cubicBezTo>
                <a:cubicBezTo>
                  <a:pt x="0" y="1793454"/>
                  <a:pt x="139573" y="1541218"/>
                  <a:pt x="354591" y="1375571"/>
                </a:cubicBezTo>
                <a:cubicBezTo>
                  <a:pt x="347047" y="1334159"/>
                  <a:pt x="343274" y="1296512"/>
                  <a:pt x="343274" y="1251335"/>
                </a:cubicBezTo>
                <a:cubicBezTo>
                  <a:pt x="343274" y="928511"/>
                  <a:pt x="556996" y="657569"/>
                  <a:pt x="840393" y="594878"/>
                </a:cubicBezTo>
                <a:lnTo>
                  <a:pt x="935952" y="584459"/>
                </a:lnTo>
                <a:lnTo>
                  <a:pt x="915351" y="576338"/>
                </a:lnTo>
                <a:cubicBezTo>
                  <a:pt x="827868" y="534278"/>
                  <a:pt x="748247" y="472375"/>
                  <a:pt x="683640" y="391431"/>
                </a:cubicBezTo>
                <a:cubicBezTo>
                  <a:pt x="597498" y="283505"/>
                  <a:pt x="550281" y="157055"/>
                  <a:pt x="540087" y="2903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4"/>
          <p:cNvSpPr/>
          <p:nvPr/>
        </p:nvSpPr>
        <p:spPr>
          <a:xfrm>
            <a:off x="4733640" y="5033520"/>
            <a:ext cx="133200" cy="232560"/>
          </a:xfrm>
          <a:custGeom>
            <a:avLst/>
            <a:gdLst>
              <a:gd name="textAreaLeft" fmla="*/ 0 w 133200"/>
              <a:gd name="textAreaRight" fmla="*/ 133560 w 133200"/>
              <a:gd name="textAreaTop" fmla="*/ 0 h 232560"/>
              <a:gd name="textAreaBottom" fmla="*/ 232920 h 232560"/>
            </a:gdLst>
            <a:ahLst/>
            <a:rect l="textAreaLeft" t="textAreaTop" r="textAreaRight" b="textAreaBottom"/>
            <a:pathLst>
              <a:path w="1194609" h="2081243">
                <a:moveTo>
                  <a:pt x="609600" y="135852"/>
                </a:moveTo>
                <a:cubicBezTo>
                  <a:pt x="528320" y="176492"/>
                  <a:pt x="463550" y="204432"/>
                  <a:pt x="396240" y="250152"/>
                </a:cubicBezTo>
                <a:cubicBezTo>
                  <a:pt x="328930" y="295872"/>
                  <a:pt x="256540" y="353022"/>
                  <a:pt x="205740" y="410172"/>
                </a:cubicBezTo>
                <a:cubicBezTo>
                  <a:pt x="154940" y="467322"/>
                  <a:pt x="115570" y="524472"/>
                  <a:pt x="91440" y="593052"/>
                </a:cubicBezTo>
                <a:cubicBezTo>
                  <a:pt x="67310" y="661632"/>
                  <a:pt x="66040" y="773392"/>
                  <a:pt x="60960" y="821652"/>
                </a:cubicBezTo>
                <a:cubicBezTo>
                  <a:pt x="55880" y="869912"/>
                  <a:pt x="59690" y="844512"/>
                  <a:pt x="60960" y="882612"/>
                </a:cubicBezTo>
                <a:cubicBezTo>
                  <a:pt x="62230" y="920712"/>
                  <a:pt x="53340" y="1000722"/>
                  <a:pt x="68580" y="1050252"/>
                </a:cubicBezTo>
                <a:cubicBezTo>
                  <a:pt x="83820" y="1099782"/>
                  <a:pt x="138430" y="1148042"/>
                  <a:pt x="152400" y="1179792"/>
                </a:cubicBezTo>
                <a:cubicBezTo>
                  <a:pt x="166370" y="1211542"/>
                  <a:pt x="162560" y="1233132"/>
                  <a:pt x="152400" y="1240752"/>
                </a:cubicBezTo>
                <a:cubicBezTo>
                  <a:pt x="142240" y="1248372"/>
                  <a:pt x="116840" y="1249642"/>
                  <a:pt x="91440" y="1225512"/>
                </a:cubicBezTo>
                <a:cubicBezTo>
                  <a:pt x="66040" y="1201382"/>
                  <a:pt x="0" y="1085812"/>
                  <a:pt x="0" y="1095972"/>
                </a:cubicBezTo>
                <a:cubicBezTo>
                  <a:pt x="0" y="1106132"/>
                  <a:pt x="80010" y="1230592"/>
                  <a:pt x="91440" y="1286472"/>
                </a:cubicBezTo>
                <a:cubicBezTo>
                  <a:pt x="102870" y="1342352"/>
                  <a:pt x="76200" y="1390612"/>
                  <a:pt x="68580" y="1431252"/>
                </a:cubicBezTo>
                <a:cubicBezTo>
                  <a:pt x="60960" y="1471892"/>
                  <a:pt x="43180" y="1506182"/>
                  <a:pt x="45720" y="1530312"/>
                </a:cubicBezTo>
                <a:cubicBezTo>
                  <a:pt x="48260" y="1554442"/>
                  <a:pt x="69850" y="1565872"/>
                  <a:pt x="83820" y="1576032"/>
                </a:cubicBezTo>
                <a:cubicBezTo>
                  <a:pt x="97790" y="1586192"/>
                  <a:pt x="113030" y="1587462"/>
                  <a:pt x="129540" y="1591272"/>
                </a:cubicBezTo>
                <a:cubicBezTo>
                  <a:pt x="146050" y="1595082"/>
                  <a:pt x="166370" y="1593812"/>
                  <a:pt x="182880" y="1598892"/>
                </a:cubicBezTo>
                <a:cubicBezTo>
                  <a:pt x="199390" y="1603972"/>
                  <a:pt x="219710" y="1605242"/>
                  <a:pt x="228600" y="1621752"/>
                </a:cubicBezTo>
                <a:cubicBezTo>
                  <a:pt x="237490" y="1638262"/>
                  <a:pt x="223520" y="1682712"/>
                  <a:pt x="236220" y="1697952"/>
                </a:cubicBezTo>
                <a:cubicBezTo>
                  <a:pt x="248920" y="1713192"/>
                  <a:pt x="288290" y="1710652"/>
                  <a:pt x="304800" y="1713192"/>
                </a:cubicBezTo>
                <a:cubicBezTo>
                  <a:pt x="321310" y="1715732"/>
                  <a:pt x="332740" y="1705572"/>
                  <a:pt x="335280" y="1713192"/>
                </a:cubicBezTo>
                <a:cubicBezTo>
                  <a:pt x="337820" y="1720812"/>
                  <a:pt x="326390" y="1744942"/>
                  <a:pt x="320040" y="1758912"/>
                </a:cubicBezTo>
                <a:cubicBezTo>
                  <a:pt x="313690" y="1772882"/>
                  <a:pt x="294640" y="1783042"/>
                  <a:pt x="297180" y="1797012"/>
                </a:cubicBezTo>
                <a:cubicBezTo>
                  <a:pt x="299720" y="1810982"/>
                  <a:pt x="326390" y="1835112"/>
                  <a:pt x="335280" y="1842732"/>
                </a:cubicBezTo>
                <a:cubicBezTo>
                  <a:pt x="344170" y="1850352"/>
                  <a:pt x="344170" y="1827492"/>
                  <a:pt x="350520" y="1842732"/>
                </a:cubicBezTo>
                <a:cubicBezTo>
                  <a:pt x="356870" y="1857972"/>
                  <a:pt x="367030" y="1906232"/>
                  <a:pt x="373380" y="1934172"/>
                </a:cubicBezTo>
                <a:cubicBezTo>
                  <a:pt x="379730" y="1962112"/>
                  <a:pt x="377190" y="1988782"/>
                  <a:pt x="388620" y="2010372"/>
                </a:cubicBezTo>
                <a:cubicBezTo>
                  <a:pt x="400050" y="2031962"/>
                  <a:pt x="408940" y="2057362"/>
                  <a:pt x="441960" y="2063712"/>
                </a:cubicBezTo>
                <a:cubicBezTo>
                  <a:pt x="474980" y="2070062"/>
                  <a:pt x="546100" y="2051012"/>
                  <a:pt x="586740" y="2048472"/>
                </a:cubicBezTo>
                <a:cubicBezTo>
                  <a:pt x="627380" y="2045932"/>
                  <a:pt x="685800" y="2048472"/>
                  <a:pt x="685800" y="2048472"/>
                </a:cubicBezTo>
                <a:lnTo>
                  <a:pt x="769620" y="2048472"/>
                </a:lnTo>
                <a:cubicBezTo>
                  <a:pt x="772160" y="2048472"/>
                  <a:pt x="722697" y="2050063"/>
                  <a:pt x="777240" y="2048472"/>
                </a:cubicBezTo>
                <a:cubicBezTo>
                  <a:pt x="831783" y="2046881"/>
                  <a:pt x="1028301" y="2129094"/>
                  <a:pt x="1096881" y="2038924"/>
                </a:cubicBezTo>
                <a:cubicBezTo>
                  <a:pt x="1165461" y="1948754"/>
                  <a:pt x="1211514" y="1789071"/>
                  <a:pt x="1188720" y="1507452"/>
                </a:cubicBezTo>
                <a:cubicBezTo>
                  <a:pt x="1165927" y="1225833"/>
                  <a:pt x="1010920" y="599402"/>
                  <a:pt x="960120" y="349212"/>
                </a:cubicBezTo>
                <a:cubicBezTo>
                  <a:pt x="909320" y="99022"/>
                  <a:pt x="935990" y="41872"/>
                  <a:pt x="883920" y="6312"/>
                </a:cubicBezTo>
                <a:cubicBezTo>
                  <a:pt x="831850" y="-29248"/>
                  <a:pt x="690880" y="95212"/>
                  <a:pt x="609600" y="135852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-3600000">
                                      <p:cBhvr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4250"/>
                                  </p:stCondLst>
                                  <p:childTnLst>
                                    <p:animRot by="3600000">
                                      <p:cBhvr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-3600000">
                                      <p:cBhvr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1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25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5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731</TotalTime>
  <Application>LibreOffice/7.4.7.2$Linux_X86_64 LibreOffice_project/40$Build-2</Application>
  <AppVersion>15.0000</AppVersion>
  <Words>37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9T04:59:15Z</dcterms:created>
  <dc:creator>wenping</dc:creator>
  <dc:description/>
  <dc:language>en-US</dc:language>
  <cp:lastModifiedBy>Windows 用户</cp:lastModifiedBy>
  <dcterms:modified xsi:type="dcterms:W3CDTF">2015-09-05T16:21:45Z</dcterms:modified>
  <cp:revision>9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