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17D-6D91-417E-9EBE-A77B6983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039-DB83-420C-BA6A-8218E96E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3444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FAA-80A2-4D93-9F0C-9D4EC8D7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5784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848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5784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848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B4B-53D1-452A-B7F0-A156722C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F054-FD80-4489-8C84-7C857F4A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849-3553-444F-89AC-FE1D661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8F72-E9E8-402D-A64F-5355BD7C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8C4-0275-4940-ABB8-7087F185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90C5-A34E-48C0-8B4A-59DAA95B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162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A9A-EF64-4D33-8926-6E94903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48A-8A48-4061-9C47-720DF29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86A-28EC-4EBC-89BE-79D0EAA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3444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A19-DFB6-4789-A5BE-9EE4305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CA8F-084F-4E32-83B9-61A3382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80A-1EB8-448A-9F58-98A96D14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3444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9B5-93C6-47DC-8612-FFA871F1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784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58480" y="137124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5784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858480" y="3679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CBFC-A239-4F98-A941-412D25C4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967-5B03-4FCF-AD8A-403556F3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D91-1C70-4F1A-A4C5-FC30197C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633-6CC1-4BFD-9591-94E3E7C0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162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8C7-E8D3-4B47-AC87-1B27AC3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FB1-8586-4F40-9833-2DBC018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34440" y="3679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E83-ADDC-47C3-B865-52D9012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4440" y="137124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D6D-777B-4718-A932-8D259C6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9F19-F220-4D67-96BE-F463B687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5FAA-AF34-4B38-9872-222BBFCD6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BOWLING</a:t>
            </a:r>
            <a:br>
              <a:rPr sz="4400"/>
            </a:b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35812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5c31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</a:rPr>
              <a:t>Elements</a:t>
            </a:r>
            <a:endParaRPr b="0" lang="en-US" sz="4400" spc="-1" strike="noStrike">
              <a:solidFill>
                <a:srgbClr val="a55c3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52320" y="8377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62720" y="4057560"/>
            <a:ext cx="312408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981080" y="405756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1295280"/>
            <a:ext cx="312408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2800440"/>
            <a:ext cx="2039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16:56:32Z</dcterms:created>
  <dc:creator>eclipse</dc:creator>
  <dc:description/>
  <dc:language>en-US</dc:language>
  <cp:lastModifiedBy>eclipse</cp:lastModifiedBy>
  <dcterms:modified xsi:type="dcterms:W3CDTF">2003-01-10T17:13:23Z</dcterms:modified>
  <cp:revision>2</cp:revision>
  <dc:subject/>
  <dc:title>BOWLING OUTLINE</dc:title>
</cp:coreProperties>
</file>