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0.png" ContentType="image/png"/>
  <Override PartName="/ppt/media/image2.jpeg" ContentType="image/jpeg"/>
  <Override PartName="/ppt/media/laser.wav" ContentType="audio/x-wav"/>
  <Override PartName="/ppt/media/image4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BD5-1472-4AB1-9B7B-C27E37BD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A67-6425-48CB-892D-AE10E40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655-8DD9-413F-B64D-5D5139D2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2D4-F068-4624-9338-B526E47A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6EEC-9B75-4B1B-80D6-A6E1FEF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2B9-DA96-4ED4-884C-BFB8A00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F485-2E90-4AED-8D45-8FE22C7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B6B-1C6D-4CD7-A72A-F8A199E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E88B-18AF-433E-90BC-3AAA1B7D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0DA2-73DC-40F2-9DA2-B01A8DE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B5A-C2BE-4A05-BC9E-E3D4A4C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E5-72A4-466B-85C7-1DC709A2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C10E-2257-4F26-A53F-72CAD01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DF5-D178-4A13-BE91-1CCA804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4222-DAA1-402C-9657-A531CB8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B5D-680A-40C1-BC03-100B8712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DA7-699C-4ABC-B3CC-A7CB9CE5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000-A39A-4260-AA17-2144371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D7B-BE7A-4CD3-A6CC-8E770DF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C84-0081-4C5A-9BE1-32E1772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EFF-F105-4AE0-8D66-2F8BEDA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2A-D701-4DEF-8836-EACD5BF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6F1-738D-400C-85A7-45C9CEC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807-3A2F-4FDC-8BCB-12B77B9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181-0442-4F93-B1F7-6C0BE4764CE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29E-E3F5-45BF-AEC6-028A27FF34F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zsy.net/hsl/bbs/UploadFile/20033310154043682.jpg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34640" y="888840"/>
            <a:ext cx="218124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9600" spc="-1" strike="noStrike">
                <a:solidFill>
                  <a:srgbClr val="ffffcc"/>
                </a:solidFill>
                <a:latin typeface="Times New Roman"/>
              </a:rPr>
              <a:t>窦娥冤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关汉卿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5335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全文一共写了几个场面？用简洁的词语为这几个场面标上小标题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1680" y="152388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、［端正好］［滚绣球］两个曲牌，大意是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窦娥指斥天地鬼神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倘秀才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]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至［鲍老儿］四个曲牌，大意是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窦娥诀别婆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、是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耍孩儿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]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至［煞尾］四个曲牌。大意是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窦娥发下三桩誓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3720" y="25146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6520" y="41148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68800" y="5638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54936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15748" r="0" b="18635"/>
          <a:stretch/>
        </p:blipFill>
        <p:spPr>
          <a:xfrm>
            <a:off x="0" y="3705120"/>
            <a:ext cx="4716360" cy="253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15748" r="0" b="18635"/>
          <a:stretch/>
        </p:blipFill>
        <p:spPr>
          <a:xfrm>
            <a:off x="4427640" y="3701880"/>
            <a:ext cx="4716360" cy="253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533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窦娥形象及意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形象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勤劳、正直、善良，但又有强烈反抗精神的古代年轻女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意义：揭露出官吏的腐朽，社会的黑暗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260280"/>
            <a:ext cx="871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04640"/>
            <a:ext cx="878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5853" r="0" b="18517"/>
          <a:stretch/>
        </p:blipFill>
        <p:spPr>
          <a:xfrm>
            <a:off x="0" y="3978360"/>
            <a:ext cx="53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0" t="4383" r="0" b="7625"/>
          <a:stretch/>
        </p:blipFill>
        <p:spPr>
          <a:xfrm>
            <a:off x="4716360" y="3960720"/>
            <a:ext cx="4427640" cy="289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4572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蔡婆婆形象及意义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44792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形象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善良；面对压迫逆来顺受；懦弱，不敢抗争。正是她的软弱，才引狼入室，正是她的动摇，才给了张驴儿可乘之机。所以，她也是逼迫窦娥走向悲剧的一员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6858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中宋"/>
              </a:rPr>
              <a:t>归纳主题</a:t>
            </a:r>
            <a:r>
              <a:rPr b="1" lang="zh-CN" sz="4800" spc="-1" strike="noStrike">
                <a:solidFill>
                  <a:srgbClr val="ffffcc"/>
                </a:solidFill>
                <a:latin typeface="Tahoma"/>
                <a:ea typeface="华文中宋"/>
              </a:rPr>
              <a:t>      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828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黑体"/>
              </a:rPr>
              <a:t>作者通过窦娥蒙受的千古奇冤，深刻地揭露了封建社会的黑暗，统治阶级昏庸残暴以及在它的庇护下流氓恶棍的横行，也反映了人们深重的苦难和坚定的反抗精神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581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476280"/>
            <a:ext cx="849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9480"/>
            <a:ext cx="89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思考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：她的三桩誓愿的实现与第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层对天地的指责是什么关系呢？是否矛盾呢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5248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这显然是矛盾的。可见，窦娥诉冤过程中对天的怀疑和依赖是始终交织在一起的。这正反映了作家的历史和阶级的局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一方面，他通过窦娥指天斥地从根本上批判封建统治阶级，表达自己变革现实的愿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另一方面，又不能从根本上提出救民于水火的办法，只能靠天地动容来昭雪窦娥的冤案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46200" y="1219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赏析“三桩誓愿”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362320"/>
            <a:ext cx="2210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血溅白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六月飞雪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亢旱三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2438280"/>
            <a:ext cx="6095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刑场上的人们立刻了解冤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自己的冤屈能够得到上天反应上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惩治邪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514600"/>
            <a:ext cx="0" cy="3124080"/>
          </a:xfrm>
          <a:prstGeom prst="line">
            <a:avLst/>
          </a:prstGeom>
          <a:ln cap="sq" w="255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0" y="2438280"/>
            <a:ext cx="6069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深     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2895480"/>
            <a:ext cx="4343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苌弘化碧、望帝啼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六月飞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东海孝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819520"/>
            <a:ext cx="4191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死得冤枉、悲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冤情深重、足以动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强化了斗争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404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感天动地窦娥“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华文中宋"/>
              </a:rPr>
              <a:t>冤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华文中宋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" y="23623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447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0020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宾白与曲词相结合，强化感情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连用三个“委实冤枉”，强调“冤枉”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一问一答，三桩誓愿出人意料，难以实现，衬托实现后的惊天动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91120"/>
            <a:ext cx="91440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浪漫主义手法：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显示抗争的强大力量，寄托作者鲜明的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爱憎；悲剧气氛更为浓烈，人物形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更加突出，震慑人心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45720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中宋"/>
              </a:rPr>
              <a:t>赏析戏剧语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23623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447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1430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本色派：语言通俗自然，朴实生动，符合人物身份和个性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209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滚绣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7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运用了什么修辞手法？有什么表达效果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8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76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对比、对偶、反问、词语反复，直抒胸臆，高亢激越，抒情性浓厚；句式整齐、节奏鲜明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3434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《快活三》《鲍老三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5105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寥寥数语，百感交集，哀伤不尽，备感凄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窦娥像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2011320" y="1584360"/>
            <a:ext cx="9144000" cy="360"/>
          </a:xfrm>
          <a:prstGeom prst="rect">
            <a:avLst/>
          </a:prstGeom>
          <a:solidFill>
            <a:srgbClr val="b26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60680" y="1584360"/>
            <a:ext cx="360" cy="3398760"/>
            <a:chOff x="2560680" y="1584360"/>
            <a:chExt cx="360" cy="3398760"/>
          </a:xfrm>
        </p:grpSpPr>
        <p:sp>
          <p:nvSpPr>
            <p:cNvPr id="126" name=""/>
            <p:cNvSpPr/>
            <p:nvPr/>
          </p:nvSpPr>
          <p:spPr>
            <a:xfrm>
              <a:off x="2560680" y="1584360"/>
              <a:ext cx="360" cy="360"/>
            </a:xfrm>
            <a:prstGeom prst="rect">
              <a:avLst/>
            </a:prstGeom>
            <a:solidFill>
              <a:srgbClr val="fc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560680" y="1584360"/>
              <a:ext cx="360" cy="3398760"/>
              <a:chOff x="2560680" y="1584360"/>
              <a:chExt cx="360" cy="3398760"/>
            </a:xfrm>
          </p:grpSpPr>
          <p:sp>
            <p:nvSpPr>
              <p:cNvPr id="128" name=""/>
              <p:cNvSpPr/>
              <p:nvPr/>
            </p:nvSpPr>
            <p:spPr>
              <a:xfrm>
                <a:off x="2560680" y="1584360"/>
                <a:ext cx="360" cy="3398760"/>
              </a:xfrm>
              <a:prstGeom prst="rect">
                <a:avLst/>
              </a:prstGeom>
              <a:solidFill>
                <a:srgbClr val="fc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60680" y="1584360"/>
                <a:ext cx="360" cy="3398760"/>
              </a:xfrm>
              <a:prstGeom prst="rect">
                <a:avLst/>
              </a:prstGeom>
              <a:solidFill>
                <a:srgbClr val="fc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20700" spc="-1" strike="noStrike">
                    <a:solidFill>
                      <a:srgbClr val="ffffcc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ffffc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685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华文中宋"/>
              </a:rPr>
              <a:t>探究阅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" y="23623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58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676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解读葛朗台太太、祥林嫂、窦娥三个女性形象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中 国 古 典 戏 剧 概 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471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中国古典戏曲是中华民族文化的一个重要组成部分，她以富于艺术魅力的表演形式，为历代人民群众所喜闻乐见。而且在世界剧坛上也占有独特的位置，她与古希腊悲喜剧、印度梵剧并称为世界三大古剧。中国古典戏曲在其漫长的发展过程中，曾先后出现了宋元南戏、元代杂剧、明清传奇、清代花部等四种基本形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4572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元 代 杂 剧</a:t>
            </a:r>
            <a:r>
              <a:rPr b="1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13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4300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元杂剧是用北曲（北方的曲调）演唱的一种戏曲形式。金末元初产生于中国北方。是在金院本基础上以及诸宫调的影响下发展起来的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作为一种新型的完整的戏剧形式，元杂剧有其自身的特点和严格的体制，形成了歌唱、说白、舞蹈等有机结合的戏曲艺术形式，并且产生了韵文和散文结合的、结构完整的文学剧本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3808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元 代 杂 剧</a:t>
            </a:r>
            <a:r>
              <a:rPr b="1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113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在结构上，一本杂剧通常由四折组成。一折相当于现代剧的一幕或一场，是故事情节发展的一个较大的自然段落，四折一般分别是故事的开端、发展、高潮和结局。四折之外可以加一二个楔子。楔子一般放在第一折之前，介绍剧情，类似现代剧中的序幕；也有的放在两折之间，相当于后来的过场戏。但也有少数杂剧突破了一本四折的形式，如《西厢记》是五本二十一折的连本戏。每本杂剧的末尾有两句、四句或八句对语，用以概括全剧内容，叫做“题目正名”。如《窦娥冤》结尾的“题目”是“秉鉴持衡廉访法”，“正名”是“感天动地窦娥冤”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7144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元 代 杂 剧</a:t>
            </a:r>
            <a:r>
              <a:rPr b="1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113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在音乐上，杂剧的每折用同一宫调的若干曲牌组成套曲。宫调，即调式，相当于现代音乐的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调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调等。曲牌，是曲调的名称，每个曲牌都属于一定的宫调。剧本中每套曲子的第一支曲子前面都标明宫调。如《窦娥冤》第三折第一支曲子标示的【正宫】【端正好】，表示这一折自【端正好】以下各曲均属【正宫】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杂剧角色分为末、旦、净三大类。每类又可分为外末、副末、冲末、大末、小末；正旦、外旦、贴旦、老旦、花旦；副净、二净等。其中正末为男主角，正旦为女主角。净：俗称“大花脸”，大都扮演性格、相貌上有特异之处的人物。如张飞、李逵。此外，还有以剧中人职务身份为名的杂角，如驾（皇帝）、孤（官员）、卜儿（老年妇女）、孛老（老年男子）、洁郎（和尚）等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4994280" y="0"/>
            <a:ext cx="4149720" cy="570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0"/>
            <a:ext cx="4149720" cy="570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143000"/>
            <a:ext cx="8964720" cy="1557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介绍关汉卿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汉卿，号己斋叟，金末元初大都（现北京）人。元代杂剧的代表作家，也是我国戏剧史上最早也最伟大的戏剧作家。他与郑光祖、白朴、马致远齐名，被称为“元曲四大家”。元代的阶级矛盾和民族矛盾十分尖锐，关汉卿不满社会现实，不仅写作剧本，有时还登台演唱，借杂剧来揭露黑暗现实，寄托自己的社会理想。他一生创作杂剧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部，但大都散失，现仅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。《窦娥冤》《救风尘风望江亭》《单刀会》等流传很广。其中的《窦娥冤》是我国十大古典悲剧之一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他的名字被列入世界文化名人之列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“我是蒸不烂、煮不熟、炒不爆、响当当一粒铜豌豆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汉卿此语反映了他的个性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61928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9236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364000" y="5562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7238880" y="5562720"/>
            <a:ext cx="190512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0666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四、介绍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窦娥冤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6:07:24Z</dcterms:created>
  <dc:creator>szy</dc:creator>
  <dc:description/>
  <dc:language>en-US</dc:language>
  <cp:lastModifiedBy>Legend User</cp:lastModifiedBy>
  <dcterms:modified xsi:type="dcterms:W3CDTF">2005-02-22T07:25:54Z</dcterms:modified>
  <cp:revision>43</cp:revision>
  <dc:subject/>
  <dc:title>PowerPoint 演示文稿</dc:title>
</cp:coreProperties>
</file>