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95B-63D8-463A-97DE-F2B9BC6B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B02-48B1-429E-8E00-A4D0FD4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6BA-00D2-4069-8DF0-304A5E9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515-2F5E-4A2D-B0CA-46D237BE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052-4FC8-4C98-A33A-87DC2C8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D66-7060-4BB3-87F7-A4320D4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C61-49A0-404D-8610-F443D8F1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190-1B2A-4A02-AAEC-C2DE1F51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3EA-18E6-44E0-A580-C25CB20F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087-CA12-4DCD-9604-3603520B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21E-11FF-4BDC-B4D0-951C4E1C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C06-458B-4BED-9228-D3C4E23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ED59-9027-4876-BF48-9FF5E44A7B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8890-1EFB-4817-8632-968875D2B1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4572000" y="3429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6" descr="b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" descr="b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t3.png"/>
          <p:cNvPicPr/>
          <p:nvPr/>
        </p:nvPicPr>
        <p:blipFill>
          <a:blip r:embed="rId2"/>
          <a:stretch/>
        </p:blipFill>
        <p:spPr>
          <a:xfrm>
            <a:off x="6286680" y="428760"/>
            <a:ext cx="2581200" cy="74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7:33:00Z</dcterms:created>
  <dc:creator>for_yang@qq.com</dc:creator>
  <dc:description/>
  <cp:keywords/>
  <dc:language>en-US</dc:language>
  <cp:lastModifiedBy>Sky123.Org</cp:lastModifiedBy>
  <dcterms:modified xsi:type="dcterms:W3CDTF">2015-07-23T08:49:52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