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536-7B36-457F-9C09-3E32ECD1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21D-2B69-441C-99E7-2C02A2FE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BB5-BE4B-47F8-B56C-5C764574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56F-14A5-4927-AE4D-BE12E480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CB3-A3FE-4BF4-8CCC-A52B85F1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68C-EA1E-4FEF-9DD9-21769B0A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5959-7F1C-4BD0-B481-0EC8B653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278-A5AD-4705-83C6-231D07DA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A268-09C9-47A9-82CF-3622250B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F56-EC3F-4658-B657-58E58F42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A14-4688-4394-B71C-936DA403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F97-5FA8-4EC6-BB3A-9B4A09A1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463E-4CB4-4EC1-A683-4125D2B9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端午节教你如何包粽子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端午节教你如何包粽子-8"/>
          <p:cNvPicPr/>
          <p:nvPr/>
        </p:nvPicPr>
        <p:blipFill>
          <a:blip r:embed="rId1"/>
          <a:stretch/>
        </p:blipFill>
        <p:spPr>
          <a:xfrm>
            <a:off x="0" y="0"/>
            <a:ext cx="10001160" cy="70866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266720" y="4952880"/>
            <a:ext cx="48769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盖上，要抓紧，手不能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端午节教你如何包粽子-9"/>
          <p:cNvPicPr/>
          <p:nvPr/>
        </p:nvPicPr>
        <p:blipFill>
          <a:blip r:embed="rId1"/>
          <a:stretch/>
        </p:blipFill>
        <p:spPr>
          <a:xfrm>
            <a:off x="0" y="0"/>
            <a:ext cx="10001160" cy="708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960" y="56383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9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 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折口的叶子太小了，就可以象这样加一张小叶子，方便扎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端午节教你如何包粽子-10"/>
          <p:cNvPicPr/>
          <p:nvPr/>
        </p:nvPicPr>
        <p:blipFill>
          <a:blip r:embed="rId1"/>
          <a:stretch/>
        </p:blipFill>
        <p:spPr>
          <a:xfrm>
            <a:off x="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71840" y="4952520"/>
            <a:ext cx="29718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0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 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一样的抓紧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端午节教你如何包粽子-11"/>
          <p:cNvPicPr/>
          <p:nvPr/>
        </p:nvPicPr>
        <p:blipFill>
          <a:blip r:embed="rId1"/>
          <a:stretch/>
        </p:blipFill>
        <p:spPr>
          <a:xfrm>
            <a:off x="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828800" y="5456160"/>
            <a:ext cx="723888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1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 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拿根绳子，要够长，首尾相连，象这样放上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端午节教你如何包粽子-12"/>
          <p:cNvPicPr/>
          <p:nvPr/>
        </p:nvPicPr>
        <p:blipFill>
          <a:blip r:embed="rId1"/>
          <a:stretch/>
        </p:blipFill>
        <p:spPr>
          <a:xfrm>
            <a:off x="0" y="0"/>
            <a:ext cx="10001160" cy="70866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191120" y="5943240"/>
            <a:ext cx="266688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2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合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端午节教你如何包粽子-12"/>
          <p:cNvPicPr/>
          <p:nvPr/>
        </p:nvPicPr>
        <p:blipFill>
          <a:blip r:embed="rId1"/>
          <a:stretch/>
        </p:blipFill>
        <p:spPr>
          <a:xfrm>
            <a:off x="0" y="0"/>
            <a:ext cx="10001160" cy="7010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71840" y="586692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2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合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端午节教你如何包粽子-13"/>
          <p:cNvPicPr/>
          <p:nvPr/>
        </p:nvPicPr>
        <p:blipFill>
          <a:blip r:embed="rId1"/>
          <a:stretch/>
        </p:blipFill>
        <p:spPr>
          <a:xfrm>
            <a:off x="0" y="0"/>
            <a:ext cx="10001160" cy="701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560880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3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象这样，把绳子的尾巴的那两股扭一起，然后就可以开始绕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端午节教你如何包粽子-14"/>
          <p:cNvPicPr/>
          <p:nvPr/>
        </p:nvPicPr>
        <p:blipFill>
          <a:blip r:embed="rId1"/>
          <a:stretch/>
        </p:blipFill>
        <p:spPr>
          <a:xfrm>
            <a:off x="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29200" y="5562360"/>
            <a:ext cx="4114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4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最后抽绳首，拉紧。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端午节教你如何包粽子-15"/>
          <p:cNvPicPr/>
          <p:nvPr/>
        </p:nvPicPr>
        <p:blipFill>
          <a:blip r:embed="rId1"/>
          <a:stretch/>
        </p:blipFill>
        <p:spPr>
          <a:xfrm>
            <a:off x="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324120" y="5989680"/>
            <a:ext cx="266724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5 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好了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端午节教你如何包粽子-16"/>
          <p:cNvPicPr/>
          <p:nvPr/>
        </p:nvPicPr>
        <p:blipFill>
          <a:blip r:embed="rId1"/>
          <a:stretch/>
        </p:blipFill>
        <p:spPr>
          <a:xfrm>
            <a:off x="0" y="0"/>
            <a:ext cx="10001160" cy="7086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76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6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绿豆红豆用开水泡半个到一个钟头就好了。如果用没泡开的米包粽子，虽然要煮久一点，可是这样的粽子米更粘更糯。绳尾是这样扭一起，然后开始绕的。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端午节教你如何包粽子-1"/>
          <p:cNvPicPr/>
          <p:nvPr/>
        </p:nvPicPr>
        <p:blipFill>
          <a:blip r:embed="rId1"/>
          <a:stretch/>
        </p:blipFill>
        <p:spPr>
          <a:xfrm>
            <a:off x="-857160" y="0"/>
            <a:ext cx="10001160" cy="693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419360" y="198108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包了两种口味的，绿豆咸肉味和红豆红枣味，绿豆味的已经吃过了，非常好吃，历史最好的味道，连某人都连吃了几个。</a:t>
            </a:r>
            <a:br>
              <a:rPr sz="2400"/>
            </a:b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需要准备的工作是：</a:t>
            </a:r>
            <a:br>
              <a:rPr sz="2400"/>
            </a:b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　糯米洗净，滤水，不要滤干，水到米表面就行，泡着，不用泡太久，一般半个钟到一个钟就行了。绿豆红豆用开心泡一个半个钟，也不用泡太久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端午节教你如何包粽子-17"/>
          <p:cNvPicPr/>
          <p:nvPr/>
        </p:nvPicPr>
        <p:blipFill>
          <a:blip r:embed="rId1"/>
          <a:stretch/>
        </p:blipFill>
        <p:spPr>
          <a:xfrm>
            <a:off x="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7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绿豆红豆用开水泡半个到一个钟头就好了。如果用没泡开的米包粽子，虽然要煮久一点，可是这样的粽子米更粘更糯。绳尾是这样扭一起，然后开始绕的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端午节教你如何包粽子-17"/>
          <p:cNvPicPr/>
          <p:nvPr/>
        </p:nvPicPr>
        <p:blipFill>
          <a:blip r:embed="rId1"/>
          <a:stretch/>
        </p:blipFill>
        <p:spPr>
          <a:xfrm>
            <a:off x="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端午节教你如何包粽子-18"/>
          <p:cNvPicPr/>
          <p:nvPr/>
        </p:nvPicPr>
        <p:blipFill>
          <a:blip r:embed="rId1"/>
          <a:stretch/>
        </p:blipFill>
        <p:spPr>
          <a:xfrm>
            <a:off x="0" y="0"/>
            <a:ext cx="10001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端午节教你如何包粽子-18"/>
          <p:cNvPicPr/>
          <p:nvPr/>
        </p:nvPicPr>
        <p:blipFill>
          <a:blip r:embed="rId1"/>
          <a:stretch/>
        </p:blipFill>
        <p:spPr>
          <a:xfrm>
            <a:off x="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8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最后抽绳首，一定要拉紧。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端午节教你如何包粽子-19"/>
          <p:cNvPicPr/>
          <p:nvPr/>
        </p:nvPicPr>
        <p:blipFill>
          <a:blip r:embed="rId1"/>
          <a:stretch/>
        </p:blipFill>
        <p:spPr>
          <a:xfrm>
            <a:off x="0" y="0"/>
            <a:ext cx="9086760" cy="68151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19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好了，准备煮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没有高压锅，用砂锅煮的，小火煮饭三四个钟，中途要经常添水，所以也挺麻烦的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端午节教你如何包粽子-20"/>
          <p:cNvPicPr/>
          <p:nvPr/>
        </p:nvPicPr>
        <p:blipFill>
          <a:blip r:embed="rId1"/>
          <a:stretch/>
        </p:blipFill>
        <p:spPr>
          <a:xfrm>
            <a:off x="-857160" y="0"/>
            <a:ext cx="1000116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20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上面一个方法是对了，没抓紧，变形了。   </a:t>
            </a:r>
            <a:r>
              <a:rPr b="0" lang="zh-CN" sz="2400" spc="-1" strike="noStrike">
                <a:solidFill>
                  <a:srgbClr val="66ff33"/>
                </a:solidFill>
                <a:latin typeface="Arial"/>
              </a:rPr>
              <a:t> 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端午节教你如何包粽子-2"/>
          <p:cNvPicPr/>
          <p:nvPr/>
        </p:nvPicPr>
        <p:blipFill>
          <a:blip r:embed="rId1"/>
          <a:stretch/>
        </p:blipFill>
        <p:spPr>
          <a:xfrm>
            <a:off x="-324000" y="0"/>
            <a:ext cx="10001520" cy="7010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43440" y="4191120"/>
            <a:ext cx="1600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0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2 </a:t>
            </a:r>
            <a:br>
              <a:rPr sz="2000"/>
            </a:b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66ff33"/>
                </a:solidFill>
                <a:latin typeface="Arial"/>
              </a:rPr>
              <a:t>用五花肉切块，放盐和老抽腌渍一个晚上，味道很好。 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端午节教你如何包粽子-3"/>
          <p:cNvPicPr/>
          <p:nvPr/>
        </p:nvPicPr>
        <p:blipFill>
          <a:blip r:embed="rId1"/>
          <a:stretch/>
        </p:blipFill>
        <p:spPr>
          <a:xfrm>
            <a:off x="-304920" y="0"/>
            <a:ext cx="10001520" cy="687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-360" y="3352680"/>
            <a:ext cx="21337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3 </a:t>
            </a:r>
            <a:br>
              <a:rPr sz="2400"/>
            </a:b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绿豆和糯米混合，放了一点点碱，多了不行，不入也不行，我们家的口味。 </a:t>
            </a:r>
            <a:r>
              <a:rPr b="0" lang="zh-CN" sz="1600" spc="-1" strike="noStrike">
                <a:solidFill>
                  <a:srgbClr val="ff3300"/>
                </a:solidFill>
                <a:latin typeface="Arial"/>
              </a:rPr>
              <a:t> 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端午节教你如何包粽子-4"/>
          <p:cNvPicPr/>
          <p:nvPr/>
        </p:nvPicPr>
        <p:blipFill>
          <a:blip r:embed="rId1"/>
          <a:stretch/>
        </p:blipFill>
        <p:spPr>
          <a:xfrm>
            <a:off x="0" y="0"/>
            <a:ext cx="10001160" cy="7010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43400" y="45720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4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 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准备两张粽叶，正反放置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端午节教你如何包粽子-5"/>
          <p:cNvPicPr/>
          <p:nvPr/>
        </p:nvPicPr>
        <p:blipFill>
          <a:blip r:embed="rId1"/>
          <a:stretch/>
        </p:blipFill>
        <p:spPr>
          <a:xfrm>
            <a:off x="0" y="0"/>
            <a:ext cx="10001160" cy="70102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91320" y="563832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5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 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卷成一个斗状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端午节教你如何包粽子-6"/>
          <p:cNvPicPr/>
          <p:nvPr/>
        </p:nvPicPr>
        <p:blipFill>
          <a:blip r:embed="rId1"/>
          <a:stretch/>
        </p:blipFill>
        <p:spPr>
          <a:xfrm>
            <a:off x="0" y="0"/>
            <a:ext cx="10001160" cy="7010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409720" y="5715000"/>
            <a:ext cx="30481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6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 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继续放米。 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端午节教你如何包粽子-7"/>
          <p:cNvPicPr/>
          <p:nvPr/>
        </p:nvPicPr>
        <p:blipFill>
          <a:blip r:embed="rId1"/>
          <a:stretch/>
        </p:blipFill>
        <p:spPr>
          <a:xfrm>
            <a:off x="0" y="0"/>
            <a:ext cx="10001160" cy="7010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5960" y="571500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7 </a:t>
            </a:r>
            <a:br>
              <a:rPr sz="2400"/>
            </a:b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    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　放一块腌肉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端午节教你如何包粽子-8"/>
          <p:cNvPicPr/>
          <p:nvPr/>
        </p:nvPicPr>
        <p:blipFill>
          <a:blip r:embed="rId1"/>
          <a:stretch/>
        </p:blipFill>
        <p:spPr>
          <a:xfrm>
            <a:off x="0" y="0"/>
            <a:ext cx="10001160" cy="70866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495320" y="5303520"/>
            <a:ext cx="487692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NO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8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66ff33"/>
                </a:solidFill>
                <a:latin typeface="Arial"/>
              </a:rPr>
              <a:t>盖上，要抓紧，手不能松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8-12T01:58:00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