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F04-B245-465E-9C6F-C4712764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EFC-DE4E-41DE-89B5-D4A3E6C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EFA-9AFC-4699-BC04-82C00922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0ED-CB69-4E78-91D2-B7B95BE4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BE0-503D-4CBB-AB2C-B897BA29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4FA-B44C-4A07-B512-4A4785D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3A7-D20B-46E7-B824-797E655A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DCD-6D3B-467E-A4F6-8AC2801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62B-35EE-4C99-BFBB-0C11E0C5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7BD-C058-44BA-B7FF-27D0163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FF9-116F-4E14-A7A8-FA5E499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9E1-511C-45A5-8D49-263D7FE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B22-C80B-482B-8FFE-00D4E58B5A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zhidao.baidu.com/search?word=&#26446;&#38534;&#22522;&amp;fr=qb_search_exp&amp;ie=utf8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三（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685800"/>
            <a:ext cx="68580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端午节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057400" y="3203640"/>
            <a:ext cx="541008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想去哪儿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请大家四人小组一起聊一下端午节假期的计划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端午节的来历和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农历五月初五端午节，是我国最大的传统节日之一。端午亦称端五，“端”的意思和“初”相同，称“端五”也就如称“初五”；端五的“五”字又与“午”相通，按地支顺序推算，五月正是“午”月。又因午时为“阳辰”，所以端五也叫“端阳”。五月五日，月、日都是五，故称重五，也称重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523880" y="533520"/>
            <a:ext cx="632484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端午节的来历和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于端午节的来历，时至今日至少有四、五种说法，诸如：纪念屈原说；吴越民族图腾祭说；起于三代夏至节说；恶月恶日驱避说，等等。迄今为止，影响最广的端午起源的观点是纪念屈原说。在民俗文化领域，我国民众把端午节的龙舟竞渡和吃粽子都与屈原联系起来。传说屈原投江以后，当地人民伤其死，便驾舟奋力营救，因有竞渡风俗；又说人们常放食品到水中致祭屈原，但多为蛟龙所食，后因屈原的提示才用楝树叶包饭，外缠彩丝，做成后来的粽子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端午节的来历和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端午节的习俗主要有：吃粽子于门上插艾或菖蒲驱邪，系长命缕，饮雄黄酒或以之消毒，赛龙舟等等。粽子又叫“角黍”、“筒粽”，前者是由于形状有棱角、内裹粘米而得名，后者顾名思义大概是用竹筒盛米煮成。端午节吃粽子，在魏晋时代已经很盛行。这种食品是在每年端午和夏至两个节日里食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端午节的来历和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賽龙舟，是端午节的主要习俗。相传起源于古时楚国人因舍不得贤臣屈原投江死去，许多人划船追赶拯救。他们争先恐后，追至洞庭湖时不见踪迹。之后每年五月五日划龙舟以纪念之。借划龙舟驱散江中之鱼，以免鱼吃掉屈原的身体。竞渡之习，盛行于吴、越、楚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其实，“龙舟竞渡”早在战国时代就有了。在急鼓声中划刻成龙形的独木舟，做竞渡游戏，以娱神与乐人，是祭仪中半宗教性、半娱乐性的节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端午节的来历和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佩香囊带五彩绳的习俗！ 端午节人们佩香囊和戴五彩绳，传说有避邪驱瘟之意，实际是用于襟头点缀装饰。香囊内有朱砂、雄黄、香药，外包以丝布，清香四溢，再以五色丝线弦扣成索，作各种不同形状，结成一串，形形色色，玲珑可爱。五彩绳则是用各种色彩的绳子编成手链！ 佩香囊带五彩绳的习俗！ 端午节人们佩香囊和戴五彩绳，传说有避邪驱瘟之意，实际是用于襟头点缀装饰。香囊内有朱砂、雄黄、香药，外包以丝布，清香四溢，再以五色丝线弦扣成索，作各种不同形状，结成一串，形形色色，玲珑可爱。五彩绳则是用各种色彩的绳子编成手链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828800"/>
            <a:ext cx="8305560" cy="30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会找关于端午节的诗句吗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我会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端午临中夏，时清人复长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唐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李隆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端午武成殿宴群官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时花竞巧，九子粽争新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唐 李隆基《端午三殿宴群臣探得神字》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衣亦有名，端午被恩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细葛含风软，香罗叠雪轻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唐 杜甫《端午日赐衣》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600200" y="3203640"/>
            <a:ext cx="59436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端午节的假期你想怎样度过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6-07T12:51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