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37C-C165-495A-AEE3-0BC5B0A3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D74-DA43-4517-9FDE-8CC2416C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2EC-9C24-40D0-B380-27634B5C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C8B-7BCD-43F1-A515-A9D9003C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8C7C-6505-48CB-9792-71906840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B011-7EE4-4C6C-9276-D1235963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4895-86B2-41A5-A651-BCA0938E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6507-3102-4B24-B44C-9168B760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C88C-A8CC-4FEF-8555-7C6C288C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BFC9-08D8-473C-9371-35299E54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B400-A592-43E2-A52F-A6C2B48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BDD-77CE-45EF-BE58-5D485BF1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B6E5-F4B5-4BF5-9382-3709A233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0BCF-769C-451F-AA17-D2EF6421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4B42-7E65-4D71-A110-D8CBD83E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58E6-22A4-4B50-A02A-13459B2D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2FD2-0377-462A-A3D3-3840ACFB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90B-B5CC-492D-A986-9EE86A3D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3B7-FCD8-46F5-8478-1323EAAF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637-E1A9-4B8D-88BF-2CCAD16F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83A-9AEF-4E03-8DE6-213EDCFC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06E-A096-4551-8F84-B7728042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361-D019-4AD5-A22B-F6B027B7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B46-D027-4006-9F32-76FDE539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29F1-AA63-4F15-A6C2-1EFD5AA016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5A92-FEC9-486B-BCF7-B29AFFCB8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b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4014720" y="174600"/>
            <a:ext cx="4338720" cy="597852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5"/>
          <p:cNvSpPr/>
          <p:nvPr/>
        </p:nvSpPr>
        <p:spPr>
          <a:xfrm rot="20940000">
            <a:off x="3893040" y="1002960"/>
            <a:ext cx="3913200" cy="3020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够范儿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你就来</a:t>
            </a:r>
            <a:r>
              <a:rPr b="1" i="1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6"/>
          <p:cNvSpPr/>
          <p:nvPr/>
        </p:nvSpPr>
        <p:spPr>
          <a:xfrm rot="20880000">
            <a:off x="5407200" y="3727440"/>
            <a:ext cx="35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首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设计大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52428" t="23605" r="16667" b="32405"/>
          <a:stretch/>
        </p:blipFill>
        <p:spPr>
          <a:xfrm>
            <a:off x="9016920" y="2249640"/>
            <a:ext cx="238752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6560" y="2236680"/>
            <a:ext cx="2714760" cy="2365560"/>
          </a:xfrm>
          <a:prstGeom prst="rect">
            <a:avLst/>
          </a:prstGeom>
          <a:ln w="0">
            <a:noFill/>
          </a:ln>
        </p:spPr>
      </p:pic>
      <p:pic>
        <p:nvPicPr>
          <p:cNvPr id="87" name="E:\临时文件\WPS主题PPT大赛 宣传策划\图\2.png2" descr=""/>
          <p:cNvPicPr/>
          <p:nvPr/>
        </p:nvPicPr>
        <p:blipFill>
          <a:blip r:embed="rId4"/>
          <a:stretch/>
        </p:blipFill>
        <p:spPr>
          <a:xfrm>
            <a:off x="10576080" y="6378480"/>
            <a:ext cx="1295280" cy="320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0499760" y="5962680"/>
            <a:ext cx="1585800" cy="341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3880" y="601992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主办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9721800" y="635652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协办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 rot="20820000">
            <a:off x="5492880" y="5240160"/>
            <a:ext cx="22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wps.cn/zt/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000" y="639900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写作品信息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此页非设计页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813280"/>
            <a:ext cx="3672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作品名称：爱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作者姓名：蔡洁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"/>
                            </p:stCondLst>
                            <p:childTnLst>
                              <p:par>
                                <p:cTn id="12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900"/>
                            </p:stCondLst>
                            <p:childTnLst>
                              <p:par>
                                <p:cTn id="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2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78 0.010361 L 0.009787 0.045146 L -0.013744 0.045146 L -0.001978 0.010361 Z">
                                      <p:cBhvr>
                                        <p:cTn id="19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776680" y="2567160"/>
            <a:ext cx="127944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什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是</a:t>
            </a:r>
            <a:r>
              <a:rPr b="0" lang="zh-CN" sz="24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WP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4957920" y="3911760"/>
            <a:ext cx="17096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W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的成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7051680" y="2835360"/>
            <a:ext cx="923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WPS</a:t>
            </a:r>
            <a:r>
              <a:rPr b="0" lang="zh-CN" sz="24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近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9018720" y="3962520"/>
            <a:ext cx="14014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我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WPS</a:t>
            </a:r>
            <a:r>
              <a:rPr b="0" lang="zh-CN" sz="24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化学反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40120" y="2568600"/>
            <a:ext cx="1027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什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是</a:t>
            </a:r>
            <a:r>
              <a:rPr b="0" lang="zh-CN" sz="24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WP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86320" y="1351080"/>
            <a:ext cx="3319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WPS Office</a:t>
            </a: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是一款开放、高效、安全，与微软</a:t>
            </a: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Offi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深度兼容并极具中文本地化优势的办公软件。</a:t>
            </a: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WP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Office</a:t>
            </a: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个人版包含三大组件：文字（</a:t>
            </a: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Word</a:t>
            </a: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）、演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（</a:t>
            </a: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Presentation</a:t>
            </a: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）、表格（</a:t>
            </a: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Spreadsheet</a:t>
            </a: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），从功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上与</a:t>
            </a: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Microsoft Office</a:t>
            </a: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的</a:t>
            </a: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Word</a:t>
            </a: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、</a:t>
            </a: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PowerPoint</a:t>
            </a: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、</a:t>
            </a: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Exc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一一对应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40M</a:t>
            </a: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轻巧体积，</a:t>
            </a: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1</a:t>
            </a: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分钟下载安装，</a:t>
            </a: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Windows\Linux\Ma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多平台支持，全面兼容</a:t>
            </a: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Microsoft Office</a:t>
            </a: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文档格式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并提供营养丰富的海量文档资源。</a:t>
            </a: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WPS</a:t>
            </a: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为您带来轻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愉悦的办公体验，每天已有</a:t>
            </a:r>
            <a:r>
              <a:rPr b="0" lang="en-US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850</a:t>
            </a: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万人在使用它，你还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不快试试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79360" y="1363680"/>
            <a:ext cx="1050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是</a:t>
            </a:r>
            <a:r>
              <a:rPr b="0" lang="zh-CN" sz="18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WP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400880" y="2341440"/>
            <a:ext cx="3175200" cy="2976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1800" y="2706840"/>
            <a:ext cx="12034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69696"/>
                </a:solidFill>
                <a:latin typeface="长城小姚体"/>
                <a:ea typeface="长城小姚体"/>
              </a:rPr>
              <a:t>WP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69696"/>
                </a:solidFill>
                <a:latin typeface="长城小姚体"/>
                <a:ea typeface="长城小姚体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69696"/>
                </a:solidFill>
                <a:latin typeface="长城小姚体"/>
                <a:ea typeface="长城小姚体"/>
              </a:rPr>
              <a:t>的成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369720" y="4140360"/>
            <a:ext cx="7574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69696"/>
                </a:solidFill>
                <a:latin typeface="长城小姚体"/>
                <a:ea typeface="长城小姚体"/>
              </a:rPr>
              <a:t>W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69696"/>
                </a:solidFill>
                <a:latin typeface="长城小姚体"/>
                <a:ea typeface="长城小姚体"/>
              </a:rPr>
              <a:t>的近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344520" y="5005440"/>
            <a:ext cx="1074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69696"/>
                </a:solidFill>
                <a:latin typeface="长城小姚体"/>
                <a:ea typeface="长城小姚体"/>
              </a:rPr>
              <a:t>我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69696"/>
                </a:solidFill>
                <a:latin typeface="长城小姚体"/>
                <a:ea typeface="长城小姚体"/>
              </a:rPr>
              <a:t>WPS</a:t>
            </a:r>
            <a:r>
              <a:rPr b="0" lang="zh-CN" sz="1800" spc="-1" strike="noStrike">
                <a:solidFill>
                  <a:srgbClr val="969696"/>
                </a:solidFill>
                <a:latin typeface="长城小姚体"/>
                <a:ea typeface="长城小姚体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69696"/>
                </a:solidFill>
                <a:latin typeface="长城小姚体"/>
                <a:ea typeface="长城小姚体"/>
              </a:rPr>
              <a:t>化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69696"/>
                </a:solidFill>
                <a:latin typeface="长城小姚体"/>
                <a:ea typeface="长城小姚体"/>
              </a:rPr>
              <a:t>反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b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 rot="21480000">
            <a:off x="10455120" y="4708440"/>
            <a:ext cx="1500480" cy="217800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5"/>
          <p:cNvSpPr/>
          <p:nvPr/>
        </p:nvSpPr>
        <p:spPr>
          <a:xfrm rot="20940000">
            <a:off x="10362240" y="5162040"/>
            <a:ext cx="160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够范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你就来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6"/>
          <p:cNvSpPr/>
          <p:nvPr/>
        </p:nvSpPr>
        <p:spPr>
          <a:xfrm rot="20940000">
            <a:off x="10683000" y="6134040"/>
            <a:ext cx="15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首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设计大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09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页阐述作品设计理念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此页非设计模板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108950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长城小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设计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ffffff"/>
              </a:buClr>
              <a:buFont typeface="长城小姚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设计理念：从“爱上</a:t>
            </a: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WPS”</a:t>
            </a: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出发，将</a:t>
            </a: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当成工作中的伴侣，将</a:t>
            </a: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拟人化。整个</a:t>
            </a: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像是在讲我与</a:t>
            </a: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的爱情故事。爱情是一种化学反应，由此以“化学反应”为出发点，用色彩绚丽的烟雾作为</a:t>
            </a: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的版式基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长城小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图片来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长城小姚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色彩斑斓的图来源：</a:t>
            </a: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http://shijue.me/show_idea/4f1173e64b7959116b00014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长城小姚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底图来源：</a:t>
            </a:r>
            <a:r>
              <a:rPr b="0" lang="zh-CN" sz="1600" spc="-1" strike="noStrike">
                <a:solidFill>
                  <a:srgbClr val="ffffff"/>
                </a:solidFill>
                <a:latin typeface="长城小姚体"/>
                <a:ea typeface="长城小姚体"/>
              </a:rPr>
              <a:t>http://xiaba.shijue.me/stuff/4d38fec24b7959521a19000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"/>
                            </p:stCondLst>
                            <p:childTnLst>
                              <p:par>
                                <p:cTn id="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83073 0.16213 E">
                                      <p:cBhvr>
                                        <p:cTn id="29" dur="2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78 0.010361 L 0.009787 0.045146 L -0.013744 0.045146 L -0.001978 0.010361 Z">
                                      <p:cBhvr>
                                        <p:cTn id="40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zuazua W</cp:lastModifiedBy>
  <dcterms:modified xsi:type="dcterms:W3CDTF">2015-08-15T01:22:5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