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71A-BC16-4E0E-80E4-41B13DA4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1A7-D30E-4C8C-B4C7-13B21F77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FDD-1594-4B61-9434-BF6EE71D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3B1-C366-4C69-9108-48DBB540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C79-C696-4FE0-8593-37698CC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4A4-CDFB-4FEA-9DAE-1CF48141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173-842D-4917-8FF0-1AE44BD6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3D-335D-4D2D-8899-0A75585B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97F-6157-4C0C-99C0-B1590282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C3B-4C36-4DBB-AB35-AD8A77E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C39-EE14-43DC-9AC1-92BE651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692-49FC-4CC5-8A7A-52F84BC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A94-5DD8-4534-A44E-3EF1EBD295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15717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24066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23T07:14:39Z</dcterms:modified>
  <cp:revision>77</cp:revision>
  <dc:subject/>
  <dc:title>幻灯片 1</dc:title>
</cp:coreProperties>
</file>