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807-0079-4F48-918A-1C771907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6400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79640" y="4658760"/>
            <a:ext cx="6400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9FA-B9E1-4AA9-86DF-E2174C4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7964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960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870-E9A2-4FDA-BADD-1C4D3E5E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3600" y="422064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7920" y="422064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79640" y="465876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3600" y="465876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7920" y="465876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6D7-B324-49DA-ABA7-A503E408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79640" y="4220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84360" y="1989000"/>
            <a:ext cx="417348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7964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79640" y="4220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67B-9FA9-477F-B4A4-A782A34C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5960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79640" y="4658760"/>
            <a:ext cx="6400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6400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79640" y="4658760"/>
            <a:ext cx="6400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7964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960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43600" y="422064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7920" y="422064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79640" y="465876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43600" y="465876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7920" y="4658760"/>
            <a:ext cx="20606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1EC-002C-40EC-8835-90C64D3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02D-97E7-4F2B-8ABC-26C1C9FB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080-2D46-4707-B03E-B15E74D9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360" y="1989000"/>
            <a:ext cx="417348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28E-632C-43E8-94C5-9E2AB41A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7964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9A2-4ED7-481D-A57D-809E5B6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9600" y="465876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9CC-F6C9-4F01-A666-399AF11A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7964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9600" y="4220640"/>
            <a:ext cx="31233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79640" y="4658760"/>
            <a:ext cx="6400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2E7-DAAD-4B19-961A-201C141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0EC-6A13-4B14-9A5B-7CEE64A3E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07920"/>
            <a:ext cx="9144000" cy="77760"/>
          </a:xfrm>
          <a:prstGeom prst="rect">
            <a:avLst/>
          </a:prstGeom>
          <a:solidFill>
            <a:srgbClr val="00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92280"/>
            <a:ext cx="9144000" cy="215640"/>
          </a:xfrm>
          <a:prstGeom prst="rect">
            <a:avLst/>
          </a:prstGeom>
          <a:solidFill>
            <a:srgbClr val="00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411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4173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5300280"/>
            <a:ext cx="9144000" cy="217440"/>
          </a:xfrm>
          <a:prstGeom prst="rect">
            <a:avLst/>
          </a:prstGeom>
          <a:solidFill>
            <a:srgbClr val="00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0" y="5516280"/>
            <a:ext cx="9144000" cy="536400"/>
          </a:xfrm>
          <a:prstGeom prst="rect">
            <a:avLst/>
          </a:prstGeom>
          <a:solidFill>
            <a:srgbClr val="00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0" y="6021360"/>
            <a:ext cx="9144000" cy="836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1.png"/><Relationship Id="rId5" Type="http://schemas.openxmlformats.org/officeDocument/2006/relationships/image" Target="../media/image13.jpe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7280" y="1628640"/>
            <a:ext cx="48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ungsuh"/>
              <a:ea typeface="Gungsuh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288120" y="4807080"/>
            <a:ext cx="28558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8064360" y="5229360"/>
            <a:ext cx="576000" cy="1223640"/>
            <a:chOff x="8064360" y="5229360"/>
            <a:chExt cx="576000" cy="1223640"/>
          </a:xfrm>
        </p:grpSpPr>
        <p:sp>
          <p:nvSpPr>
            <p:cNvPr id="89" name=""/>
            <p:cNvSpPr/>
            <p:nvPr/>
          </p:nvSpPr>
          <p:spPr>
            <a:xfrm>
              <a:off x="8064360" y="579456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4360" y="595872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4360" y="612468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4360" y="628884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4360" y="645300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4360" y="522936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4360" y="539496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4360" y="5559120"/>
              <a:ext cx="57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840360" y="5697360"/>
            <a:ext cx="539640" cy="755640"/>
            <a:chOff x="6840360" y="5697360"/>
            <a:chExt cx="539640" cy="755640"/>
          </a:xfrm>
        </p:grpSpPr>
        <p:sp>
          <p:nvSpPr>
            <p:cNvPr id="98" name=""/>
            <p:cNvSpPr/>
            <p:nvPr/>
          </p:nvSpPr>
          <p:spPr>
            <a:xfrm>
              <a:off x="6840360" y="5697360"/>
              <a:ext cx="53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40360" y="5885640"/>
              <a:ext cx="53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40360" y="6076080"/>
              <a:ext cx="53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0360" y="6264720"/>
              <a:ext cx="53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40360" y="6453000"/>
              <a:ext cx="53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2311920" y="4656600"/>
            <a:ext cx="367560" cy="215640"/>
            <a:chOff x="2311920" y="4656600"/>
            <a:chExt cx="367560" cy="215640"/>
          </a:xfrm>
        </p:grpSpPr>
        <p:sp>
          <p:nvSpPr>
            <p:cNvPr id="228" name=""/>
            <p:cNvSpPr/>
            <p:nvPr/>
          </p:nvSpPr>
          <p:spPr>
            <a:xfrm>
              <a:off x="2311920" y="4687200"/>
              <a:ext cx="237960" cy="9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785400">
              <a:off x="2480400" y="4674600"/>
              <a:ext cx="181080" cy="179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87280" y="2349360"/>
            <a:ext cx="2700360" cy="2592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551920" y="4693320"/>
            <a:ext cx="367560" cy="215640"/>
            <a:chOff x="5551920" y="4693320"/>
            <a:chExt cx="367560" cy="215640"/>
          </a:xfrm>
        </p:grpSpPr>
        <p:sp>
          <p:nvSpPr>
            <p:cNvPr id="232" name=""/>
            <p:cNvSpPr/>
            <p:nvPr/>
          </p:nvSpPr>
          <p:spPr>
            <a:xfrm>
              <a:off x="5551920" y="4723920"/>
              <a:ext cx="237960" cy="9108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785400">
              <a:off x="5720400" y="4711320"/>
              <a:ext cx="181080" cy="179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382920" y="2314440"/>
            <a:ext cx="2592360" cy="2519640"/>
          </a:xfrm>
          <a:prstGeom prst="octagon">
            <a:avLst>
              <a:gd name="adj" fmla="val 16889"/>
            </a:avLst>
          </a:prstGeom>
          <a:solidFill>
            <a:srgbClr val="ffffff"/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965000" y="4618440"/>
            <a:ext cx="367560" cy="215640"/>
            <a:chOff x="7965000" y="4618440"/>
            <a:chExt cx="367560" cy="215640"/>
          </a:xfrm>
        </p:grpSpPr>
        <p:sp>
          <p:nvSpPr>
            <p:cNvPr id="236" name=""/>
            <p:cNvSpPr/>
            <p:nvPr/>
          </p:nvSpPr>
          <p:spPr>
            <a:xfrm>
              <a:off x="7965000" y="4649040"/>
              <a:ext cx="237960" cy="9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785400">
              <a:off x="8133480" y="4636440"/>
              <a:ext cx="181080" cy="179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372360" y="2422440"/>
            <a:ext cx="2340000" cy="2376720"/>
          </a:xfrm>
          <a:prstGeom prst="flowChartDelay">
            <a:avLst/>
          </a:prstGeom>
          <a:solidFill>
            <a:srgbClr val="ffff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3280" y="1268280"/>
            <a:ext cx="4465440" cy="540000"/>
          </a:xfrm>
          <a:prstGeom prst="roundRect">
            <a:avLst>
              <a:gd name="adj" fmla="val 46690"/>
            </a:avLst>
          </a:prstGeom>
          <a:noFill/>
          <a:ln w="284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24720" y="5238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34920" y="1089000"/>
            <a:ext cx="7524720" cy="5219640"/>
            <a:chOff x="934920" y="1089000"/>
            <a:chExt cx="7524720" cy="5219640"/>
          </a:xfrm>
        </p:grpSpPr>
        <p:sp>
          <p:nvSpPr>
            <p:cNvPr id="242" name=""/>
            <p:cNvSpPr/>
            <p:nvPr/>
          </p:nvSpPr>
          <p:spPr>
            <a:xfrm>
              <a:off x="934920" y="2781360"/>
              <a:ext cx="4789440" cy="338292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867280" y="1089000"/>
              <a:ext cx="1944720" cy="1906560"/>
              <a:chOff x="5867280" y="1089000"/>
              <a:chExt cx="1944720" cy="1906560"/>
            </a:xfrm>
          </p:grpSpPr>
          <p:pic>
            <p:nvPicPr>
              <p:cNvPr id="2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10080" y="1379520"/>
                <a:ext cx="1106640" cy="130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867280" y="1089000"/>
                <a:ext cx="1944720" cy="1906560"/>
              </a:xfrm>
              <a:prstGeom prst="ellipse">
                <a:avLst/>
              </a:prstGeom>
              <a:noFill/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368360" y="1162080"/>
              <a:ext cx="1836720" cy="1836720"/>
              <a:chOff x="1368360" y="1162080"/>
              <a:chExt cx="1836720" cy="1836720"/>
            </a:xfrm>
          </p:grpSpPr>
          <p:pic>
            <p:nvPicPr>
              <p:cNvPr id="247" name="" descr=""/>
              <p:cNvPicPr/>
              <p:nvPr/>
            </p:nvPicPr>
            <p:blipFill>
              <a:blip r:embed="rId2">
                <a:lum bright="24000"/>
              </a:blip>
              <a:stretch/>
            </p:blipFill>
            <p:spPr>
              <a:xfrm>
                <a:off x="1707120" y="1360080"/>
                <a:ext cx="1177560" cy="13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1368360" y="1162080"/>
                <a:ext cx="1836720" cy="1836720"/>
              </a:xfrm>
              <a:prstGeom prst="ellipse">
                <a:avLst/>
              </a:prstGeom>
              <a:noFill/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313080" y="1917720"/>
              <a:ext cx="2519280" cy="323640"/>
              <a:chOff x="3313080" y="1917720"/>
              <a:chExt cx="2519280" cy="323640"/>
            </a:xfrm>
          </p:grpSpPr>
          <p:sp>
            <p:nvSpPr>
              <p:cNvPr id="250" name=""/>
              <p:cNvSpPr/>
              <p:nvPr/>
            </p:nvSpPr>
            <p:spPr>
              <a:xfrm>
                <a:off x="3313080" y="1917720"/>
                <a:ext cx="574560" cy="323640"/>
              </a:xfrm>
              <a:prstGeom prst="rightArrow">
                <a:avLst>
                  <a:gd name="adj1" fmla="val 49769"/>
                  <a:gd name="adj2" fmla="val 86801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62520" y="1917720"/>
                <a:ext cx="574560" cy="323640"/>
              </a:xfrm>
              <a:prstGeom prst="rightArrow">
                <a:avLst>
                  <a:gd name="adj1" fmla="val 49769"/>
                  <a:gd name="adj2" fmla="val 86801"/>
                </a:avLst>
              </a:prstGeom>
              <a:solidFill>
                <a:srgbClr val="00cc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08360" y="1917720"/>
                <a:ext cx="574920" cy="323640"/>
              </a:xfrm>
              <a:prstGeom prst="rightArrow">
                <a:avLst>
                  <a:gd name="adj1" fmla="val 49769"/>
                  <a:gd name="adj2" fmla="val 86855"/>
                </a:avLst>
              </a:prstGeom>
              <a:solidFill>
                <a:srgbClr val="00cc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57800" y="1917720"/>
                <a:ext cx="574560" cy="323640"/>
              </a:xfrm>
              <a:prstGeom prst="rightArrow">
                <a:avLst>
                  <a:gd name="adj1" fmla="val 49769"/>
                  <a:gd name="adj2" fmla="val 86801"/>
                </a:avLst>
              </a:prstGeom>
              <a:solidFill>
                <a:srgbClr val="00cc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5580000" y="2925720"/>
              <a:ext cx="2879640" cy="3382920"/>
            </a:xfrm>
            <a:prstGeom prst="rect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079640" y="3213000"/>
            <a:ext cx="43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32360" y="2997360"/>
            <a:ext cx="251964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384720" y="2781360"/>
            <a:ext cx="2168280" cy="1689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4000" y="130500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723560" y="130500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0095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4000" y="363780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solidFill>
            <a:srgbClr val="ffffff"/>
          </a:solidFill>
          <a:ln w="22320">
            <a:solidFill>
              <a:srgbClr val="65e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4723560" y="363780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solidFill>
            <a:srgbClr val="ffffff"/>
          </a:solidFill>
          <a:ln w="22320">
            <a:solidFill>
              <a:srgbClr val="0095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5040360" cy="34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067280" y="328680"/>
            <a:ext cx="5076720" cy="4468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280" y="2168280"/>
            <a:ext cx="48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ungsuh"/>
                <a:ea typeface="Gungsuh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555640" y="1376280"/>
            <a:ext cx="3600360" cy="3529080"/>
            <a:chOff x="2555640" y="1376280"/>
            <a:chExt cx="3600360" cy="35290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 flipH="1">
              <a:off x="2557800" y="1376280"/>
              <a:ext cx="58212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 flipH="1">
              <a:off x="2557800" y="2314440"/>
              <a:ext cx="58212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 flipH="1">
              <a:off x="2557800" y="3286080"/>
              <a:ext cx="58212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>
              <a:off x="2555640" y="202248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2960640"/>
              <a:ext cx="36003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55640" y="393228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555640" y="4905360"/>
              <a:ext cx="3600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 flipH="1">
              <a:off x="2557800" y="4259160"/>
              <a:ext cx="582120" cy="6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3780000" y="4494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rcRect l="55007" t="6812" r="0" b="6864"/>
          <a:stretch/>
        </p:blipFill>
        <p:spPr>
          <a:xfrm>
            <a:off x="7364520" y="4400640"/>
            <a:ext cx="17445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39640" y="1268280"/>
            <a:ext cx="8136000" cy="4968720"/>
            <a:chOff x="539640" y="1268280"/>
            <a:chExt cx="8136000" cy="4968720"/>
          </a:xfrm>
        </p:grpSpPr>
        <p:grpSp>
          <p:nvGrpSpPr>
            <p:cNvPr id="115" name=""/>
            <p:cNvGrpSpPr/>
            <p:nvPr/>
          </p:nvGrpSpPr>
          <p:grpSpPr>
            <a:xfrm>
              <a:off x="755640" y="1649160"/>
              <a:ext cx="7704000" cy="4587840"/>
              <a:chOff x="755640" y="1649160"/>
              <a:chExt cx="7704000" cy="458784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2360" y="3593880"/>
                <a:ext cx="3392640" cy="26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755640" y="1649160"/>
                <a:ext cx="7704000" cy="4392720"/>
              </a:xfrm>
              <a:prstGeom prst="roundRect">
                <a:avLst>
                  <a:gd name="adj" fmla="val 8060"/>
                </a:avLst>
              </a:prstGeom>
              <a:noFill/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39640" y="1463400"/>
              <a:ext cx="8136000" cy="4773600"/>
            </a:xfrm>
            <a:prstGeom prst="roundRect">
              <a:avLst>
                <a:gd name="adj" fmla="val 9144"/>
              </a:avLst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31640" y="1268280"/>
              <a:ext cx="230364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03280" y="1341360"/>
            <a:ext cx="576360" cy="360360"/>
            <a:chOff x="1403280" y="1341360"/>
            <a:chExt cx="576360" cy="360360"/>
          </a:xfrm>
        </p:grpSpPr>
        <p:grpSp>
          <p:nvGrpSpPr>
            <p:cNvPr id="121" name=""/>
            <p:cNvGrpSpPr/>
            <p:nvPr/>
          </p:nvGrpSpPr>
          <p:grpSpPr>
            <a:xfrm>
              <a:off x="1403280" y="1341360"/>
              <a:ext cx="289080" cy="360360"/>
              <a:chOff x="1403280" y="1341360"/>
              <a:chExt cx="289080" cy="36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1403280" y="1341360"/>
                <a:ext cx="289080" cy="36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47640" y="148572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690560" y="1341360"/>
              <a:ext cx="289080" cy="360360"/>
              <a:chOff x="1690560" y="1341360"/>
              <a:chExt cx="289080" cy="36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1690560" y="1341360"/>
                <a:ext cx="289080" cy="36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34920" y="148572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1042920" y="1916280"/>
            <a:ext cx="7058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95280" y="981000"/>
            <a:ext cx="7920000" cy="2376360"/>
            <a:chOff x="395280" y="981000"/>
            <a:chExt cx="7920000" cy="2376360"/>
          </a:xfrm>
        </p:grpSpPr>
        <p:sp>
          <p:nvSpPr>
            <p:cNvPr id="129" name=""/>
            <p:cNvSpPr/>
            <p:nvPr/>
          </p:nvSpPr>
          <p:spPr>
            <a:xfrm>
              <a:off x="1332000" y="1701720"/>
              <a:ext cx="698328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42920" y="1557360"/>
              <a:ext cx="115272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2087640" cy="17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2268360" y="2103480"/>
            <a:ext cx="590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3429000"/>
            <a:ext cx="7920000" cy="2376360"/>
            <a:chOff x="395280" y="3429000"/>
            <a:chExt cx="7920000" cy="2376360"/>
          </a:xfrm>
        </p:grpSpPr>
        <p:sp>
          <p:nvSpPr>
            <p:cNvPr id="134" name=""/>
            <p:cNvSpPr/>
            <p:nvPr/>
          </p:nvSpPr>
          <p:spPr>
            <a:xfrm>
              <a:off x="1332000" y="4149720"/>
              <a:ext cx="698328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00cc">
                    <a:alpha val="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2920" y="4005360"/>
              <a:ext cx="115272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395280" y="3429000"/>
              <a:ext cx="2087640" cy="177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042920" y="4761000"/>
            <a:ext cx="7201080" cy="1332000"/>
            <a:chOff x="1042920" y="4761000"/>
            <a:chExt cx="7201080" cy="1332000"/>
          </a:xfrm>
        </p:grpSpPr>
        <p:sp>
          <p:nvSpPr>
            <p:cNvPr id="138" name=""/>
            <p:cNvSpPr/>
            <p:nvPr/>
          </p:nvSpPr>
          <p:spPr>
            <a:xfrm>
              <a:off x="1042920" y="4761000"/>
              <a:ext cx="7201080" cy="1332000"/>
            </a:xfrm>
            <a:prstGeom prst="roundRect">
              <a:avLst>
                <a:gd name="adj" fmla="val 17824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4820760"/>
              <a:ext cx="7056360" cy="12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42920" y="3032280"/>
            <a:ext cx="7201080" cy="1331640"/>
            <a:chOff x="1042920" y="3032280"/>
            <a:chExt cx="7201080" cy="1331640"/>
          </a:xfrm>
        </p:grpSpPr>
        <p:sp>
          <p:nvSpPr>
            <p:cNvPr id="141" name=""/>
            <p:cNvSpPr/>
            <p:nvPr/>
          </p:nvSpPr>
          <p:spPr>
            <a:xfrm>
              <a:off x="1042920" y="3032280"/>
              <a:ext cx="7201080" cy="1331640"/>
            </a:xfrm>
            <a:prstGeom prst="roundRect">
              <a:avLst>
                <a:gd name="adj" fmla="val 17824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6000" y="3092040"/>
              <a:ext cx="7056360" cy="1212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476360" y="2852640"/>
            <a:ext cx="718920" cy="432000"/>
            <a:chOff x="1476360" y="2852640"/>
            <a:chExt cx="718920" cy="432000"/>
          </a:xfrm>
        </p:grpSpPr>
        <p:sp>
          <p:nvSpPr>
            <p:cNvPr id="144" name=""/>
            <p:cNvSpPr/>
            <p:nvPr/>
          </p:nvSpPr>
          <p:spPr>
            <a:xfrm>
              <a:off x="1476360" y="2852640"/>
              <a:ext cx="360720" cy="43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34560" y="2852640"/>
              <a:ext cx="360720" cy="43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66000" y="3014280"/>
              <a:ext cx="149040" cy="134280"/>
            </a:xfrm>
            <a:custGeom>
              <a:avLst/>
              <a:gdLst>
                <a:gd name="textAreaLeft" fmla="*/ 34920 w 149040"/>
                <a:gd name="textAreaRight" fmla="*/ 114120 w 149040"/>
                <a:gd name="textAreaTop" fmla="*/ 15480 h 134280"/>
                <a:gd name="textAreaBottom" fmla="*/ 84240 h 134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6240" y="3014280"/>
              <a:ext cx="149040" cy="134280"/>
            </a:xfrm>
            <a:custGeom>
              <a:avLst/>
              <a:gdLst>
                <a:gd name="textAreaLeft" fmla="*/ 34920 w 149040"/>
                <a:gd name="textAreaRight" fmla="*/ 114120 w 149040"/>
                <a:gd name="textAreaTop" fmla="*/ 15480 h 134280"/>
                <a:gd name="textAreaBottom" fmla="*/ 84240 h 134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11280" y="4545000"/>
            <a:ext cx="720720" cy="431640"/>
            <a:chOff x="1511280" y="4545000"/>
            <a:chExt cx="720720" cy="431640"/>
          </a:xfrm>
        </p:grpSpPr>
        <p:sp>
          <p:nvSpPr>
            <p:cNvPr id="149" name=""/>
            <p:cNvSpPr/>
            <p:nvPr/>
          </p:nvSpPr>
          <p:spPr>
            <a:xfrm>
              <a:off x="1511280" y="4545000"/>
              <a:ext cx="361080" cy="43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638000" y="4679280"/>
              <a:ext cx="172800" cy="162360"/>
              <a:chOff x="1638000" y="4679280"/>
              <a:chExt cx="172800" cy="1623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41600" y="4679280"/>
                <a:ext cx="1504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38000" y="4759920"/>
                <a:ext cx="15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1641600" y="4761000"/>
                <a:ext cx="16920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870920" y="4545000"/>
              <a:ext cx="361080" cy="43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978200" y="4701240"/>
              <a:ext cx="168480" cy="79920"/>
              <a:chOff x="1978200" y="4701240"/>
              <a:chExt cx="168480" cy="799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1978200" y="4701240"/>
                <a:ext cx="83880" cy="7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62080" y="4701600"/>
                <a:ext cx="84600" cy="7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1079640" y="1339920"/>
            <a:ext cx="7200720" cy="1332000"/>
            <a:chOff x="1079640" y="1339920"/>
            <a:chExt cx="7200720" cy="1332000"/>
          </a:xfrm>
        </p:grpSpPr>
        <p:sp>
          <p:nvSpPr>
            <p:cNvPr id="159" name=""/>
            <p:cNvSpPr/>
            <p:nvPr/>
          </p:nvSpPr>
          <p:spPr>
            <a:xfrm>
              <a:off x="1079640" y="1339920"/>
              <a:ext cx="7200720" cy="1332000"/>
            </a:xfrm>
            <a:prstGeom prst="roundRect">
              <a:avLst>
                <a:gd name="adj" fmla="val 17824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52360" y="1399680"/>
              <a:ext cx="7056000" cy="121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76360" y="1160640"/>
            <a:ext cx="719280" cy="431640"/>
            <a:chOff x="1476360" y="1160640"/>
            <a:chExt cx="719280" cy="431640"/>
          </a:xfrm>
        </p:grpSpPr>
        <p:sp>
          <p:nvSpPr>
            <p:cNvPr id="162" name=""/>
            <p:cNvSpPr/>
            <p:nvPr/>
          </p:nvSpPr>
          <p:spPr>
            <a:xfrm>
              <a:off x="1476360" y="1160640"/>
              <a:ext cx="361080" cy="43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4560" y="1160640"/>
              <a:ext cx="361080" cy="43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657080" y="1333440"/>
              <a:ext cx="88560" cy="85680"/>
              <a:chOff x="1657080" y="1333440"/>
              <a:chExt cx="88560" cy="85680"/>
            </a:xfrm>
          </p:grpSpPr>
          <p:sp>
            <p:nvSpPr>
              <p:cNvPr id="165" name=""/>
              <p:cNvSpPr/>
              <p:nvPr/>
            </p:nvSpPr>
            <p:spPr>
              <a:xfrm>
                <a:off x="1657080" y="1333440"/>
                <a:ext cx="88560" cy="85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87680" y="1356480"/>
                <a:ext cx="417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941840" y="1317960"/>
              <a:ext cx="168480" cy="78480"/>
              <a:chOff x="1941840" y="1317960"/>
              <a:chExt cx="168480" cy="78480"/>
            </a:xfrm>
          </p:grpSpPr>
          <p:sp>
            <p:nvSpPr>
              <p:cNvPr id="168" name=""/>
              <p:cNvSpPr/>
              <p:nvPr/>
            </p:nvSpPr>
            <p:spPr>
              <a:xfrm flipV="1">
                <a:off x="1941840" y="1317960"/>
                <a:ext cx="8388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25720" y="1317960"/>
                <a:ext cx="8460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6812" r="55007" b="6864"/>
          <a:stretch/>
        </p:blipFill>
        <p:spPr>
          <a:xfrm>
            <a:off x="0" y="1773360"/>
            <a:ext cx="2536920" cy="374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8000" y="2349360"/>
            <a:ext cx="6264360" cy="0"/>
          </a:xfrm>
          <a:prstGeom prst="line">
            <a:avLst/>
          </a:prstGeom>
          <a:ln w="28440">
            <a:solidFill>
              <a:srgbClr val="00cc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3141720"/>
            <a:ext cx="6264360" cy="0"/>
          </a:xfrm>
          <a:prstGeom prst="line">
            <a:avLst/>
          </a:prstGeom>
          <a:ln w="28440">
            <a:solidFill>
              <a:srgbClr val="5599bb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4005360"/>
            <a:ext cx="6264360" cy="0"/>
          </a:xfrm>
          <a:prstGeom prst="line">
            <a:avLst/>
          </a:prstGeom>
          <a:ln w="28440">
            <a:solidFill>
              <a:srgbClr val="00cc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4981680"/>
            <a:ext cx="6264360" cy="0"/>
          </a:xfrm>
          <a:prstGeom prst="line">
            <a:avLst/>
          </a:prstGeom>
          <a:ln w="28440">
            <a:solidFill>
              <a:srgbClr val="5599bb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557360"/>
            <a:ext cx="640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934920" y="2925720"/>
            <a:ext cx="7883640" cy="1116000"/>
            <a:chOff x="934920" y="2925720"/>
            <a:chExt cx="7883640" cy="1116000"/>
          </a:xfrm>
        </p:grpSpPr>
        <p:sp>
          <p:nvSpPr>
            <p:cNvPr id="177" name=""/>
            <p:cNvSpPr/>
            <p:nvPr/>
          </p:nvSpPr>
          <p:spPr>
            <a:xfrm>
              <a:off x="934920" y="2925720"/>
              <a:ext cx="1114560" cy="1116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9900">
                    <a:alpha val="60000"/>
                  </a:srgbClr>
                </a:gs>
              </a:gsLst>
              <a:lin ang="13500000"/>
            </a:gra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9480" y="3321000"/>
              <a:ext cx="396720" cy="324000"/>
            </a:xfrm>
            <a:prstGeom prst="rightArrow">
              <a:avLst>
                <a:gd name="adj1" fmla="val 50000"/>
                <a:gd name="adj2" fmla="val 30611"/>
              </a:avLst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46200" y="2925720"/>
              <a:ext cx="6372360" cy="1116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9900">
                    <a:alpha val="60000"/>
                  </a:srgbClr>
                </a:gs>
              </a:gsLst>
              <a:lin ang="13500000"/>
            </a:gra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017360" y="3112920"/>
              <a:ext cx="998640" cy="78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936720" y="1413000"/>
            <a:ext cx="7882920" cy="1116000"/>
            <a:chOff x="936720" y="1413000"/>
            <a:chExt cx="7882920" cy="1116000"/>
          </a:xfrm>
        </p:grpSpPr>
        <p:grpSp>
          <p:nvGrpSpPr>
            <p:cNvPr id="182" name=""/>
            <p:cNvGrpSpPr/>
            <p:nvPr/>
          </p:nvGrpSpPr>
          <p:grpSpPr>
            <a:xfrm>
              <a:off x="936720" y="1413000"/>
              <a:ext cx="1114200" cy="1116000"/>
              <a:chOff x="936720" y="1413000"/>
              <a:chExt cx="1114200" cy="111600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4360" y="1592280"/>
                <a:ext cx="97128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936720" y="1413000"/>
                <a:ext cx="1114200" cy="1116000"/>
              </a:xfrm>
              <a:prstGeom prst="ellipse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050920" y="1808280"/>
              <a:ext cx="396360" cy="324000"/>
            </a:xfrm>
            <a:prstGeom prst="rightArrow">
              <a:avLst>
                <a:gd name="adj1" fmla="val 50000"/>
                <a:gd name="adj2" fmla="val 46487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47640" y="1413000"/>
              <a:ext cx="6372000" cy="111600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934920" y="4473720"/>
            <a:ext cx="7883640" cy="1116000"/>
            <a:chOff x="934920" y="4473720"/>
            <a:chExt cx="7883640" cy="1116000"/>
          </a:xfrm>
        </p:grpSpPr>
        <p:grpSp>
          <p:nvGrpSpPr>
            <p:cNvPr id="188" name=""/>
            <p:cNvGrpSpPr/>
            <p:nvPr/>
          </p:nvGrpSpPr>
          <p:grpSpPr>
            <a:xfrm>
              <a:off x="934920" y="4473720"/>
              <a:ext cx="1114560" cy="1116000"/>
              <a:chOff x="934920" y="4473720"/>
              <a:chExt cx="1114560" cy="1116000"/>
            </a:xfrm>
          </p:grpSpPr>
          <p:pic>
            <p:nvPicPr>
              <p:cNvPr id="1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4653000"/>
                <a:ext cx="97164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934920" y="4473720"/>
                <a:ext cx="1114560" cy="1116000"/>
              </a:xfrm>
              <a:prstGeom prst="ellipse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049480" y="4869000"/>
              <a:ext cx="396720" cy="324000"/>
            </a:xfrm>
            <a:prstGeom prst="rightArrow">
              <a:avLst>
                <a:gd name="adj1" fmla="val 50000"/>
                <a:gd name="adj2" fmla="val 46529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46200" y="4473720"/>
              <a:ext cx="6372360" cy="111600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971640" y="1449360"/>
            <a:ext cx="4716360" cy="1368360"/>
            <a:chOff x="971640" y="1449360"/>
            <a:chExt cx="4716360" cy="1368360"/>
          </a:xfrm>
        </p:grpSpPr>
        <p:sp>
          <p:nvSpPr>
            <p:cNvPr id="194" name=""/>
            <p:cNvSpPr/>
            <p:nvPr/>
          </p:nvSpPr>
          <p:spPr>
            <a:xfrm>
              <a:off x="971640" y="1449360"/>
              <a:ext cx="4716360" cy="136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077840" y="1593720"/>
              <a:ext cx="4467240" cy="1081080"/>
              <a:chOff x="1077840" y="1593720"/>
              <a:chExt cx="4467240" cy="1081080"/>
            </a:xfrm>
          </p:grpSpPr>
          <p:sp>
            <p:nvSpPr>
              <p:cNvPr id="196" name=""/>
              <p:cNvSpPr/>
              <p:nvPr/>
            </p:nvSpPr>
            <p:spPr>
              <a:xfrm>
                <a:off x="1077840" y="1593720"/>
                <a:ext cx="4465800" cy="10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00360" y="1630080"/>
                <a:ext cx="1044720" cy="104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8" name=""/>
          <p:cNvGrpSpPr/>
          <p:nvPr/>
        </p:nvGrpSpPr>
        <p:grpSpPr>
          <a:xfrm>
            <a:off x="971640" y="4834080"/>
            <a:ext cx="4716360" cy="1368360"/>
            <a:chOff x="971640" y="4834080"/>
            <a:chExt cx="4716360" cy="1368360"/>
          </a:xfrm>
        </p:grpSpPr>
        <p:sp>
          <p:nvSpPr>
            <p:cNvPr id="199" name=""/>
            <p:cNvSpPr/>
            <p:nvPr/>
          </p:nvSpPr>
          <p:spPr>
            <a:xfrm>
              <a:off x="971640" y="4834080"/>
              <a:ext cx="4716360" cy="1368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077840" y="4978440"/>
              <a:ext cx="4467240" cy="1081080"/>
              <a:chOff x="1077840" y="4978440"/>
              <a:chExt cx="4467240" cy="1081080"/>
            </a:xfrm>
          </p:grpSpPr>
          <p:sp>
            <p:nvSpPr>
              <p:cNvPr id="201" name=""/>
              <p:cNvSpPr/>
              <p:nvPr/>
            </p:nvSpPr>
            <p:spPr>
              <a:xfrm>
                <a:off x="1077840" y="4978440"/>
                <a:ext cx="4465800" cy="10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360" y="5014800"/>
                <a:ext cx="1044720" cy="104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971640" y="3105000"/>
            <a:ext cx="4716360" cy="1368360"/>
            <a:chOff x="971640" y="3105000"/>
            <a:chExt cx="4716360" cy="1368360"/>
          </a:xfrm>
        </p:grpSpPr>
        <p:sp>
          <p:nvSpPr>
            <p:cNvPr id="204" name=""/>
            <p:cNvSpPr/>
            <p:nvPr/>
          </p:nvSpPr>
          <p:spPr>
            <a:xfrm>
              <a:off x="971640" y="3105000"/>
              <a:ext cx="4716360" cy="1368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077840" y="3249360"/>
              <a:ext cx="4467240" cy="1081080"/>
              <a:chOff x="1077840" y="3249360"/>
              <a:chExt cx="4467240" cy="1081080"/>
            </a:xfrm>
          </p:grpSpPr>
          <p:sp>
            <p:nvSpPr>
              <p:cNvPr id="206" name=""/>
              <p:cNvSpPr/>
              <p:nvPr/>
            </p:nvSpPr>
            <p:spPr>
              <a:xfrm>
                <a:off x="1077840" y="3249360"/>
                <a:ext cx="4465800" cy="10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500360" y="3285720"/>
                <a:ext cx="1044720" cy="104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8" name=""/>
          <p:cNvSpPr/>
          <p:nvPr/>
        </p:nvSpPr>
        <p:spPr>
          <a:xfrm>
            <a:off x="5688000" y="2060640"/>
            <a:ext cx="57636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88000" y="5516640"/>
            <a:ext cx="57636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2060640"/>
            <a:ext cx="0" cy="345600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7"/>
          <a:srcRect l="55007" t="6812" r="0" b="6864"/>
          <a:stretch/>
        </p:blipFill>
        <p:spPr>
          <a:xfrm>
            <a:off x="7364520" y="4400640"/>
            <a:ext cx="1744560" cy="2484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688000" y="3789360"/>
            <a:ext cx="122400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79640" y="5084640"/>
            <a:ext cx="374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80000" y="3033720"/>
            <a:ext cx="2340000" cy="1403280"/>
          </a:xfrm>
          <a:prstGeom prst="cloudCallout">
            <a:avLst>
              <a:gd name="adj1" fmla="val 47217"/>
              <a:gd name="adj2" fmla="val 47060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2627280" y="1216080"/>
            <a:ext cx="6516720" cy="5237280"/>
            <a:chOff x="2627280" y="1216080"/>
            <a:chExt cx="6516720" cy="5237280"/>
          </a:xfrm>
        </p:grpSpPr>
        <p:sp>
          <p:nvSpPr>
            <p:cNvPr id="216" name=""/>
            <p:cNvSpPr/>
            <p:nvPr/>
          </p:nvSpPr>
          <p:spPr>
            <a:xfrm>
              <a:off x="3419280" y="1216080"/>
              <a:ext cx="5724720" cy="4645080"/>
            </a:xfrm>
            <a:prstGeom prst="rect">
              <a:avLst/>
            </a:prstGeom>
            <a:solidFill>
              <a:srgbClr val="dddd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rcRect l="4202" t="0" r="0" b="0"/>
            <a:stretch/>
          </p:blipFill>
          <p:spPr>
            <a:xfrm flipH="1">
              <a:off x="2627280" y="4132440"/>
              <a:ext cx="6516720" cy="23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250920" y="3537000"/>
            <a:ext cx="3203640" cy="828720"/>
            <a:chOff x="250920" y="3537000"/>
            <a:chExt cx="3203640" cy="828720"/>
          </a:xfrm>
        </p:grpSpPr>
        <p:sp>
          <p:nvSpPr>
            <p:cNvPr id="219" name=""/>
            <p:cNvSpPr/>
            <p:nvPr/>
          </p:nvSpPr>
          <p:spPr>
            <a:xfrm>
              <a:off x="2843280" y="397044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0920" y="3537000"/>
              <a:ext cx="2592360" cy="828720"/>
            </a:xfrm>
            <a:prstGeom prst="roundRect">
              <a:avLst>
                <a:gd name="adj" fmla="val 29093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50920" y="2421000"/>
            <a:ext cx="3203640" cy="828720"/>
            <a:chOff x="250920" y="2421000"/>
            <a:chExt cx="3203640" cy="828720"/>
          </a:xfrm>
        </p:grpSpPr>
        <p:sp>
          <p:nvSpPr>
            <p:cNvPr id="222" name=""/>
            <p:cNvSpPr/>
            <p:nvPr/>
          </p:nvSpPr>
          <p:spPr>
            <a:xfrm>
              <a:off x="2843280" y="285444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0920" y="2421000"/>
              <a:ext cx="2592360" cy="828720"/>
            </a:xfrm>
            <a:prstGeom prst="roundRect">
              <a:avLst>
                <a:gd name="adj" fmla="val 29093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50920" y="1268280"/>
            <a:ext cx="3203640" cy="828720"/>
            <a:chOff x="250920" y="1268280"/>
            <a:chExt cx="3203640" cy="828720"/>
          </a:xfrm>
        </p:grpSpPr>
        <p:sp>
          <p:nvSpPr>
            <p:cNvPr id="225" name=""/>
            <p:cNvSpPr/>
            <p:nvPr/>
          </p:nvSpPr>
          <p:spPr>
            <a:xfrm>
              <a:off x="2843280" y="170172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0920" y="1268280"/>
              <a:ext cx="2592360" cy="828720"/>
            </a:xfrm>
            <a:prstGeom prst="roundRect">
              <a:avLst>
                <a:gd name="adj" fmla="val 29093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00:52:18Z</dcterms:created>
  <dc:creator>user</dc:creator>
  <dc:description/>
  <dc:language>en-US</dc:language>
  <cp:lastModifiedBy>微软用户</cp:lastModifiedBy>
  <dcterms:modified xsi:type="dcterms:W3CDTF">2015-07-14T06:36:03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