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F19-B53F-406A-9AE4-410E5F82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4AB-B4CC-4B26-BC63-9D59FC7F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B95-465A-48B3-86C6-D420943A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06F-A22B-4364-A609-CD08E7D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366-D6A0-4726-B146-EB9B088A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FC9-FE73-49D7-AE51-DD453C69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36C-B7DC-4C9A-904B-FDD5F3B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D5F-1476-4F57-B0D3-BDC78CE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021-84FA-4196-A607-78ADFF4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04C-FC0C-4D1C-BF5B-9DBD770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911-47C5-49D1-9640-CEB4CFD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342-7061-412D-9241-0CB1AC3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C77-3D68-49E0-8A77-C4D0496F7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4776.htm" TargetMode="External"/><Relationship Id="rId3" Type="http://schemas.openxmlformats.org/officeDocument/2006/relationships/hyperlink" Target="http://baike.baidu.com/view/402573.htm" TargetMode="External"/><Relationship Id="rId4" Type="http://schemas.openxmlformats.org/officeDocument/2006/relationships/hyperlink" Target="http://baike.baidu.com/view/402573.htm" TargetMode="External"/><Relationship Id="rId5" Type="http://schemas.openxmlformats.org/officeDocument/2006/relationships/hyperlink" Target="http://baike.baidu.com/view/402573.htm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9907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多  啦 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A  </a:t>
            </a: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梦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447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oraem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又称为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机器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日本著名漫画故事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多啦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A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》中的主角。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是一只来自未来世界的猫型机器人，用自己神奇的百宝袋和各种奇妙的道具帮助大雄解决各种困难。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的故事将人们带进一个奇妙、充满想像力的世界。也正因此，它能作为一个常青的形象，伴随几代少年儿童的成长。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最初是由两位漫画家合作创作出版的。他们是藤本弘和安孙子素雄。他二人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始合作。另有外传，旧版，新版，剧场版等，还有一系列相关的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已经成为一个著名的卡通品牌，受众人追捧，不管是哪个年龄层的人都狂爱无比，印有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图案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衣服、杯子、文具、礼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无论是生活用品还是文具用品都会大卖，玩具就更不用说了，每次出新的周边产品，一定会引发排长龙等候。可见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的魅力是多么地强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的系列产品随处可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用具、洗漱用品、食品、电子产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等，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系列小游戏有《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之最爱铜锣烧》、《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玩足球》、《哆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猜拳》等数十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成功的模式是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漫画——动画——卡通产品授权——连锁专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完整的一条动漫产业链输出，产品与消费者之间建立了“更深的情感连接”，因为情感连接能刺激消费欲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动漫衍生产品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三个层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第一层是直接把动画片转换到数字介质或平面媒体，也就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电子音像和纸制出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第二层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卡通形象授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亦即把动漫主人公的形象运用于产品，例如玩具、办公用品甚至主题乐园等。第三层是近几年随时增长的新兴领域，例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网络游戏、音乐会、舞台剧、数字娱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动漫产业是一条可以无限延长的产业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标志著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年纪念，为庆祝这特别日子，香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dm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推出四十周年特别版手表，用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d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受欢迎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D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D100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D102 &amp; DD10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号。粉丝们见到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嬉皮笑脸的样子，衬上鲜艳的表带及表面，必定会心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多啦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梦四十周年纪念标志设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4457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隆重其事，有关方面更设计了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ade in the future Doraemon 40th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志，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oraemon x odm+ crossov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系列亦会于表底印上这标志，别具义意。每天戴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oraemon x od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腕表，彷彿透过时光机回到过去，寻回自己的童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48769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多啦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梦诞生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40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周年特别纪念演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纪念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诞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年，同时也作为“六一”儿童节特别礼物，金鹰携手江苏少儿频道推出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日本原版舞台剧———《多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梦：到处都是四次元口袋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在人民舞台上演。届时，观众将有机会零距离感受机器猫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所带来的无穷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舞台剧《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：到处都是四次元口袋》是利用童话形式和童话色彩，重现了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和他的朋友们温暖的友情和冒险故事，并且通过场景重现，舞台演出，绘画涂鸦墙等活动形态的整合，营造最佳活动氛围和情景效果，使得《多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梦》的剧场真正成为都市童心活动的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多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周年纪念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联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Hometown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发布系列单品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纪念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大寿，知名的街头潮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ometow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连同台湾五大街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Mani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verkill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hantaci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Remix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aint of Roc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庆祝多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年强力推出纪念系列。纪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e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采用贴布章的元素贯穿系列新品，中部图案运用黑白网版的照片印刷显示印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ometow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哆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标语，同时刺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eart Log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左袖，哆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于右袖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86200" y="327672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20T06:21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