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6CC-5E7E-4BF6-AB9F-186DB304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79B-B89A-403C-AED8-DD53F49A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FF9-31A9-4FDF-AFC0-F3E3017A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5E07-FF4A-478C-8B03-F1A04DE8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D60E-AD14-4DCD-8C5B-4ABCC150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B66F-8A21-4CB9-816E-1754DD2E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A9CC-04D9-4A42-BB95-70E00104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A303-0175-4A2B-8391-77C0464D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76F3-E4D0-41A0-9E2E-484BB968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94C5-5339-43E9-8D7C-1F759A70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A3D5-5670-46B7-B7E6-D483A408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B46-318F-40D6-BDD2-6F515B55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09D4-89B8-4A79-B8FD-7FEED951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3604-6B69-4CFC-83A5-802B9F65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A0A7-1F75-4A66-80CD-802944C9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BEAA-948E-437D-9CCC-D1FC6AFC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DB1E-9942-4F93-AFCD-6DDD34D3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FEB-8E89-4039-A4F2-FEB12EEA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AB1-D4BF-4913-80A8-BE7563AD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CF1-D0F3-421C-948F-FEE0DFAA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88F-3635-4966-BB31-016DADFF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657-64AD-4100-A21F-33641AF2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646-2BDB-4FB8-8193-7FCACB04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2E5-6E91-4801-97D8-A22AAA1C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8042-E71C-4C65-8253-2E4499788C68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B910-A419-40EB-8EAD-D268BCF135E9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590560"/>
            <a:ext cx="7010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Impact"/>
                <a:ea typeface="宋体"/>
              </a:rPr>
              <a:t>Metro Train Trip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7920" y="33523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Impact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8954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7621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205704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8954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Impact"/>
              <a:ea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Impact"/>
              <a:ea typeface="宋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494080" y="91440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7:22:15Z</dcterms:created>
  <dc:creator/>
  <dc:description/>
  <cp:keywords/>
  <dc:language>en-US</dc:language>
  <cp:lastModifiedBy>GZB</cp:lastModifiedBy>
  <dcterms:modified xsi:type="dcterms:W3CDTF">2011-09-13T11:32:14Z</dcterms:modified>
  <cp:revision>3</cp:revision>
  <dc:subject/>
  <dc:title>www.glzy8.com提供海量PPT模板免费下载！</dc:title>
</cp:coreProperties>
</file>