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6D2-FD78-4EEA-A30C-E41CBBB1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2BA-36D4-466E-80E3-C85C070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2CDF-13CF-4CBB-8D4F-4D01412A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1F180-8009-4AE8-B43E-F410C2D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BF6BC-56C0-4651-A247-59F56D8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4F055-598B-49BE-843F-A49CB20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C91C4-BF6F-45E1-8E04-CB823B4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10129-3ED3-458C-A4F6-081ECE88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15866-8145-4846-854C-AB8E884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FA248-95DA-4BEC-9BDD-6994487A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5AA52-E96F-41CB-80EE-4FC76EA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51C1-72AD-4DC4-A63E-7073916E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0A1-9BDF-446A-91CE-72F66892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1D43B-6E06-403F-A78B-16DCECF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C3357-BD15-4ABB-9A20-5E9DC60A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DE7AD-9ECF-408E-9057-6148B57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20DF8-DC81-4ABC-945A-6B8664C1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0E5BB-1C6D-418F-A5E6-5FCDD90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A2161-F561-4CE7-9432-6ECB1C1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D0F9-9C7E-4571-9F82-41E733D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B80D-3DF9-4461-98FD-E867214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E5BCD-7CAE-46A3-9187-90F8D37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B7E90-EC3D-4E37-9578-3EF04C7A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5F4-B724-4596-B7BD-1A3F6B52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D4675-6D99-4BB5-9D89-E50C94F2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4E03-BA16-41DF-813C-3A8BB94E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3E02B-4D84-4640-A06A-CEA4F54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773C1-8CE1-48C2-A8EB-22A50FA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E8D67-7325-419A-938D-2E5D840D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FE74-5FF9-48E2-AA4F-FC24A638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081F9-2574-41F7-A603-DB030AE8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D4E0-BF1C-462D-A61C-30BF5B1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3D15-8325-40EE-9EC6-2A638E59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8D6C7-939B-494B-B844-F73ADC5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744-1F55-46B6-852A-D302F2E7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5AADC-5CCB-4853-96D2-E7AEAF3D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350A-0C7E-41D6-8DE5-82620B0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63CD3-906B-4B68-B838-F4CE5065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245C-6FA5-4C0D-BDE2-8CC60BA7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5E15E-CD39-4C4C-8BB9-38437BFC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07C5B-F4CD-41AF-B16A-9AB0380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6F13C-ADD8-4C59-BF47-2B1AC31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9B51-A50A-443E-8B81-49EE111C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710B7-35F2-46CC-B45A-249926E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40B5A-E525-4256-A20C-941C2B7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6341-BB02-488A-B376-178EE20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21A56-709F-4FBD-BF9E-8E51C6A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87B5-F121-45BC-AFC0-F9DEB3D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460A-8FDD-4D99-AED0-995D9340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D6ACA-9F58-4AC6-A687-02112117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4DC6E-FF63-4412-A38C-E63D2487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24E1-F25F-456B-823D-809B547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EC7B-B865-4F6C-AB65-B61610E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6775-18B9-44BE-BBE2-41EEA5F9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078E-FC77-4D1A-8887-BDB66D2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EAA8-2450-4CB3-940F-CEF391E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697-2FF3-4DF6-B129-A07D024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A41-9F9A-4E09-B542-BA51F62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60C8-2702-4F4F-A674-7878C4C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1E9-4A3F-4078-9B99-D102416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7B1-00B1-4B84-BEDA-1E4A438E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5A1-E911-4381-A208-2A319734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4744-CB9A-4C58-8ACC-298A31B6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C44A-DE1B-4471-AE7C-C3A975B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5B41-117D-49C0-8BBD-04ED28D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5287-E9C9-4724-BCD9-DBA51149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92A6-7571-45D9-8EB5-AE022FA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F2B-9A3E-464A-A21D-0C4DD1B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4C72-1F62-4095-AE55-AF18B18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912E-67EA-4CD2-BD78-C2942E4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FF90-48AD-42B8-A6AD-7BCC7C9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B359-059C-4EB4-9682-8D85233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1F60-26FA-477A-B616-7F5AACF5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1199-4B0C-48E1-BD89-E827DD09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A614-16F2-436F-98B7-F144A456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4E32-B890-4C6A-B739-4DF11CA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D1B5-B3FE-45B5-9CD2-40D0C53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E9F7-7C65-4ACE-AE56-EA341D6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6D0-4BE4-42E6-B6F7-90FC7AD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DAFF-D80D-4DAA-8984-152CBBC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9309-0E03-4ADB-B08F-AF7C0B3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5AC2-21DE-451C-89A5-CEBFB53F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5ED5-E226-4EDA-B56B-91A5925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C14A-E3EB-4308-99A4-72AAE3E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B1FBE-1870-4079-8FBB-F0659C5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2352-40B5-4D5F-A90D-C0CA77AC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5F05-B0FA-46DD-8EB0-DA206446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858B-57A6-4EA5-9DAA-259E952A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6564-275C-44B0-A664-EF19401D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272-5FE6-43D0-A672-12EBF87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007A-5EE7-4514-AFB9-FD74BFB3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A17A-7D58-4C1B-8CF9-8BB44F9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49C8-2087-4A54-B880-6BC190F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1290-EB95-4A52-961E-32A6296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F4A3-F858-4228-BA4E-0E7D50B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69CC-F8EE-4C4D-B013-8388480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0F4F-8A55-4122-9BCD-DE6989F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C8F8-5473-48DB-97D6-9805172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C1ED-BF5F-46B2-8C28-93DFAF5F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CEDD-E480-4867-B7D1-D96287DA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DC3-B3CA-48B3-8942-861CD4F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5367-D0C5-47BA-B491-5A8FF784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69BF-4A61-46E4-9851-061D3009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7EE9-812B-410B-8D6B-87B7D3F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ED848-C6FB-4794-9CA4-006DEF9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3D72-711E-4D17-94E0-D07C18F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8259-71C3-45F7-B43A-ACBC1A8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D9D1-EB1C-4910-860C-34F0B1B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7008-1B48-419C-B999-384E14E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137F-0FCC-4CFC-8CD5-58FEBA8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4A99-BF69-45FB-8818-DB46B9E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398-7CA1-4AF7-A1FB-6B0C5B2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1E40-5EEE-4117-B87E-4728E77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4C69F-2C41-4FE9-BB2F-FC75585B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5CB0-C8AD-4E1C-A4C4-C75C88C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0A1A-0BF6-434F-864F-2FB31AD5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2BE5-F673-46F1-84FB-501601BF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685B-B377-4F81-B3E8-E7437B0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ACE78-D73F-4687-AA31-0348282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8CB0-EFE4-4686-A5B3-C0E36D6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96A4-8119-4CE6-BCC2-22990C1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AB6D-1ED6-4574-8FE4-33B78C5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5F5-733F-498D-BCF6-508E510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004E-AFF8-4F66-9F0B-889E028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B7B1-0DCA-46C1-874B-165BB22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F416-AF2E-4FD2-AC94-D8FF6CC3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1E02-E402-439C-B872-BF49BC54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2E5D-6B8C-4CF6-A7B8-F0E3678F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4B7BB-20ED-4DA7-AD8F-B6D752DD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51BBB-FC49-487B-81B3-DD3DBBC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8821-0963-4884-A24F-CA9C8EB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0EB6-4F9A-4148-AF21-C26EE46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FAD4-7B1A-487A-B6D9-0EDBE5FE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812-893A-461F-A0E5-C1327CF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ED4F0-F6DC-412F-911C-A77A6CC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41F1-704E-47D2-B969-5F9E4F3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3CBB-3AD2-4BEF-ADB9-3A4110D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35CB-ADC8-4A8E-9C06-FFA995F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50DD-112B-48DF-AEB1-0AACD16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B2062-1199-4087-AA08-2EA6366F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1668-0D36-4A4D-A6BC-474E1E37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0C7BF-F45E-45DF-8F84-27CD054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C9BC7-8FAC-49D1-9DA2-F3B03A07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E5E1-3925-457D-B1B0-C2BEF4D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B4F-DC79-4077-9EA7-4B05A9F22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72F-9CC4-4694-B730-8AC1F08622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4735-4726-4232-A08A-6B21260F8B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7CB-AA07-4D41-A24C-DB3446C000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1D0F-70F0-4238-9109-A111512E6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852E-71DB-4E13-A08F-AF2CCC2C9F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75B-575E-4270-8341-E0C48085CE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6656-32F0-41AF-87F6-F24DF62BAE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760-1AB3-4771-BBBB-0B63A61EF0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6C8D-A51F-45A8-B08A-68E473AC00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728E-D0C6-43D0-A15D-F00CE255B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DECB-76AB-4A3F-8AA3-3E51F1D0DA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m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4"/>
          <p:cNvSpPr/>
          <p:nvPr/>
        </p:nvSpPr>
        <p:spPr>
          <a:xfrm>
            <a:off x="3634560" y="627696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肚子好饿的毛毛虫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Caterpillar09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752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609480" y="463068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第二天，又是星期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毛毛虫啃穿了一片可爱的绿树叶，这一回他感觉好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Caterpillar10"/>
          <p:cNvPicPr/>
          <p:nvPr/>
        </p:nvPicPr>
        <p:blipFill>
          <a:blip r:embed="rId1"/>
          <a:stretch/>
        </p:blipFill>
        <p:spPr>
          <a:xfrm>
            <a:off x="0" y="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1981080" y="377496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现在他一点儿也不饿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也不再是一条小毛虫了。他是一条胖嘟嘟的大毛虫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他绕着自己的身子，造了一座叫做“茧”的小房子。他在那里面呆了两个多星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然后，他就在茧壳上啃出一个洞洞，钻了出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Caterpillar1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4269240" y="49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已经是一只美丽的蝴蝶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Caterpillar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4"/>
          <p:cNvSpPr/>
          <p:nvPr/>
        </p:nvSpPr>
        <p:spPr>
          <a:xfrm>
            <a:off x="1447920" y="51055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月光下，一个小小的卵，躺在树叶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Caterpillar0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4"/>
          <p:cNvSpPr/>
          <p:nvPr/>
        </p:nvSpPr>
        <p:spPr>
          <a:xfrm>
            <a:off x="1447920" y="51055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星期天的早晨，暖暖的太阳升起来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啪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从卵壳里钻出一条又瘦又饿的毛毛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3" descr="Caterpillar03"/>
          <p:cNvPicPr/>
          <p:nvPr/>
        </p:nvPicPr>
        <p:blipFill>
          <a:blip r:embed="rId16"/>
          <a:stretch/>
        </p:blipFill>
        <p:spPr>
          <a:xfrm>
            <a:off x="0" y="45720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4"/>
          <p:cNvSpPr/>
          <p:nvPr/>
        </p:nvSpPr>
        <p:spPr>
          <a:xfrm>
            <a:off x="1371600" y="5715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四下寻找着可以吃的东西。星期一，他啃穿了一个苹果。可他还是觉得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aterpillar04"/>
          <p:cNvPicPr/>
          <p:nvPr/>
        </p:nvPicPr>
        <p:blipFill>
          <a:blip r:embed="rId1"/>
          <a:stretch/>
        </p:blipFill>
        <p:spPr>
          <a:xfrm>
            <a:off x="0" y="457200"/>
            <a:ext cx="6046920" cy="64008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78168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二，他啃穿了两个梨子，可他还是觉得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Caterpillar05"/>
          <p:cNvPicPr/>
          <p:nvPr/>
        </p:nvPicPr>
        <p:blipFill>
          <a:blip r:embed="rId1"/>
          <a:stretch/>
        </p:blipFill>
        <p:spPr>
          <a:xfrm>
            <a:off x="0" y="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609480" y="6338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三，他啃穿了三个李子，可他还是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aterpillar06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4"/>
          <p:cNvSpPr/>
          <p:nvPr/>
        </p:nvSpPr>
        <p:spPr>
          <a:xfrm>
            <a:off x="446112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四，他啃穿了四个草莓，可他还是饿得受不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Caterpillar07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392796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五，他啃穿了五个桔子，可他还是饿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Caterpillar08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"/>
          <p:cNvSpPr/>
          <p:nvPr/>
        </p:nvSpPr>
        <p:spPr>
          <a:xfrm>
            <a:off x="366840" y="3178080"/>
            <a:ext cx="841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05050"/>
                </a:solidFill>
                <a:latin typeface="Times New Roman"/>
              </a:rPr>
              <a:t>星期五，他啃穿了五个桔子，可他还是饿呀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09480" y="463068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星期六，他啃穿了一块巧克力蛋糕，一个冰淇淋蛋筒，一条酸黄瓜，一片瑞士奶酪，一截萨拉米香肠，一根棒棒糖，一角樱桃馅饼，一段红肠，一只杯形蛋糕，还有一块甜西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到了晚上，他就胃痛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07:04:40Z</dcterms:created>
  <dc:creator>干国祥</dc:creator>
  <dc:description/>
  <dc:language>en-US</dc:language>
  <cp:lastModifiedBy>lenovo</cp:lastModifiedBy>
  <dcterms:modified xsi:type="dcterms:W3CDTF">2015-08-10T00:54:58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