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D3F-E6EB-4FC1-8597-115787A9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282-0BD2-4721-B44C-703FD24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90A-6450-41CA-A868-8B32EFF0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DB4-FE6E-47F9-BBED-61703B2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E57-27A9-4625-937A-2CBC0C03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769-50E3-4E36-9A01-9CB6D461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B19-6A1D-48B4-96A5-355CEDB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3BC-5D29-416B-9D7A-5D0A33E9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372-91A4-4F49-B969-7F5DBB0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C80-6C2C-43C9-81B4-EDA3BD04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238-1ADA-4BE1-9895-F168151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140-0F4B-4B9C-85AF-50F69B8B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96FC-3F8A-4A2D-986F-FC956FCA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file:///&#24029;&#23376;-&#20170;&#29983;&#32536;_JSY_L_80_&#32463;&#20856;_&#22269;&#35821;_47452.AVI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943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感恩”主题班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85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感恩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是中华民族的传统美德之一。每人都应怀揣一颗感恩之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感谢生活、感谢父母、感谢师长，感谢朋友等，如果人与人之间缺乏感恩之心，必然会导致人际关系的冷淡，所以，每个人都 应该学会感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感恩的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感恩分为很多种，但大多人关注的感恩有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感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父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感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感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往往成为人们的焦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同时在人们的身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5530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  <a:ea typeface="楷体_GB2312"/>
              </a:rPr>
              <a:t>倾听是一种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Arial"/>
                <a:ea typeface="楷体_GB2312"/>
              </a:rPr>
              <a:t>这些图片中哪张图片印象最深</a:t>
            </a:r>
            <a:br>
              <a:rPr sz="6600"/>
            </a:br>
            <a:r>
              <a:rPr b="1" lang="zh-CN" sz="6600" spc="-1" strike="noStrike">
                <a:solidFill>
                  <a:srgbClr val="000066"/>
                </a:solidFill>
                <a:latin typeface="Arial"/>
                <a:ea typeface="楷体_GB2312"/>
              </a:rPr>
              <a:t>说说你的感想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感恩老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老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世上最神圣、最无私的职业，她会为了自己的学生而忽略自己的儿女，她会为我们的学习、我们的生活而废寝忘食，她会为了学生的某件事而流下眼泪，她会为了同学生病而焦急难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会做太多太多的事情，即使自己再苦再累她也毫不在乎，她做这么多是为什么？难道仅仅因为她是老师吗？不，还因为她在她的内心深爱着她的学生。有时她也会发火，难道那是不疼你的表现吗？不，那是希望你正确认识自己错误的一种方式，看到自己的学生有一点的进步，她会比谁都高兴，但如果听到半句关于自己学生不好的半点消息，她总会皱起眉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urier New"/>
                <a:ea typeface="黑体"/>
              </a:rPr>
              <a:t>来看一个小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的第十一位教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05ab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在一个偏远山区的小学校里，因办学条件差，一年内已经先后走了七八位教师，当村民和孩子们依依不舍的送走第十位教师后，人们寒心的说：</a:t>
            </a:r>
            <a:r>
              <a:rPr b="1" lang="zh-CN" sz="2400" spc="-1" strike="noStrike">
                <a:solidFill>
                  <a:srgbClr val="1105ab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再不会有第十一位教师能留下来了。</a:t>
            </a:r>
            <a:r>
              <a:rPr b="1" lang="zh-CN" sz="2400" spc="-1" strike="noStrike">
                <a:solidFill>
                  <a:srgbClr val="1105ab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后来村里找了个刚从大学毕业的女大学生来代一段时间的课。一个月后，女大学生被分配到城里工作。当女大学生收拾好行装，离开住所，准备离开的时候，她背后突然意外的传来孩子们朗朗的读书声：</a:t>
            </a:r>
            <a:r>
              <a:rPr b="1" lang="zh-CN" sz="2400" spc="-1" strike="noStrike">
                <a:solidFill>
                  <a:srgbClr val="1105ab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离离原上草，一岁一枯荣。野火烧不尽，春风吹又生</a:t>
            </a:r>
            <a:r>
              <a:rPr b="1" lang="en-US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......</a:t>
            </a:r>
            <a:r>
              <a:rPr b="1" lang="en-US" sz="2400" spc="-1" strike="noStrike">
                <a:solidFill>
                  <a:srgbClr val="1105ab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那声音在山谷中回荡，久久不决</a:t>
            </a:r>
            <a:r>
              <a:rPr b="1" lang="en-US" sz="2400" spc="-1" strike="noStrike">
                <a:solidFill>
                  <a:srgbClr val="1105ab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那是她第一次教给孩子们的诗。她回过头来一看，一群纯真的孩子齐刷刷的跪在远处高高的山坡上</a:t>
            </a:r>
            <a:r>
              <a:rPr b="1" lang="en-US" sz="2400" spc="-1" strike="noStrike">
                <a:solidFill>
                  <a:srgbClr val="1105ab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1105ab"/>
                </a:solidFill>
                <a:latin typeface="楷体_GB2312"/>
                <a:ea typeface="楷体_GB2312"/>
              </a:rPr>
              <a:t>谁能受得起那天地为之动容的长跪呀！她顷刻间明白了，那是渴求知识的孩子们纯真而无奈的挽留呀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来谈谈</a:t>
            </a:r>
            <a:br>
              <a:rPr sz="20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感恩父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先来看一个小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85800" y="2133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没有阳光，就没有日子的温暖；没有雨露，就没有五谷丰登；没有水源，就没有生命；没有父母，就没有我们自己。滴水之恩，涌泉相报。关爱父母，是我们的责任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大学生的灵魂就在瞬间的洗礼中得到了升华，她毅然决定留了下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留就是整整二十年。 二十年间，她送走了一批又一批的孩子们去上初中、上高中、念大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来这位女大学生积劳成疾，被送往北京医院治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乡亲们把她接回山村时，人们见到的只有被装在红色木匣内的她的骨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来，这个村里有了不成文 的规定，不论谁来教书，永远都是第十一位教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故事，让人流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看完故事有何感想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说说心里的感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感恩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5120" y="29714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先来看一个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447920" y="39625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今生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看完动画后有何感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看完了所有的故事，先闭上眼睛想想，你最想感谢谁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谢谢观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077411850564"/>
          <p:cNvPicPr/>
          <p:nvPr/>
        </p:nvPicPr>
        <p:blipFill>
          <a:blip r:embed="rId2"/>
          <a:stretch/>
        </p:blipFill>
        <p:spPr>
          <a:xfrm>
            <a:off x="7858080" y="1600200"/>
            <a:ext cx="1285920" cy="138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无标题"/>
          <p:cNvPicPr/>
          <p:nvPr/>
        </p:nvPicPr>
        <p:blipFill>
          <a:blip r:embed="rId3"/>
          <a:stretch/>
        </p:blipFill>
        <p:spPr>
          <a:xfrm>
            <a:off x="3733920" y="3048120"/>
            <a:ext cx="2590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很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久以前有一棵苹果树。一个小男孩每天都喜欢来到树旁玩耍。他爬到树顶，吃苹果，在树荫里打盹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他爱这棵树，树也爱和他一起玩。随着时间的流逝，小男孩长大了。他不再到树旁玩耍了。 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　　一天，男孩回到树旁，看起来很悲伤。“来和我玩吧！”树说。“我不再是小孩了，我不会再到树下玩耍了。”男孩答到，“我想要玩具，我需要钱来买。”“很遗憾，我没有钱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但是你可以采摘我的所有苹果拿去卖。这样你就有钱了。”男孩很兴奋。他摘掉树上所有的苹果，然后高兴地离开了。自从那以后好长时间男孩没有回来。树很伤心。 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　　一天，男孩回来了，树非常兴奋。“来和我玩吧。”树说。“我没有时间玩。我得为我的家庭工作。我们需要一个房子来遮风挡雨，你能帮我吗？”“很遗憾，我没有房子。但是，你可以砍下我的树枝来建房。”因此，男孩砍下所有的树枝，高高兴兴地离开了。看到他高兴，树也很高兴。但是，自从那时起男孩又是很没再出现，树很孤独，伤心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突然，在一个夏日，男孩回到树旁，树很高兴。“来和我玩吧！”树说，“我很伤心，我开始老了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” “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我想去航海放松自己。你能不能给我一条船？” “用我的树干去造一条船，你就能航海了，你会高兴的。”于是，男孩砍倒树干去造船。他航海去了，很长一段时间未露面。许多年后男孩终于回来了。“很遗憾，我的孩子，我再也没有任何东西可以给你了。没有苹果给你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”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树说。“我没有牙齿啃。” 男孩答到。“没有树干供你爬。”“现在我老了，爬不上去了。” 男孩说。“我真的想把一切都给你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我唯一剩下的东西是快要死去的树墩。” 树含着眼泪说。“现在，我不需要什么东西，只需要一个地方来休息。经过了这些年我太累了。”男孩答到。 “太好了！老树墩就是倚着休息的最好地方。过来，和我一起坐下休息吧。” 男孩坐下了，树很高兴，含泪而笑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 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　　这是一个发生在每一个人身上的故事。那棵树就像我们的父母。我们小的时候，喜欢和爸爸妈妈玩</a:t>
            </a:r>
            <a:r>
              <a:rPr b="1" lang="en-US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新宋体"/>
                <a:ea typeface="新宋体"/>
              </a:rPr>
              <a:t>长大后，便离开他们，只有在我们需要父母亲，或是遇到了困难的时候，才会回去找他们。尽管如此，父母却总是有求必应，为了我们的幸福，无私地奉献自己的一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了这则故事，你也许觉得那个男孩很残忍，但我们何尝不是这样呢？你是怎样想的，会怎样去做呢？来说说有何感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66ff"/>
                </a:solidFill>
                <a:latin typeface="Arial"/>
                <a:ea typeface="黑体"/>
              </a:rPr>
              <a:t>再来看看一组图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16T06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