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94451-32FA-46F5-8607-21D1D9A0D4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51BBF2-098A-41CA-98FB-BF899B999B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2E015B-24D8-47DA-A8CA-37DF0CE08F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B300F-11AB-45AD-B487-F9C4C637B1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FB6112-AF4B-4AF8-8335-AC408288C6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5AA604-B596-4241-A550-376C7004D9D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AB71FCE-56FE-4983-8555-C5B1440CB1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246D7C-7888-43A6-B9F1-419778A420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AD1924-BEDD-48E4-9EE4-2BA13172E0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53537BA-B84F-4612-9A5D-8A9004BB0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EA7C4DD-1418-4515-B746-39CBC80889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D927-B418-4942-8005-0FE16DFD1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930EE1-1448-4838-BC66-195CFE05D8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C0CB0F-8F7E-4EB6-A594-5FF057B7DE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B2194C5-DC00-4F78-BF0E-A35E82FD1F4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283FC7-FA5D-418B-A023-A8E44F07206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E4C811-9F62-4CD5-8A35-C89A6BC3118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79267-D6AB-4BF9-A475-06D450D9A0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680FB-B8BE-4B6C-8436-16D6A978FE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BF58-1BF5-476E-8781-762CEFF7BE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44DF4A-97EA-4CB5-A724-330C60B27AE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BC498-6214-42F2-9EAF-8D28AC19B6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F1B18-A74F-4239-A744-6D575B828D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2A86-5E79-4A89-97E0-3AA20297EE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date/time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footer&gt;</a:t>
            </a:r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BC4664-14E1-4FD7-B937-A5204BFABDCE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7173F48-AF7D-4880-A651-0F06FA30DB1C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72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Administrator</dc:creator>
  <dc:description/>
  <cp:keywords/>
  <dc:language>en-US</dc:language>
  <cp:lastModifiedBy>微软用户</cp:lastModifiedBy>
  <dcterms:modified xsi:type="dcterms:W3CDTF">2013-05-08T07:13:02Z</dcterms:modified>
  <cp:revision>2</cp:revision>
  <dc:subject/>
  <dc:title>请在此处填写作品信息（此页非设计页）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3483</vt:lpwstr>
  </property>
</Properties>
</file>