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2BA-62E0-429E-81CD-2E49A718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657-381A-4C67-8A83-A1BCD3C6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D7D-ACDD-46EB-8CF0-132A2DA6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967-0079-4CBC-8C11-60661CC3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00D-9AA2-4543-A6BC-FBCA8479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846-B399-4882-AC06-F7C4B643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132-E0D5-4758-ACF8-2C6D7587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158-B74F-4C02-84EA-6431AA29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0F8-BBA7-4855-9761-0B0875DF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1C4-A615-4050-8564-0E89B42F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197-C9C7-4D5A-948F-52223A4A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6DB-90A6-491A-ABDB-339FCB15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15FD-5FF6-4023-8321-F90F60BFC4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5286240" y="441000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5357880" y="491004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右箭头标注 15"/>
          <p:cNvSpPr/>
          <p:nvPr/>
        </p:nvSpPr>
        <p:spPr>
          <a:xfrm rot="5400000">
            <a:off x="2285640" y="4000320"/>
            <a:ext cx="3000600" cy="2286000"/>
          </a:xfrm>
          <a:prstGeom prst="rightArrowCallout">
            <a:avLst>
              <a:gd name="adj1" fmla="val 13455"/>
              <a:gd name="adj2" fmla="val 15375"/>
              <a:gd name="adj3" fmla="val 19251"/>
              <a:gd name="adj4" fmla="val 64977"/>
            </a:avLst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右箭头标注 16"/>
          <p:cNvSpPr/>
          <p:nvPr/>
        </p:nvSpPr>
        <p:spPr>
          <a:xfrm>
            <a:off x="4929120" y="3643200"/>
            <a:ext cx="3071880" cy="1928880"/>
          </a:xfrm>
          <a:prstGeom prst="rightArrowCallout">
            <a:avLst>
              <a:gd name="adj1" fmla="val 13455"/>
              <a:gd name="adj2" fmla="val 15375"/>
              <a:gd name="adj3" fmla="val 19251"/>
              <a:gd name="adj4" fmla="val 64977"/>
            </a:avLst>
          </a:prstGeom>
          <a:solidFill>
            <a:srgbClr val="56b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右箭头标注 19"/>
          <p:cNvSpPr/>
          <p:nvPr/>
        </p:nvSpPr>
        <p:spPr>
          <a:xfrm rot="10800000">
            <a:off x="1428480" y="1356840"/>
            <a:ext cx="3500280" cy="2286000"/>
          </a:xfrm>
          <a:prstGeom prst="rightArrowCallout">
            <a:avLst>
              <a:gd name="adj1" fmla="val 13455"/>
              <a:gd name="adj2" fmla="val 15375"/>
              <a:gd name="adj3" fmla="val 19246"/>
              <a:gd name="adj4" fmla="val 64977"/>
            </a:avLst>
          </a:prstGeom>
          <a:solidFill>
            <a:srgbClr val="56b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右箭头标注 20"/>
          <p:cNvSpPr/>
          <p:nvPr/>
        </p:nvSpPr>
        <p:spPr>
          <a:xfrm flipV="1" rot="16200000">
            <a:off x="4178880" y="892080"/>
            <a:ext cx="3500280" cy="2000160"/>
          </a:xfrm>
          <a:prstGeom prst="rightArrowCallout">
            <a:avLst>
              <a:gd name="adj1" fmla="val 13455"/>
              <a:gd name="adj2" fmla="val 15375"/>
              <a:gd name="adj3" fmla="val 19250"/>
              <a:gd name="adj4" fmla="val 64977"/>
            </a:avLst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3354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5426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3354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5"/>
          <p:cNvSpPr/>
          <p:nvPr/>
        </p:nvSpPr>
        <p:spPr>
          <a:xfrm>
            <a:off x="5426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六边形 15"/>
          <p:cNvSpPr/>
          <p:nvPr/>
        </p:nvSpPr>
        <p:spPr>
          <a:xfrm flipH="1">
            <a:off x="5500080" y="1428840"/>
            <a:ext cx="2428920" cy="4071960"/>
          </a:xfrm>
          <a:prstGeom prst="hexagon">
            <a:avLst>
              <a:gd name="adj" fmla="val 9148"/>
              <a:gd name="vf" fmla="val 115470"/>
            </a:avLst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六边形 14"/>
          <p:cNvSpPr/>
          <p:nvPr/>
        </p:nvSpPr>
        <p:spPr>
          <a:xfrm>
            <a:off x="1714680" y="1428840"/>
            <a:ext cx="2428560" cy="4071960"/>
          </a:xfrm>
          <a:prstGeom prst="hexagon">
            <a:avLst>
              <a:gd name="adj" fmla="val 9148"/>
              <a:gd name="vf" fmla="val 115470"/>
            </a:avLst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六边形 13"/>
          <p:cNvSpPr/>
          <p:nvPr/>
        </p:nvSpPr>
        <p:spPr>
          <a:xfrm>
            <a:off x="3643200" y="1428840"/>
            <a:ext cx="2428920" cy="4071960"/>
          </a:xfrm>
          <a:prstGeom prst="hexagon">
            <a:avLst>
              <a:gd name="adj" fmla="val 9148"/>
              <a:gd name="vf" fmla="val 115470"/>
            </a:avLst>
          </a:prstGeom>
          <a:solidFill>
            <a:srgbClr val="56b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64980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4426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1997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云形标注 9"/>
          <p:cNvSpPr/>
          <p:nvPr/>
        </p:nvSpPr>
        <p:spPr>
          <a:xfrm>
            <a:off x="928800" y="2706840"/>
            <a:ext cx="2143080" cy="1436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云形标注 10"/>
          <p:cNvSpPr/>
          <p:nvPr/>
        </p:nvSpPr>
        <p:spPr>
          <a:xfrm>
            <a:off x="3571920" y="2700360"/>
            <a:ext cx="2143080" cy="1436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56b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云形标注 11"/>
          <p:cNvSpPr/>
          <p:nvPr/>
        </p:nvSpPr>
        <p:spPr>
          <a:xfrm>
            <a:off x="6072120" y="2706840"/>
            <a:ext cx="2143080" cy="1436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140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712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下弧形箭头 10"/>
          <p:cNvSpPr/>
          <p:nvPr/>
        </p:nvSpPr>
        <p:spPr>
          <a:xfrm>
            <a:off x="3429000" y="1338120"/>
            <a:ext cx="2970360" cy="2090880"/>
          </a:xfrm>
          <a:custGeom>
            <a:avLst/>
            <a:gdLst>
              <a:gd name="textAreaLeft" fmla="*/ 604440 w 2970360"/>
              <a:gd name="textAreaRight" fmla="*/ 2365920 w 2970360"/>
              <a:gd name="textAreaTop" fmla="*/ 280080 h 2090880"/>
              <a:gd name="textAreaBottom" fmla="*/ 1810800 h 209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92" hR="21600" stAng="10800000" swAng="-5400000"/>
                <a:lnTo>
                  <a:pt x="12808" y="21600"/>
                </a:lnTo>
                <a:arcTo wR="8792" hR="21600" stAng="5400000" swAng="-4616574"/>
                <a:lnTo>
                  <a:pt x="21561" y="2030"/>
                </a:lnTo>
                <a:lnTo>
                  <a:pt x="19592" y="0"/>
                </a:lnTo>
                <a:lnTo>
                  <a:pt x="17545" y="2030"/>
                </a:lnTo>
                <a:lnTo>
                  <a:pt x="17545" y="2030"/>
                </a:lnTo>
                <a:arcTo wR="8792" hR="21600" stAng="783426" swAng="4289307"/>
                <a:lnTo>
                  <a:pt x="10800" y="21029"/>
                </a:lnTo>
                <a:arcTo wR="8792" hR="21600" stAng="5727267" swAng="5072733"/>
                <a:close/>
              </a:path>
              <a:path fill="darkenLess" w="21600" h="21600">
                <a:moveTo>
                  <a:pt x="0" y="0"/>
                </a:moveTo>
                <a:arcTo wR="8792" hR="21600" stAng="10800000" swAng="-5400000"/>
                <a:lnTo>
                  <a:pt x="12808" y="21600"/>
                </a:lnTo>
                <a:arcTo wR="8792" hR="21600" stAng="5400000" swAng="327267"/>
                <a:lnTo>
                  <a:pt x="10800" y="21029"/>
                </a:lnTo>
                <a:arcTo wR="8792" hR="21600" stAng="5727267" swAng="5072733"/>
                <a:close/>
              </a:path>
            </a:pathLst>
          </a:custGeom>
          <a:solidFill>
            <a:srgbClr val="56b73a"/>
          </a:solidFill>
          <a:ln w="25560">
            <a:solidFill>
              <a:srgbClr val="56b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下弧形箭头 11"/>
          <p:cNvSpPr/>
          <p:nvPr/>
        </p:nvSpPr>
        <p:spPr>
          <a:xfrm flipV="1">
            <a:off x="3429000" y="3480840"/>
            <a:ext cx="2970360" cy="2090520"/>
          </a:xfrm>
          <a:custGeom>
            <a:avLst/>
            <a:gdLst>
              <a:gd name="textAreaLeft" fmla="*/ 604440 w 2970360"/>
              <a:gd name="textAreaRight" fmla="*/ 2365920 w 2970360"/>
              <a:gd name="textAreaTop" fmla="*/ 280080 h 2090520"/>
              <a:gd name="textAreaBottom" fmla="*/ 1810440 h 20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92" hR="21600" stAng="10800000" swAng="-5400000"/>
                <a:lnTo>
                  <a:pt x="12808" y="21600"/>
                </a:lnTo>
                <a:arcTo wR="8792" hR="21600" stAng="5400000" swAng="-4616574"/>
                <a:lnTo>
                  <a:pt x="21561" y="2030"/>
                </a:lnTo>
                <a:lnTo>
                  <a:pt x="19592" y="0"/>
                </a:lnTo>
                <a:lnTo>
                  <a:pt x="17545" y="2030"/>
                </a:lnTo>
                <a:lnTo>
                  <a:pt x="17545" y="2030"/>
                </a:lnTo>
                <a:arcTo wR="8792" hR="21600" stAng="783426" swAng="4289307"/>
                <a:lnTo>
                  <a:pt x="10800" y="21029"/>
                </a:lnTo>
                <a:arcTo wR="8792" hR="21600" stAng="5727267" swAng="5072733"/>
                <a:close/>
              </a:path>
              <a:path fill="darkenLess" w="21600" h="21600">
                <a:moveTo>
                  <a:pt x="0" y="0"/>
                </a:moveTo>
                <a:arcTo wR="8792" hR="21600" stAng="10800000" swAng="-5400000"/>
                <a:lnTo>
                  <a:pt x="12808" y="21600"/>
                </a:lnTo>
                <a:arcTo wR="8792" hR="21600" stAng="5400000" swAng="327267"/>
                <a:lnTo>
                  <a:pt x="10800" y="21029"/>
                </a:lnTo>
                <a:arcTo wR="8792" hR="21600" stAng="5727267" swAng="5072733"/>
                <a:close/>
              </a:path>
            </a:pathLst>
          </a:custGeom>
          <a:solidFill>
            <a:srgbClr val="8cc5d0"/>
          </a:solidFill>
          <a:ln w="25560">
            <a:solidFill>
              <a:srgbClr val="8cc5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44265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4426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斜纹 11"/>
          <p:cNvSpPr/>
          <p:nvPr/>
        </p:nvSpPr>
        <p:spPr>
          <a:xfrm>
            <a:off x="2954160" y="1428840"/>
            <a:ext cx="1903680" cy="1824120"/>
          </a:xfrm>
          <a:custGeom>
            <a:avLst/>
            <a:gdLst/>
            <a:ahLst/>
            <a:rect l="l" t="t" r="r" b="b"/>
            <a:pathLst>
              <a:path w="1903412" h="1824038">
                <a:moveTo>
                  <a:pt x="0" y="249528"/>
                </a:moveTo>
                <a:lnTo>
                  <a:pt x="260387" y="0"/>
                </a:lnTo>
                <a:lnTo>
                  <a:pt x="1903412" y="0"/>
                </a:lnTo>
                <a:lnTo>
                  <a:pt x="0" y="1824038"/>
                </a:lnTo>
                <a:lnTo>
                  <a:pt x="0" y="249528"/>
                </a:lnTo>
                <a:close/>
              </a:path>
            </a:pathLst>
          </a:cu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斜纹 12"/>
          <p:cNvSpPr/>
          <p:nvPr/>
        </p:nvSpPr>
        <p:spPr>
          <a:xfrm flipH="1">
            <a:off x="4883040" y="1428840"/>
            <a:ext cx="1903680" cy="1824120"/>
          </a:xfrm>
          <a:custGeom>
            <a:avLst/>
            <a:gdLst/>
            <a:ahLst/>
            <a:rect l="l" t="t" r="r" b="b"/>
            <a:pathLst>
              <a:path w="1903413" h="1824038">
                <a:moveTo>
                  <a:pt x="0" y="249528"/>
                </a:moveTo>
                <a:lnTo>
                  <a:pt x="260387" y="0"/>
                </a:lnTo>
                <a:lnTo>
                  <a:pt x="1903413" y="0"/>
                </a:lnTo>
                <a:lnTo>
                  <a:pt x="0" y="1824038"/>
                </a:lnTo>
                <a:lnTo>
                  <a:pt x="0" y="249528"/>
                </a:lnTo>
                <a:close/>
              </a:path>
            </a:pathLst>
          </a:custGeom>
          <a:solidFill>
            <a:srgbClr val="56b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斜纹 13"/>
          <p:cNvSpPr/>
          <p:nvPr/>
        </p:nvSpPr>
        <p:spPr>
          <a:xfrm flipH="1" flipV="1">
            <a:off x="4883040" y="3247200"/>
            <a:ext cx="1903680" cy="1824120"/>
          </a:xfrm>
          <a:custGeom>
            <a:avLst/>
            <a:gdLst/>
            <a:ahLst/>
            <a:rect l="l" t="t" r="r" b="b"/>
            <a:pathLst>
              <a:path w="1903413" h="1824038">
                <a:moveTo>
                  <a:pt x="0" y="249528"/>
                </a:moveTo>
                <a:lnTo>
                  <a:pt x="260387" y="0"/>
                </a:lnTo>
                <a:lnTo>
                  <a:pt x="1903413" y="0"/>
                </a:lnTo>
                <a:lnTo>
                  <a:pt x="0" y="1824038"/>
                </a:lnTo>
                <a:lnTo>
                  <a:pt x="0" y="249528"/>
                </a:lnTo>
                <a:close/>
              </a:path>
            </a:pathLst>
          </a:cu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斜纹 14"/>
          <p:cNvSpPr/>
          <p:nvPr/>
        </p:nvSpPr>
        <p:spPr>
          <a:xfrm flipV="1">
            <a:off x="2954160" y="3247200"/>
            <a:ext cx="1903680" cy="1824120"/>
          </a:xfrm>
          <a:custGeom>
            <a:avLst/>
            <a:gdLst/>
            <a:ahLst/>
            <a:rect l="l" t="t" r="r" b="b"/>
            <a:pathLst>
              <a:path w="1903412" h="1824038">
                <a:moveTo>
                  <a:pt x="0" y="249528"/>
                </a:moveTo>
                <a:lnTo>
                  <a:pt x="260387" y="0"/>
                </a:lnTo>
                <a:lnTo>
                  <a:pt x="1903412" y="0"/>
                </a:lnTo>
                <a:lnTo>
                  <a:pt x="0" y="1824038"/>
                </a:lnTo>
                <a:lnTo>
                  <a:pt x="0" y="249528"/>
                </a:lnTo>
                <a:close/>
              </a:path>
            </a:pathLst>
          </a:custGeom>
          <a:solidFill>
            <a:srgbClr val="56b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5855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2711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燕尾形箭头 10"/>
          <p:cNvSpPr/>
          <p:nvPr/>
        </p:nvSpPr>
        <p:spPr>
          <a:xfrm>
            <a:off x="428760" y="2357280"/>
            <a:ext cx="2357280" cy="1643400"/>
          </a:xfrm>
          <a:custGeom>
            <a:avLst/>
            <a:gdLst>
              <a:gd name="textAreaLeft" fmla="*/ 349920 w 2357280"/>
              <a:gd name="textAreaRight" fmla="*/ 2007360 w 2357280"/>
              <a:gd name="textAreaTop" fmla="*/ 699480 h 1643400"/>
              <a:gd name="textAreaBottom" fmla="*/ 943920 h 1643400"/>
            </a:gdLst>
            <a:ahLst/>
            <a:rect l="textAreaLeft" t="textAreaTop" r="textAreaRight" b="textAreaBottom"/>
            <a:pathLst>
              <a:path w="21600" h="21600">
                <a:moveTo>
                  <a:pt x="0" y="9196"/>
                </a:moveTo>
                <a:lnTo>
                  <a:pt x="0" y="9196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2404"/>
                </a:lnTo>
                <a:lnTo>
                  <a:pt x="0" y="12404"/>
                </a:lnTo>
                <a:lnTo>
                  <a:pt x="3208" y="10800"/>
                </a:lnTo>
                <a:lnTo>
                  <a:pt x="0" y="9196"/>
                </a:lnTo>
                <a:close/>
              </a:path>
            </a:pathLst>
          </a:custGeom>
          <a:solidFill>
            <a:srgbClr val="56b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燕尾形箭头 11"/>
          <p:cNvSpPr/>
          <p:nvPr/>
        </p:nvSpPr>
        <p:spPr>
          <a:xfrm>
            <a:off x="2500200" y="2357280"/>
            <a:ext cx="2357640" cy="1643400"/>
          </a:xfrm>
          <a:custGeom>
            <a:avLst/>
            <a:gdLst>
              <a:gd name="textAreaLeft" fmla="*/ 349920 w 2357640"/>
              <a:gd name="textAreaRight" fmla="*/ 2007720 w 2357640"/>
              <a:gd name="textAreaTop" fmla="*/ 699480 h 1643400"/>
              <a:gd name="textAreaBottom" fmla="*/ 943920 h 1643400"/>
            </a:gdLst>
            <a:ahLst/>
            <a:rect l="textAreaLeft" t="textAreaTop" r="textAreaRight" b="textAreaBottom"/>
            <a:pathLst>
              <a:path w="21600" h="21600">
                <a:moveTo>
                  <a:pt x="0" y="9196"/>
                </a:moveTo>
                <a:lnTo>
                  <a:pt x="0" y="9196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2404"/>
                </a:lnTo>
                <a:lnTo>
                  <a:pt x="0" y="12404"/>
                </a:lnTo>
                <a:lnTo>
                  <a:pt x="3208" y="10800"/>
                </a:lnTo>
                <a:lnTo>
                  <a:pt x="0" y="9196"/>
                </a:lnTo>
                <a:close/>
              </a:path>
            </a:pathLst>
          </a:cu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燕尾形箭头 12"/>
          <p:cNvSpPr/>
          <p:nvPr/>
        </p:nvSpPr>
        <p:spPr>
          <a:xfrm>
            <a:off x="4572000" y="2357280"/>
            <a:ext cx="2357280" cy="1643400"/>
          </a:xfrm>
          <a:custGeom>
            <a:avLst/>
            <a:gdLst>
              <a:gd name="textAreaLeft" fmla="*/ 349920 w 2357280"/>
              <a:gd name="textAreaRight" fmla="*/ 2007360 w 2357280"/>
              <a:gd name="textAreaTop" fmla="*/ 699480 h 1643400"/>
              <a:gd name="textAreaBottom" fmla="*/ 943920 h 1643400"/>
            </a:gdLst>
            <a:ahLst/>
            <a:rect l="textAreaLeft" t="textAreaTop" r="textAreaRight" b="textAreaBottom"/>
            <a:pathLst>
              <a:path w="21600" h="21600">
                <a:moveTo>
                  <a:pt x="0" y="9196"/>
                </a:moveTo>
                <a:lnTo>
                  <a:pt x="0" y="9196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2404"/>
                </a:lnTo>
                <a:lnTo>
                  <a:pt x="0" y="12404"/>
                </a:lnTo>
                <a:lnTo>
                  <a:pt x="3208" y="10800"/>
                </a:lnTo>
                <a:lnTo>
                  <a:pt x="0" y="9196"/>
                </a:lnTo>
                <a:close/>
              </a:path>
            </a:pathLst>
          </a:custGeom>
          <a:solidFill>
            <a:srgbClr val="56b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燕尾形箭头 13"/>
          <p:cNvSpPr/>
          <p:nvPr/>
        </p:nvSpPr>
        <p:spPr>
          <a:xfrm>
            <a:off x="6643800" y="2357280"/>
            <a:ext cx="2357280" cy="1643400"/>
          </a:xfrm>
          <a:custGeom>
            <a:avLst/>
            <a:gdLst>
              <a:gd name="textAreaLeft" fmla="*/ 349920 w 2357280"/>
              <a:gd name="textAreaRight" fmla="*/ 2007360 w 2357280"/>
              <a:gd name="textAreaTop" fmla="*/ 699480 h 1643400"/>
              <a:gd name="textAreaBottom" fmla="*/ 943920 h 1643400"/>
            </a:gdLst>
            <a:ahLst/>
            <a:rect l="textAreaLeft" t="textAreaTop" r="textAreaRight" b="textAreaBottom"/>
            <a:pathLst>
              <a:path w="21600" h="21600">
                <a:moveTo>
                  <a:pt x="0" y="9196"/>
                </a:moveTo>
                <a:lnTo>
                  <a:pt x="0" y="9196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2404"/>
                </a:lnTo>
                <a:lnTo>
                  <a:pt x="0" y="12404"/>
                </a:lnTo>
                <a:lnTo>
                  <a:pt x="3208" y="10800"/>
                </a:lnTo>
                <a:lnTo>
                  <a:pt x="0" y="9196"/>
                </a:lnTo>
                <a:close/>
              </a:path>
            </a:pathLst>
          </a:cu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3140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7283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521388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1068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空心弧 13"/>
          <p:cNvSpPr/>
          <p:nvPr/>
        </p:nvSpPr>
        <p:spPr>
          <a:xfrm flipV="1">
            <a:off x="2786040" y="1152000"/>
            <a:ext cx="3894120" cy="3894480"/>
          </a:xfrm>
          <a:custGeom>
            <a:avLst/>
            <a:gdLst/>
            <a:ahLst/>
            <a:rect l="l" t="t" r="r" b="b"/>
            <a:pathLst>
              <a:path w="3894137" h="3894138">
                <a:moveTo>
                  <a:pt x="0" y="1947062"/>
                </a:moveTo>
                <a:cubicBezTo>
                  <a:pt x="2" y="1425052"/>
                  <a:pt x="209613" y="924905"/>
                  <a:pt x="581789" y="558872"/>
                </a:cubicBezTo>
                <a:cubicBezTo>
                  <a:pt x="953965" y="192840"/>
                  <a:pt x="1457532" y="-8418"/>
                  <a:pt x="1979470" y="269"/>
                </a:cubicBezTo>
                <a:lnTo>
                  <a:pt x="1968414" y="664517"/>
                </a:lnTo>
                <a:cubicBezTo>
                  <a:pt x="1624561" y="658794"/>
                  <a:pt x="1292812" y="791383"/>
                  <a:pt x="1047622" y="1032525"/>
                </a:cubicBezTo>
                <a:cubicBezTo>
                  <a:pt x="802432" y="1273667"/>
                  <a:pt x="664340" y="1603164"/>
                  <a:pt x="664339" y="1947064"/>
                </a:cubicBezTo>
                <a:lnTo>
                  <a:pt x="0" y="1947062"/>
                </a:lnTo>
                <a:close/>
              </a:path>
            </a:pathLst>
          </a:custGeom>
          <a:solidFill>
            <a:srgbClr val="56b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空心弧 12"/>
          <p:cNvSpPr/>
          <p:nvPr/>
        </p:nvSpPr>
        <p:spPr>
          <a:xfrm flipH="1" flipV="1">
            <a:off x="2927880" y="1142280"/>
            <a:ext cx="3894120" cy="3894120"/>
          </a:xfrm>
          <a:custGeom>
            <a:avLst/>
            <a:gdLst/>
            <a:ahLst/>
            <a:rect l="l" t="t" r="r" b="b"/>
            <a:pathLst>
              <a:path w="3894137" h="3894138">
                <a:moveTo>
                  <a:pt x="0" y="1947062"/>
                </a:moveTo>
                <a:cubicBezTo>
                  <a:pt x="2" y="1425052"/>
                  <a:pt x="209613" y="924905"/>
                  <a:pt x="581789" y="558872"/>
                </a:cubicBezTo>
                <a:cubicBezTo>
                  <a:pt x="953965" y="192840"/>
                  <a:pt x="1457532" y="-8418"/>
                  <a:pt x="1979470" y="269"/>
                </a:cubicBezTo>
                <a:lnTo>
                  <a:pt x="1968414" y="664517"/>
                </a:lnTo>
                <a:cubicBezTo>
                  <a:pt x="1624561" y="658794"/>
                  <a:pt x="1292812" y="791383"/>
                  <a:pt x="1047622" y="1032525"/>
                </a:cubicBezTo>
                <a:cubicBezTo>
                  <a:pt x="802432" y="1273667"/>
                  <a:pt x="664340" y="1603164"/>
                  <a:pt x="664339" y="1947064"/>
                </a:cubicBezTo>
                <a:lnTo>
                  <a:pt x="0" y="1947062"/>
                </a:lnTo>
                <a:close/>
              </a:path>
            </a:pathLst>
          </a:cu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空心弧 11"/>
          <p:cNvSpPr/>
          <p:nvPr/>
        </p:nvSpPr>
        <p:spPr>
          <a:xfrm flipH="1">
            <a:off x="2937600" y="1071720"/>
            <a:ext cx="3894120" cy="3894120"/>
          </a:xfrm>
          <a:custGeom>
            <a:avLst/>
            <a:gdLst/>
            <a:ahLst/>
            <a:rect l="l" t="t" r="r" b="b"/>
            <a:pathLst>
              <a:path w="3894137" h="3894137">
                <a:moveTo>
                  <a:pt x="0" y="1947062"/>
                </a:moveTo>
                <a:cubicBezTo>
                  <a:pt x="2" y="1425052"/>
                  <a:pt x="209613" y="924905"/>
                  <a:pt x="581789" y="558872"/>
                </a:cubicBezTo>
                <a:cubicBezTo>
                  <a:pt x="953965" y="192840"/>
                  <a:pt x="1457532" y="-8418"/>
                  <a:pt x="1979470" y="269"/>
                </a:cubicBezTo>
                <a:lnTo>
                  <a:pt x="1968414" y="664517"/>
                </a:lnTo>
                <a:cubicBezTo>
                  <a:pt x="1624561" y="658794"/>
                  <a:pt x="1292812" y="791383"/>
                  <a:pt x="1047622" y="1032525"/>
                </a:cubicBezTo>
                <a:cubicBezTo>
                  <a:pt x="802432" y="1273667"/>
                  <a:pt x="664340" y="1603164"/>
                  <a:pt x="664339" y="1947064"/>
                </a:cubicBezTo>
                <a:lnTo>
                  <a:pt x="0" y="1947062"/>
                </a:lnTo>
                <a:close/>
              </a:path>
            </a:pathLst>
          </a:custGeom>
          <a:solidFill>
            <a:srgbClr val="56b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空心弧 10"/>
          <p:cNvSpPr/>
          <p:nvPr/>
        </p:nvSpPr>
        <p:spPr>
          <a:xfrm>
            <a:off x="2786040" y="1071720"/>
            <a:ext cx="3894120" cy="3894120"/>
          </a:xfrm>
          <a:custGeom>
            <a:avLst/>
            <a:gdLst/>
            <a:ahLst/>
            <a:rect l="l" t="t" r="r" b="b"/>
            <a:pathLst>
              <a:path w="3894137" h="3894137">
                <a:moveTo>
                  <a:pt x="0" y="1947062"/>
                </a:moveTo>
                <a:cubicBezTo>
                  <a:pt x="2" y="1425052"/>
                  <a:pt x="209613" y="924905"/>
                  <a:pt x="581789" y="558872"/>
                </a:cubicBezTo>
                <a:cubicBezTo>
                  <a:pt x="953965" y="192840"/>
                  <a:pt x="1457532" y="-8418"/>
                  <a:pt x="1979470" y="269"/>
                </a:cubicBezTo>
                <a:lnTo>
                  <a:pt x="1968414" y="664517"/>
                </a:lnTo>
                <a:cubicBezTo>
                  <a:pt x="1624561" y="658794"/>
                  <a:pt x="1292812" y="791383"/>
                  <a:pt x="1047622" y="1032525"/>
                </a:cubicBezTo>
                <a:cubicBezTo>
                  <a:pt x="802432" y="1273667"/>
                  <a:pt x="664340" y="1603164"/>
                  <a:pt x="664339" y="1947064"/>
                </a:cubicBezTo>
                <a:lnTo>
                  <a:pt x="0" y="1947062"/>
                </a:lnTo>
                <a:close/>
              </a:path>
            </a:pathLst>
          </a:cu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56408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27835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58550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2926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十字箭头 10"/>
          <p:cNvSpPr/>
          <p:nvPr/>
        </p:nvSpPr>
        <p:spPr>
          <a:xfrm>
            <a:off x="3071880" y="1428840"/>
            <a:ext cx="4000320" cy="4071960"/>
          </a:xfrm>
          <a:custGeom>
            <a:avLst/>
            <a:gdLst/>
            <a:ahLst/>
            <a:rect l="l" t="t" r="r" b="b"/>
            <a:pathLst>
              <a:path w="4000500" h="4071938">
                <a:moveTo>
                  <a:pt x="0" y="2035969"/>
                </a:moveTo>
                <a:lnTo>
                  <a:pt x="0" y="35719"/>
                </a:lnTo>
                <a:lnTo>
                  <a:pt x="0" y="2035969"/>
                </a:lnTo>
                <a:lnTo>
                  <a:pt x="2000250" y="2035969"/>
                </a:lnTo>
                <a:lnTo>
                  <a:pt x="2000250" y="0"/>
                </a:lnTo>
                <a:lnTo>
                  <a:pt x="0" y="0"/>
                </a:lnTo>
                <a:lnTo>
                  <a:pt x="2000250" y="0"/>
                </a:lnTo>
                <a:lnTo>
                  <a:pt x="4000500" y="0"/>
                </a:lnTo>
                <a:lnTo>
                  <a:pt x="2000250" y="0"/>
                </a:lnTo>
                <a:lnTo>
                  <a:pt x="2000250" y="2035969"/>
                </a:lnTo>
                <a:lnTo>
                  <a:pt x="4000500" y="2035969"/>
                </a:lnTo>
                <a:lnTo>
                  <a:pt x="4000500" y="35719"/>
                </a:lnTo>
                <a:lnTo>
                  <a:pt x="4000500" y="2035969"/>
                </a:lnTo>
                <a:lnTo>
                  <a:pt x="4000500" y="4036219"/>
                </a:lnTo>
                <a:lnTo>
                  <a:pt x="4000500" y="2035969"/>
                </a:lnTo>
                <a:lnTo>
                  <a:pt x="2000250" y="2035969"/>
                </a:lnTo>
                <a:lnTo>
                  <a:pt x="2000250" y="4071938"/>
                </a:lnTo>
                <a:lnTo>
                  <a:pt x="4000500" y="4071938"/>
                </a:lnTo>
                <a:lnTo>
                  <a:pt x="2000250" y="4071938"/>
                </a:lnTo>
                <a:lnTo>
                  <a:pt x="0" y="4071938"/>
                </a:lnTo>
                <a:lnTo>
                  <a:pt x="2000250" y="4071938"/>
                </a:lnTo>
                <a:lnTo>
                  <a:pt x="2000250" y="2035969"/>
                </a:lnTo>
                <a:lnTo>
                  <a:pt x="0" y="2035969"/>
                </a:lnTo>
                <a:lnTo>
                  <a:pt x="0" y="4036219"/>
                </a:lnTo>
                <a:lnTo>
                  <a:pt x="0" y="2035969"/>
                </a:lnTo>
                <a:close/>
              </a:path>
            </a:pathLst>
          </a:custGeom>
          <a:solidFill>
            <a:srgbClr val="56b73a"/>
          </a:solidFill>
          <a:ln w="25560">
            <a:solidFill>
              <a:srgbClr val="56b7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"/>
          <p:cNvSpPr/>
          <p:nvPr/>
        </p:nvSpPr>
        <p:spPr>
          <a:xfrm>
            <a:off x="3143160" y="1500120"/>
            <a:ext cx="1857600" cy="1857600"/>
          </a:xfrm>
          <a:prstGeom prst="rect">
            <a:avLst/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5143680" y="1500120"/>
            <a:ext cx="1857240" cy="1857600"/>
          </a:xfrm>
          <a:prstGeom prst="rect">
            <a:avLst/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3143160" y="3571920"/>
            <a:ext cx="1857600" cy="1857240"/>
          </a:xfrm>
          <a:prstGeom prst="rect">
            <a:avLst/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5143680" y="3571920"/>
            <a:ext cx="1857240" cy="1857240"/>
          </a:xfrm>
          <a:prstGeom prst="rect">
            <a:avLst/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3640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55695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5569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5"/>
          <p:cNvSpPr/>
          <p:nvPr/>
        </p:nvSpPr>
        <p:spPr>
          <a:xfrm>
            <a:off x="34977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手杖形箭头 11"/>
          <p:cNvSpPr/>
          <p:nvPr/>
        </p:nvSpPr>
        <p:spPr>
          <a:xfrm>
            <a:off x="928800" y="1714680"/>
            <a:ext cx="2214360" cy="1571400"/>
          </a:xfrm>
          <a:custGeom>
            <a:avLst/>
            <a:gdLst/>
            <a:ahLst/>
            <a:rect l="l" t="t" r="r" b="b"/>
            <a:pathLst>
              <a:path w="2214562" h="1571625">
                <a:moveTo>
                  <a:pt x="0" y="1571625"/>
                </a:moveTo>
                <a:lnTo>
                  <a:pt x="0" y="687586"/>
                </a:lnTo>
                <a:cubicBezTo>
                  <a:pt x="0" y="307843"/>
                  <a:pt x="307843" y="0"/>
                  <a:pt x="687586" y="0"/>
                </a:cubicBezTo>
                <a:lnTo>
                  <a:pt x="1455648" y="0"/>
                </a:lnTo>
                <a:cubicBezTo>
                  <a:pt x="1835391" y="0"/>
                  <a:pt x="2143234" y="307843"/>
                  <a:pt x="2143234" y="687586"/>
                </a:cubicBezTo>
                <a:lnTo>
                  <a:pt x="2143234" y="1178719"/>
                </a:lnTo>
                <a:lnTo>
                  <a:pt x="2214562" y="1178719"/>
                </a:lnTo>
                <a:lnTo>
                  <a:pt x="1821656" y="1178719"/>
                </a:lnTo>
                <a:lnTo>
                  <a:pt x="1428750" y="1178719"/>
                </a:lnTo>
                <a:lnTo>
                  <a:pt x="1500078" y="1178719"/>
                </a:lnTo>
                <a:lnTo>
                  <a:pt x="1500078" y="687586"/>
                </a:lnTo>
                <a:cubicBezTo>
                  <a:pt x="1500078" y="663048"/>
                  <a:pt x="1480186" y="643156"/>
                  <a:pt x="1455648" y="643156"/>
                </a:cubicBezTo>
                <a:lnTo>
                  <a:pt x="687586" y="643156"/>
                </a:lnTo>
                <a:cubicBezTo>
                  <a:pt x="663048" y="643156"/>
                  <a:pt x="643156" y="663048"/>
                  <a:pt x="643156" y="687586"/>
                </a:cubicBezTo>
                <a:lnTo>
                  <a:pt x="643156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8cc5d0"/>
          </a:solidFill>
          <a:ln w="25560">
            <a:solidFill>
              <a:srgbClr val="8cc5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手杖形箭头 12"/>
          <p:cNvSpPr/>
          <p:nvPr/>
        </p:nvSpPr>
        <p:spPr>
          <a:xfrm flipH="1" flipV="1">
            <a:off x="856800" y="3000240"/>
            <a:ext cx="2214720" cy="1571760"/>
          </a:xfrm>
          <a:custGeom>
            <a:avLst/>
            <a:gdLst/>
            <a:ahLst/>
            <a:rect l="l" t="t" r="r" b="b"/>
            <a:pathLst>
              <a:path w="2214563" h="1571625">
                <a:moveTo>
                  <a:pt x="0" y="1571625"/>
                </a:moveTo>
                <a:lnTo>
                  <a:pt x="0" y="687586"/>
                </a:lnTo>
                <a:cubicBezTo>
                  <a:pt x="0" y="307843"/>
                  <a:pt x="307843" y="0"/>
                  <a:pt x="687586" y="0"/>
                </a:cubicBezTo>
                <a:lnTo>
                  <a:pt x="1455649" y="0"/>
                </a:lnTo>
                <a:cubicBezTo>
                  <a:pt x="1835392" y="0"/>
                  <a:pt x="2143235" y="307843"/>
                  <a:pt x="2143235" y="687586"/>
                </a:cubicBezTo>
                <a:lnTo>
                  <a:pt x="2143235" y="1178719"/>
                </a:lnTo>
                <a:lnTo>
                  <a:pt x="2214563" y="1178719"/>
                </a:lnTo>
                <a:lnTo>
                  <a:pt x="1821657" y="1178719"/>
                </a:lnTo>
                <a:lnTo>
                  <a:pt x="1428751" y="1178719"/>
                </a:lnTo>
                <a:lnTo>
                  <a:pt x="1500079" y="1178719"/>
                </a:lnTo>
                <a:lnTo>
                  <a:pt x="1500079" y="687586"/>
                </a:lnTo>
                <a:cubicBezTo>
                  <a:pt x="1500079" y="663048"/>
                  <a:pt x="1480187" y="643156"/>
                  <a:pt x="1455649" y="643156"/>
                </a:cubicBezTo>
                <a:lnTo>
                  <a:pt x="687586" y="643156"/>
                </a:lnTo>
                <a:cubicBezTo>
                  <a:pt x="663048" y="643156"/>
                  <a:pt x="643156" y="663048"/>
                  <a:pt x="643156" y="687586"/>
                </a:cubicBezTo>
                <a:lnTo>
                  <a:pt x="643156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56b73a"/>
          </a:solidFill>
          <a:ln w="25560">
            <a:solidFill>
              <a:srgbClr val="56b7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手杖形箭头 13"/>
          <p:cNvSpPr/>
          <p:nvPr/>
        </p:nvSpPr>
        <p:spPr>
          <a:xfrm>
            <a:off x="6215040" y="1785960"/>
            <a:ext cx="2214720" cy="1571760"/>
          </a:xfrm>
          <a:custGeom>
            <a:avLst/>
            <a:gdLst/>
            <a:ahLst/>
            <a:rect l="l" t="t" r="r" b="b"/>
            <a:pathLst>
              <a:path w="2214562" h="1571625">
                <a:moveTo>
                  <a:pt x="0" y="1571625"/>
                </a:moveTo>
                <a:lnTo>
                  <a:pt x="0" y="687586"/>
                </a:lnTo>
                <a:cubicBezTo>
                  <a:pt x="0" y="307843"/>
                  <a:pt x="307843" y="0"/>
                  <a:pt x="687586" y="0"/>
                </a:cubicBezTo>
                <a:lnTo>
                  <a:pt x="1455648" y="0"/>
                </a:lnTo>
                <a:cubicBezTo>
                  <a:pt x="1835391" y="0"/>
                  <a:pt x="2143234" y="307843"/>
                  <a:pt x="2143234" y="687586"/>
                </a:cubicBezTo>
                <a:lnTo>
                  <a:pt x="2143234" y="1178719"/>
                </a:lnTo>
                <a:lnTo>
                  <a:pt x="2214562" y="1178719"/>
                </a:lnTo>
                <a:lnTo>
                  <a:pt x="1821656" y="1178719"/>
                </a:lnTo>
                <a:lnTo>
                  <a:pt x="1428750" y="1178719"/>
                </a:lnTo>
                <a:lnTo>
                  <a:pt x="1500078" y="1178719"/>
                </a:lnTo>
                <a:lnTo>
                  <a:pt x="1500078" y="687586"/>
                </a:lnTo>
                <a:cubicBezTo>
                  <a:pt x="1500078" y="663048"/>
                  <a:pt x="1480186" y="643156"/>
                  <a:pt x="1455648" y="643156"/>
                </a:cubicBezTo>
                <a:lnTo>
                  <a:pt x="687586" y="643156"/>
                </a:lnTo>
                <a:cubicBezTo>
                  <a:pt x="663048" y="643156"/>
                  <a:pt x="643156" y="663048"/>
                  <a:pt x="643156" y="687586"/>
                </a:cubicBezTo>
                <a:lnTo>
                  <a:pt x="643156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8cc5d0"/>
          </a:solidFill>
          <a:ln w="25560">
            <a:solidFill>
              <a:srgbClr val="8cc5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手杖形箭头 14"/>
          <p:cNvSpPr/>
          <p:nvPr/>
        </p:nvSpPr>
        <p:spPr>
          <a:xfrm flipH="1" flipV="1">
            <a:off x="6143040" y="3071160"/>
            <a:ext cx="2214360" cy="1571400"/>
          </a:xfrm>
          <a:custGeom>
            <a:avLst/>
            <a:gdLst/>
            <a:ahLst/>
            <a:rect l="l" t="t" r="r" b="b"/>
            <a:pathLst>
              <a:path w="2214563" h="1571625">
                <a:moveTo>
                  <a:pt x="0" y="1571625"/>
                </a:moveTo>
                <a:lnTo>
                  <a:pt x="0" y="687586"/>
                </a:lnTo>
                <a:cubicBezTo>
                  <a:pt x="0" y="307843"/>
                  <a:pt x="307843" y="0"/>
                  <a:pt x="687586" y="0"/>
                </a:cubicBezTo>
                <a:lnTo>
                  <a:pt x="1455649" y="0"/>
                </a:lnTo>
                <a:cubicBezTo>
                  <a:pt x="1835392" y="0"/>
                  <a:pt x="2143235" y="307843"/>
                  <a:pt x="2143235" y="687586"/>
                </a:cubicBezTo>
                <a:lnTo>
                  <a:pt x="2143235" y="1178719"/>
                </a:lnTo>
                <a:lnTo>
                  <a:pt x="2214563" y="1178719"/>
                </a:lnTo>
                <a:lnTo>
                  <a:pt x="1821657" y="1178719"/>
                </a:lnTo>
                <a:lnTo>
                  <a:pt x="1428751" y="1178719"/>
                </a:lnTo>
                <a:lnTo>
                  <a:pt x="1500079" y="1178719"/>
                </a:lnTo>
                <a:lnTo>
                  <a:pt x="1500079" y="687586"/>
                </a:lnTo>
                <a:cubicBezTo>
                  <a:pt x="1500079" y="663048"/>
                  <a:pt x="1480187" y="643156"/>
                  <a:pt x="1455649" y="643156"/>
                </a:cubicBezTo>
                <a:lnTo>
                  <a:pt x="687586" y="643156"/>
                </a:lnTo>
                <a:cubicBezTo>
                  <a:pt x="663048" y="643156"/>
                  <a:pt x="643156" y="663048"/>
                  <a:pt x="643156" y="687586"/>
                </a:cubicBezTo>
                <a:lnTo>
                  <a:pt x="643156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56b73a"/>
          </a:solidFill>
          <a:ln w="25560">
            <a:solidFill>
              <a:srgbClr val="56b7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手杖形箭头 15"/>
          <p:cNvSpPr/>
          <p:nvPr/>
        </p:nvSpPr>
        <p:spPr>
          <a:xfrm flipV="1">
            <a:off x="3571920" y="3143160"/>
            <a:ext cx="2214360" cy="1571760"/>
          </a:xfrm>
          <a:custGeom>
            <a:avLst/>
            <a:gdLst/>
            <a:ahLst/>
            <a:rect l="l" t="t" r="r" b="b"/>
            <a:pathLst>
              <a:path w="2214563" h="1571625">
                <a:moveTo>
                  <a:pt x="0" y="1571625"/>
                </a:moveTo>
                <a:lnTo>
                  <a:pt x="0" y="687586"/>
                </a:lnTo>
                <a:cubicBezTo>
                  <a:pt x="0" y="307843"/>
                  <a:pt x="307843" y="0"/>
                  <a:pt x="687586" y="0"/>
                </a:cubicBezTo>
                <a:lnTo>
                  <a:pt x="1455649" y="0"/>
                </a:lnTo>
                <a:cubicBezTo>
                  <a:pt x="1835392" y="0"/>
                  <a:pt x="2143235" y="307843"/>
                  <a:pt x="2143235" y="687586"/>
                </a:cubicBezTo>
                <a:lnTo>
                  <a:pt x="2143235" y="1178719"/>
                </a:lnTo>
                <a:lnTo>
                  <a:pt x="2214563" y="1178719"/>
                </a:lnTo>
                <a:lnTo>
                  <a:pt x="1821657" y="1178719"/>
                </a:lnTo>
                <a:lnTo>
                  <a:pt x="1428751" y="1178719"/>
                </a:lnTo>
                <a:lnTo>
                  <a:pt x="1500079" y="1178719"/>
                </a:lnTo>
                <a:lnTo>
                  <a:pt x="1500079" y="687586"/>
                </a:lnTo>
                <a:cubicBezTo>
                  <a:pt x="1500079" y="663048"/>
                  <a:pt x="1480187" y="643156"/>
                  <a:pt x="1455649" y="643156"/>
                </a:cubicBezTo>
                <a:lnTo>
                  <a:pt x="687586" y="643156"/>
                </a:lnTo>
                <a:cubicBezTo>
                  <a:pt x="663048" y="643156"/>
                  <a:pt x="643156" y="663048"/>
                  <a:pt x="643156" y="687586"/>
                </a:cubicBezTo>
                <a:lnTo>
                  <a:pt x="643156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8cc5d0"/>
          </a:solidFill>
          <a:ln w="25560">
            <a:solidFill>
              <a:srgbClr val="8cc5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手杖形箭头 16"/>
          <p:cNvSpPr/>
          <p:nvPr/>
        </p:nvSpPr>
        <p:spPr>
          <a:xfrm flipH="1">
            <a:off x="3500280" y="1785960"/>
            <a:ext cx="2214720" cy="1571760"/>
          </a:xfrm>
          <a:custGeom>
            <a:avLst/>
            <a:gdLst/>
            <a:ahLst/>
            <a:rect l="l" t="t" r="r" b="b"/>
            <a:pathLst>
              <a:path w="2214562" h="1571625">
                <a:moveTo>
                  <a:pt x="0" y="1571625"/>
                </a:moveTo>
                <a:lnTo>
                  <a:pt x="0" y="687586"/>
                </a:lnTo>
                <a:cubicBezTo>
                  <a:pt x="0" y="307843"/>
                  <a:pt x="307843" y="0"/>
                  <a:pt x="687586" y="0"/>
                </a:cubicBezTo>
                <a:lnTo>
                  <a:pt x="1455648" y="0"/>
                </a:lnTo>
                <a:cubicBezTo>
                  <a:pt x="1835391" y="0"/>
                  <a:pt x="2143234" y="307843"/>
                  <a:pt x="2143234" y="687586"/>
                </a:cubicBezTo>
                <a:lnTo>
                  <a:pt x="2143234" y="1178719"/>
                </a:lnTo>
                <a:lnTo>
                  <a:pt x="2214562" y="1178719"/>
                </a:lnTo>
                <a:lnTo>
                  <a:pt x="1821656" y="1178719"/>
                </a:lnTo>
                <a:lnTo>
                  <a:pt x="1428750" y="1178719"/>
                </a:lnTo>
                <a:lnTo>
                  <a:pt x="1500078" y="1178719"/>
                </a:lnTo>
                <a:lnTo>
                  <a:pt x="1500078" y="687586"/>
                </a:lnTo>
                <a:cubicBezTo>
                  <a:pt x="1500078" y="663048"/>
                  <a:pt x="1480186" y="643156"/>
                  <a:pt x="1455648" y="643156"/>
                </a:cubicBezTo>
                <a:lnTo>
                  <a:pt x="687586" y="643156"/>
                </a:lnTo>
                <a:cubicBezTo>
                  <a:pt x="663048" y="643156"/>
                  <a:pt x="643156" y="663048"/>
                  <a:pt x="643156" y="687586"/>
                </a:cubicBezTo>
                <a:lnTo>
                  <a:pt x="643156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56b73a"/>
          </a:solidFill>
          <a:ln w="25560">
            <a:solidFill>
              <a:srgbClr val="56b7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1425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6783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4212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六边形 15"/>
          <p:cNvSpPr/>
          <p:nvPr/>
        </p:nvSpPr>
        <p:spPr>
          <a:xfrm flipH="1">
            <a:off x="5500080" y="1428840"/>
            <a:ext cx="2428920" cy="4071960"/>
          </a:xfrm>
          <a:prstGeom prst="hexagon">
            <a:avLst>
              <a:gd name="adj" fmla="val 9148"/>
              <a:gd name="vf" fmla="val 115470"/>
            </a:avLst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六边形 14"/>
          <p:cNvSpPr/>
          <p:nvPr/>
        </p:nvSpPr>
        <p:spPr>
          <a:xfrm>
            <a:off x="1714680" y="1428840"/>
            <a:ext cx="2428560" cy="4071960"/>
          </a:xfrm>
          <a:prstGeom prst="hexagon">
            <a:avLst>
              <a:gd name="adj" fmla="val 9148"/>
              <a:gd name="vf" fmla="val 115470"/>
            </a:avLst>
          </a:prstGeom>
          <a:solidFill>
            <a:srgbClr val="8cc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六边形 13"/>
          <p:cNvSpPr/>
          <p:nvPr/>
        </p:nvSpPr>
        <p:spPr>
          <a:xfrm>
            <a:off x="3643200" y="1428840"/>
            <a:ext cx="2428920" cy="4071960"/>
          </a:xfrm>
          <a:prstGeom prst="hexagon">
            <a:avLst>
              <a:gd name="adj" fmla="val 9148"/>
              <a:gd name="vf" fmla="val 115470"/>
            </a:avLst>
          </a:prstGeom>
          <a:solidFill>
            <a:srgbClr val="56b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64980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4426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1997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</cp:lastModifiedBy>
  <dcterms:modified xsi:type="dcterms:W3CDTF">2015-07-15T09:02:54Z</dcterms:modified>
  <cp:revision>2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