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3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752-FCC0-449F-BD4E-F2809000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F04-D3CD-467A-9680-AD82374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306-D9C5-4385-8BEC-B4EBADAF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DC4-769D-4B6F-9D1C-515EF7BD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961-E001-4F4B-8479-0F1BE1D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D23-67B7-4EC7-BD62-E59F9B46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00C-D1DD-4652-8CEB-196DB316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AAA-08E3-4DED-A899-7E6ABAF0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0EB-1C5A-4ACA-A30A-5A50FC37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66D-013A-411C-AC24-16C84EA3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212-5532-4553-9BFB-F3B8DF8B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240-A28C-4E4D-A9B3-941284D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8E35-A04C-4B1D-A9D3-819043C3B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tupian.baike.com/a0_86_16_01100000000031113601628747286_gif.html?prd=zhengwenye_left_neirong_tupian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6115140977542612587&amp;pos=169&amp;num=36&amp;q=&#27861;&#22269;&#32654;&#39135;&amp;fm=360onebox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.jike.com/detail?did=3198229019297879099&amp;pos=13&amp;num=36&amp;q=&#27861;&#22269;&#32654;&#39135;&amp;fm=360onebox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.jike.com/detail?did=4950174311433729523&amp;pos=20&amp;num=36&amp;q=&#27861;&#22269;&#32654;&#39135;&amp;fm=360onebox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upian.baike.com/a1_82_15_01100000000031113601558436282_jpg.html?prd=zhengwenye_left_neirong_tupia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333360"/>
            <a:ext cx="4824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法国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708360" y="4149720"/>
            <a:ext cx="4967280" cy="21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Fran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 rot="5400000">
            <a:off x="6431400" y="1391040"/>
            <a:ext cx="4103640" cy="1320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凯旋门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4390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凯旋门坐落在巴黎市中心星形广场（现称戴高乐将军广场）的 中央，是法国为纪念拿破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0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月在奥斯特尔里茨战役中打败俄、奥联军而建的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条大街以凯旋门为中心，向四周辐射，气势磅礴，形似星光四射。工程由建筑师夏尔格兰设计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0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月奠基，历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个寒暑，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3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月落成。凯旋门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，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，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。它四面有门，中心拱门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，门楼以两座高墩为支柱，中间有电梯上下。在拱形圆顶之上有三层围廊，最高一层是陈列室，这里展示着有关凯旋门的各种历史文物以及拿破仑生平事迹的图片；第二层收藏着各种法国勋章、奖章；最低一层则是凯旋门的警卫处和会计室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24000" y="260280"/>
            <a:ext cx="718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猜猜这个建筑物是什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hangeTheId-img-7" descr="01100000000031113601628747286_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4276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alt"/>
          <p:cNvPicPr/>
          <p:nvPr/>
        </p:nvPicPr>
        <p:blipFill>
          <a:blip r:embed="rId1"/>
          <a:stretch/>
        </p:blipFill>
        <p:spPr>
          <a:xfrm>
            <a:off x="0" y="0"/>
            <a:ext cx="5305320" cy="3981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4951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协和广场建于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57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年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6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年取名“路易十五广场”，广场中心曾塑有路易十五骑像。大革命时期被称为“革命广场”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95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年改称“协和广场”。后经建筑师希托弗主持整修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年，于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4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年最后定型。广场呈八角形，中央骄傲地矗立着那座有三千三百年历史的埃及方尖碑，那是由埃及总督赠送给查理五世的。方尖碑高二十三米，重二百三十吨，塔身是由整块的粉红色花岗岩雕出来的，上面刻满了埃及象形文字，主要内容是赞颂埃及法老拉美西斯二世的丰功伟绩。方尖碑的底座基石上记载着将之运到这里和树立起来的艰难过程。广场的四周有八座雕像，它象征着法国的八大城市。这里还有花圃、喷泉和阅兵台，如今成了巴黎市民休息、游览的地方。东北是歌剧院，是拿破仑第三时期修建的豪华建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 rot="5400000">
            <a:off x="5556600" y="1076760"/>
            <a:ext cx="3240000" cy="175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协和广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50920" y="26028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凡尔赛宫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alt"/>
          <p:cNvPicPr/>
          <p:nvPr/>
        </p:nvPicPr>
        <p:blipFill>
          <a:blip r:embed="rId1"/>
          <a:stretch/>
        </p:blipFill>
        <p:spPr>
          <a:xfrm>
            <a:off x="0" y="0"/>
            <a:ext cx="5796000" cy="3860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4938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亚利山大三世桥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落成，有世界最美的大桥之称，全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的桥身由一个桥拱组成，桥身较低是为了不影响香榭丽舍和荣军院的视野。作为当时法俄友谊的象征，桥以它的奠基人、沙皇尼古拉二世的父亲亚利山大三世的名字命名。桥的两端、两侧，各有一个巨大的石柱，石柱上是镀铜骑士群雕像，飞马振翼欲扬，非常生动，是极佳的艺术品。桥的每一个入口都竖着高高的角柱。桥身是一群水生动植物图案与一组花环图案；桥上，做工精致的金属路灯在夜间更添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972400" y="189000"/>
            <a:ext cx="1277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亚历山大三世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lt"/>
          <p:cNvPicPr/>
          <p:nvPr/>
        </p:nvPicPr>
        <p:blipFill>
          <a:blip r:embed="rId1"/>
          <a:stretch/>
        </p:blipFill>
        <p:spPr>
          <a:xfrm>
            <a:off x="0" y="0"/>
            <a:ext cx="5219640" cy="3262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 rot="1258800">
            <a:off x="6057720" y="126756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阿尔萨斯“葡萄酒之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4138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阿尔萨斯是法国最古老的葡萄种植区之一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是“葡萄酒之路”的五十周年纪念。这里酿造葡萄酒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5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年的历史，悠久的葡萄种植传统造就了阿尔萨斯地区山坡和农庄的独特风光。从北部的马兰海姆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lenhei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到南部的但恩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an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，众多的葡萄园和小市镇分布在一片片的丘陵地带，“葡萄酒之路”邀请您来欣赏这里特别的文化遗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lt"/>
          <p:cNvPicPr/>
          <p:nvPr/>
        </p:nvPicPr>
        <p:blipFill>
          <a:blip r:embed="rId2"/>
          <a:stretch/>
        </p:blipFill>
        <p:spPr>
          <a:xfrm>
            <a:off x="0" y="0"/>
            <a:ext cx="5305320" cy="3990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4491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里拥有全球最大的滑雪埸地，总面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,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方公里，这里的雪坡和越野赛道曾举办三次奥林匹克运动会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2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夏慕尼冬季奥运会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格勒诺布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Grenoble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冬季奥运会以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阿尔维贝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lbertville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冬季奥运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247440" y="980640"/>
            <a:ext cx="229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阿尔卑斯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3"/>
          <p:cNvSpPr txBox="1"/>
          <p:nvPr/>
        </p:nvSpPr>
        <p:spPr>
          <a:xfrm>
            <a:off x="900000" y="1197000"/>
            <a:ext cx="7201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法国美食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d_overview" descr="get?name=T1e7bqB5DL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071880" cy="3789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get?name=T1IOLkBCLX1RCvBVd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0"/>
            <a:ext cx="3780000" cy="3414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get?name=T1UZHsBQE_1RCvBVd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027320"/>
            <a:ext cx="3780000" cy="2830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get?name=T1izLkB_bC1RCvBVdK"/>
          <p:cNvPicPr/>
          <p:nvPr/>
        </p:nvPicPr>
        <p:blipFill>
          <a:blip r:embed="rId7"/>
          <a:stretch/>
        </p:blipFill>
        <p:spPr>
          <a:xfrm>
            <a:off x="4572000" y="3506760"/>
            <a:ext cx="45720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get?name=T1MG2TBXWQ1RCvBVdK"/>
          <p:cNvPicPr/>
          <p:nvPr/>
        </p:nvPicPr>
        <p:blipFill>
          <a:blip r:embed="rId1"/>
          <a:stretch/>
        </p:blipFill>
        <p:spPr>
          <a:xfrm>
            <a:off x="0" y="0"/>
            <a:ext cx="3492360" cy="3325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get?name=T1vsKYBjKb1RCvBVdK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34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get?name=T1K7dYB5CP1RCvBVdK"/>
          <p:cNvPicPr/>
          <p:nvPr/>
        </p:nvPicPr>
        <p:blipFill>
          <a:blip r:embed="rId3"/>
          <a:stretch/>
        </p:blipFill>
        <p:spPr>
          <a:xfrm>
            <a:off x="0" y="4076640"/>
            <a:ext cx="3635280" cy="278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get?name=T1kSVrBXb51RCvBVdK"/>
          <p:cNvPicPr/>
          <p:nvPr/>
        </p:nvPicPr>
        <p:blipFill>
          <a:blip r:embed="rId4"/>
          <a:stretch/>
        </p:blipFill>
        <p:spPr>
          <a:xfrm>
            <a:off x="5219640" y="3919680"/>
            <a:ext cx="39243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get?name=T1M73yBTKC1RCvBVdK"/>
          <p:cNvPicPr/>
          <p:nvPr/>
        </p:nvPicPr>
        <p:blipFill>
          <a:blip r:embed="rId1"/>
          <a:stretch/>
        </p:blipFill>
        <p:spPr>
          <a:xfrm>
            <a:off x="0" y="0"/>
            <a:ext cx="4284720" cy="2816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get?name=T1V02TBbDT1RCvBVdK"/>
          <p:cNvPicPr/>
          <p:nvPr/>
        </p:nvPicPr>
        <p:blipFill>
          <a:blip r:embed="rId2"/>
          <a:stretch/>
        </p:blipFill>
        <p:spPr>
          <a:xfrm>
            <a:off x="0" y="3213000"/>
            <a:ext cx="3098880" cy="364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get?name=T1LegsBybb1RCvBVdK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297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get?name=T1pAbZB5h71RCvBVdK"/>
          <p:cNvPicPr/>
          <p:nvPr/>
        </p:nvPicPr>
        <p:blipFill>
          <a:blip r:embed="rId4"/>
          <a:stretch/>
        </p:blipFill>
        <p:spPr>
          <a:xfrm>
            <a:off x="4284720" y="3633840"/>
            <a:ext cx="48592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get?name=T1o6dZBmK_1RCvBVdK"/>
          <p:cNvPicPr/>
          <p:nvPr/>
        </p:nvPicPr>
        <p:blipFill>
          <a:blip r:embed="rId1"/>
          <a:stretch/>
        </p:blipFill>
        <p:spPr>
          <a:xfrm>
            <a:off x="0" y="0"/>
            <a:ext cx="4788000" cy="300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get?name=T1MOBTBQVX1RCvBVdK"/>
          <p:cNvPicPr/>
          <p:nvPr/>
        </p:nvPicPr>
        <p:blipFill>
          <a:blip r:embed="rId2"/>
          <a:stretch/>
        </p:blipFill>
        <p:spPr>
          <a:xfrm>
            <a:off x="0" y="4027320"/>
            <a:ext cx="3780000" cy="283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get?name=T1NiK2BjEQ1RCvBVdK"/>
          <p:cNvPicPr/>
          <p:nvPr/>
        </p:nvPicPr>
        <p:blipFill>
          <a:blip r:embed="rId3"/>
          <a:stretch/>
        </p:blipFill>
        <p:spPr>
          <a:xfrm>
            <a:off x="4356000" y="3273480"/>
            <a:ext cx="4788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angeTheId-img-0" descr="法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740040" cy="4149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530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法国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nc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，全称为法兰西共和国，现在是法兰西第五共和国，位于欧洲西部，与比利时、卢森堡、德国、瑞士、意大利、摩纳哥、安道尔和西班牙接壤，隔英吉利海峡与英国隔海相望。法国是第一、第二次世界大战的主要战胜国，因而成为联合国安理会常任理事国，对安理会议案拥有否决权。法国亦是欧盟和北约创始会员国之一，八国集团之一和欧洲四大经济体之一，亦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申根公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成员国。首都巴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4211640" y="1052640"/>
            <a:ext cx="432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法国简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get?name=T1rN_YB7Zm1RCvBVdK"/>
          <p:cNvPicPr/>
          <p:nvPr/>
        </p:nvPicPr>
        <p:blipFill>
          <a:blip r:embed="rId1"/>
          <a:stretch/>
        </p:blipFill>
        <p:spPr>
          <a:xfrm>
            <a:off x="0" y="0"/>
            <a:ext cx="464328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get?name=T1KOBTBQYP1RCvBVdK"/>
          <p:cNvPicPr/>
          <p:nvPr/>
        </p:nvPicPr>
        <p:blipFill>
          <a:blip r:embed="rId2"/>
          <a:stretch/>
        </p:blipFill>
        <p:spPr>
          <a:xfrm>
            <a:off x="0" y="3649680"/>
            <a:ext cx="4284720" cy="320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get?name=T1x5CYBKV41RCvBVdK"/>
          <p:cNvPicPr/>
          <p:nvPr/>
        </p:nvPicPr>
        <p:blipFill>
          <a:blip r:embed="rId3"/>
          <a:stretch/>
        </p:blipFill>
        <p:spPr>
          <a:xfrm>
            <a:off x="6254640" y="0"/>
            <a:ext cx="2889360" cy="3645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get?name=T12"/>
          <p:cNvPicPr/>
          <p:nvPr/>
        </p:nvPicPr>
        <p:blipFill>
          <a:blip r:embed="rId4"/>
          <a:stretch/>
        </p:blipFill>
        <p:spPr>
          <a:xfrm>
            <a:off x="5508720" y="4137120"/>
            <a:ext cx="36352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get?name=T1s6dYBQET1RCvBVdK"/>
          <p:cNvPicPr/>
          <p:nvPr/>
        </p:nvPicPr>
        <p:blipFill>
          <a:blip r:embed="rId1"/>
          <a:stretch/>
        </p:blipFill>
        <p:spPr>
          <a:xfrm>
            <a:off x="0" y="0"/>
            <a:ext cx="2230560" cy="335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get?name=T1CKKZBXYv1RCvBVdK"/>
          <p:cNvPicPr/>
          <p:nvPr/>
        </p:nvPicPr>
        <p:blipFill>
          <a:blip r:embed="rId2"/>
          <a:stretch/>
        </p:blipFill>
        <p:spPr>
          <a:xfrm>
            <a:off x="6913440" y="0"/>
            <a:ext cx="2230560" cy="335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get?name=T161VRBTDX1RCvBVdK"/>
          <p:cNvPicPr/>
          <p:nvPr/>
        </p:nvPicPr>
        <p:blipFill>
          <a:blip r:embed="rId3"/>
          <a:stretch/>
        </p:blipFill>
        <p:spPr>
          <a:xfrm>
            <a:off x="0" y="4149720"/>
            <a:ext cx="1798560" cy="270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get?name=T1x"/>
          <p:cNvPicPr/>
          <p:nvPr/>
        </p:nvPicPr>
        <p:blipFill>
          <a:blip r:embed="rId4"/>
          <a:stretch/>
        </p:blipFill>
        <p:spPr>
          <a:xfrm>
            <a:off x="5364000" y="3851280"/>
            <a:ext cx="3780000" cy="300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get?name=T1WE_1B7Y_1RCvBVdK"/>
          <p:cNvPicPr/>
          <p:nvPr/>
        </p:nvPicPr>
        <p:blipFill>
          <a:blip r:embed="rId5"/>
          <a:stretch/>
        </p:blipFill>
        <p:spPr>
          <a:xfrm>
            <a:off x="2700360" y="0"/>
            <a:ext cx="3292560" cy="3573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get?name=T1YwxMBmD51RCvBVdK"/>
          <p:cNvPicPr/>
          <p:nvPr/>
        </p:nvPicPr>
        <p:blipFill>
          <a:blip r:embed="rId6"/>
          <a:stretch/>
        </p:blipFill>
        <p:spPr>
          <a:xfrm>
            <a:off x="2050920" y="4102200"/>
            <a:ext cx="2952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900000" y="1557360"/>
            <a:ext cx="75596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at’s all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395280" y="1628640"/>
            <a:ext cx="8029440" cy="333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法国美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法国巴黎著名风景集锦——塞纳河之一"/>
          <p:cNvPicPr/>
          <p:nvPr/>
        </p:nvPicPr>
        <p:blipFill>
          <a:blip r:embed="rId1"/>
          <a:stretch/>
        </p:blipFill>
        <p:spPr>
          <a:xfrm>
            <a:off x="0" y="0"/>
            <a:ext cx="4932360" cy="3705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0" y="4843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塞纳河发源于朗格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Langres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原（海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7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米，）全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7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公里，流经的巴黎盆地是法国最富饶的农业地区。塞纳河从盆地东南流向西北，到盆地中部平坦地区，流速减缓，形成曲河，穿过巴黎市中心。巴黎就是在塞纳河城岛及其两岸逐步发展起来的。现在巴黎市沿塞纳河十多公里都是石砌码头和宽阔的堤岸，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座精美的桥梁横跨河上，高楼大厦排列于两岸，倒影入水，景色十分美丽壮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4755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塞纳河名称的来源：塞纳河的河源，距巴黎东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7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公里。在一片海拔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7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米的石灰岩丘陵地带，一个狭窄山谷里有一条小溪，沿溪而上有一个山洞。洞口不高，是人工建筑的，门前没有栅栏。洞里有一尊女神雕像，她白衣素裹，半躺半卧，手里捧着水瓶，嘴角挂着微笑，神色安祥，姿态优美。小溪就从这位女神的背后悄悄流出来。显而易见，塞纳河是以泉水为源的。当地的高卢人传说，这位女神名塞纳，是一位降水女神，塞纳河就以她的名字为名。考古学家根据此地出土的木制人断定，塞纳女神至迟在公元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世纪已降临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5435640" y="476280"/>
            <a:ext cx="320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塞纳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5148360" y="692280"/>
            <a:ext cx="348300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塞纳河名称由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lt"/>
          <p:cNvPicPr/>
          <p:nvPr/>
        </p:nvPicPr>
        <p:blipFill>
          <a:blip r:embed="rId1"/>
          <a:stretch/>
        </p:blipFill>
        <p:spPr>
          <a:xfrm>
            <a:off x="0" y="0"/>
            <a:ext cx="7093080" cy="5345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571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埃菲尔铁塔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8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动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年完成。铁塔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三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71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级台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公用钢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吨。该塔为隆重纪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78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法国资产阶级革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周年而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 rot="5400000">
            <a:off x="6065640" y="2079360"/>
            <a:ext cx="4321080" cy="14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埃菲尔铁塔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466920" y="-36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瓜德罗普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194000" y="729000"/>
            <a:ext cx="49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法国的海外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旅游胜地。属法属安的列群岛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“加勒比的绿宝石”之称。岛上有令箭花古堡、体育中心戈谢尔、自然公园、大苏弗里埃尔火山、教堂等旅游景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alt"/>
          <p:cNvPicPr/>
          <p:nvPr/>
        </p:nvPicPr>
        <p:blipFill>
          <a:blip r:embed="rId1"/>
          <a:stretch/>
        </p:blipFill>
        <p:spPr>
          <a:xfrm>
            <a:off x="0" y="1625760"/>
            <a:ext cx="7596360" cy="5232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0" y="36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圣米歇尔山被联合国教科文组织列为世界文化遗产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西欧著名古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素有“西方奇迹”之称。勃郎峰欧洲第一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被成为欧洲屋脊。多年来一直以其险峻、瑰丽使游客和登山者神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盛名的旅游中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 rot="5400000">
            <a:off x="5736600" y="3487680"/>
            <a:ext cx="522900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圣米歇尔山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alt"/>
          <p:cNvPicPr/>
          <p:nvPr/>
        </p:nvPicPr>
        <p:blipFill>
          <a:blip r:embed="rId1"/>
          <a:stretch/>
        </p:blipFill>
        <p:spPr>
          <a:xfrm>
            <a:off x="0" y="0"/>
            <a:ext cx="6732720" cy="5052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0" y="5484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法国著名古迹和游览胜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特别以其金碧辉煌的宫苑和苍翠一片的森林驰名。“枫丹白露”意为“美泉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有一眼八角小泉得名。附近森林面积就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万多公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宛若一块硕大无比的绿色绒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 rot="5400000">
            <a:off x="5737680" y="1830960"/>
            <a:ext cx="4464000" cy="1322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枫丹白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alt"/>
          <p:cNvPicPr/>
          <p:nvPr/>
        </p:nvPicPr>
        <p:blipFill>
          <a:blip r:embed="rId1"/>
          <a:stretch/>
        </p:blipFill>
        <p:spPr>
          <a:xfrm>
            <a:off x="0" y="0"/>
            <a:ext cx="6948360" cy="4627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548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卢浮宫位于巴黎市中心的赛纳河北岸，是巴黎的心脏。它的整体建筑呈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，占地面积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公顷，建筑物占地面积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公顷，全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8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米。是世界上最著名、最大的艺术宝库之一，是举世瞩目，艺术殿堂和万宝之宫。同时，卢浮宫也是法国历史上最悠久的王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 rot="5400000">
            <a:off x="6240960" y="1759680"/>
            <a:ext cx="3600360" cy="1033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卢浮宫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04:41:49Z</dcterms:created>
  <dc:creator>yaomeng</dc:creator>
  <dc:description/>
  <dc:language>en-US</dc:language>
  <cp:lastModifiedBy>Administrator</cp:lastModifiedBy>
  <dcterms:modified xsi:type="dcterms:W3CDTF">2015-07-14T09:30:13Z</dcterms:modified>
  <cp:revision>13</cp:revision>
  <dc:subject/>
  <dc:title>幻灯片 1</dc:title>
</cp:coreProperties>
</file>