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8.wmf" ContentType="image/x-wmf"/>
  <Override PartName="/ppt/media/image7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image1.jpeg" ContentType="image/jpeg"/>
  <Override PartName="/ppt/media/image2.jpeg" ContentType="image/jpeg"/>
  <Override PartName="/ppt/media/image4.png" ContentType="image/png"/>
  <Override PartName="/ppt/media/laser.wav" ContentType="audio/x-wav"/>
  <Override PartName="/ppt/media/image12.wmf" ContentType="image/x-wmf"/>
  <Override PartName="/ppt/media/image5.png" ContentType="image/png"/>
  <Override PartName="/ppt/media/whoosh.wav" ContentType="audio/x-wav"/>
  <Override PartName="/ppt/media/type.wav" ContentType="audio/x-wav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193-CF35-4540-BF42-C03D355D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E6D-FA4F-4D19-87C5-D5C50B01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267-F873-43C9-B9C0-5B2E2D50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18C-6559-4414-BEC6-BE64FF27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E865-61C4-478D-88FE-48B993D4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5EAC-BC4F-4A4B-A008-59C44239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0C30-6BE4-4715-ABCF-C1BA07C2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F294-6A7F-4A69-8C75-888F1158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9CD0-5863-4027-8C4C-804D0EDF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E339-C7B4-445D-BF44-DB8B774F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EC04-C380-417B-9EC0-984F94E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0D3-7CCA-40A8-B8E2-B8864B2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01CD-1DCE-4EE2-8DD1-1D67B7A2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19B9-388C-4647-9590-47E69E62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E8C3-9062-4C70-B9DA-00E8A79A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BB86-DD1B-4ACA-9838-47FC9AA0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0003-58E5-450E-AFB4-33126928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E3A-5FCC-4F14-9A6E-D464C9E9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F42-4899-467A-8ED7-07506BF3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DB0-A9E1-4CBC-A9D3-6A0770C9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ED2-0EDB-4A76-87DB-0ECB1353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46A-2265-4C0C-9A6A-AD0A602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5BE-E04F-4EDF-A0C9-0110CC0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219-D17D-4A10-984D-31B179F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3B2C-DADF-4C5A-9AA0-B0D255D6858B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CEF9-A1BF-4100-8A56-4688DEFB5DA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42F9-316C-407F-BD27-B528FD6EA5C1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064E-1B67-4CCA-A492-EC0B296F7CD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372600" y="838080"/>
            <a:ext cx="3492360" cy="5410440"/>
          </a:xfrm>
          <a:prstGeom prst="rect">
            <a:avLst/>
          </a:prstGeom>
          <a:solidFill>
            <a:srgbClr val="7499d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Arial Narrow"/>
              </a:rPr>
              <a:t>提示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Arial Narrow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删除样本文档图标，并替换为工作文档图标，如下</a:t>
            </a: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从“插入”菜单，选择“对象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..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单击“从文件创建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定位“文件”框中的文件名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确认选中“显示为图标”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单击“确定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选择图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从“幻灯片放映”菜单，选择“动作设置”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单击“对象动作”，并选择“编辑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单击“确定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752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64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78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宋体"/>
              </a:rPr>
              <a:t>在培训前需要了解什么是房地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78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宋体"/>
              </a:rPr>
              <a:t>（基本概念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4583160" cy="304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258920" y="249228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258920" y="321300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258920" y="3933720"/>
            <a:ext cx="171360" cy="171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47640" y="22766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 Black"/>
              </a:rPr>
              <a:t>房地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2997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Arial Black"/>
              </a:rPr>
              <a:t>房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3716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 Black"/>
              </a:rPr>
              <a:t>地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建筑面积计算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占地面积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建筑物基底及其功能需要占用的面                积，也叫红线面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容积率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指总建筑面积与总占地面积的比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使用率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使用面积与建筑面积的比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绿化率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指红线内用于绿化的面积与总占地面积的比率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房屋面积的分类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使用面积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它是建筑面积扣除公摊面积、及墙体柱体所占用的面积后的净使用面积，俗称地砖面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建筑面积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包含了房屋居住可用的实用面积、墙体柱体占地面积、楼梯走道面积、其它公摊面积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公摊面积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是指建筑物的楼梯、外墙、首层大堂及小区内其它一些配套设施的分摊面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套内面积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卧室、起居室、厅、过道、厨房、卫生间、夹层、厕所、储藏室、壁橱等户门内面积的总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280" y="907920"/>
            <a:ext cx="736596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建筑物的分类（按建筑材料分）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砖木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砖混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钢筋混凝土结构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钢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2737080" cy="34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7078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建筑物的分类（按承重方式分）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承重墙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框架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排架结构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其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2994120" cy="309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729432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建筑物的分类（按建筑高度分）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低层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层及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层以下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多层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层以上，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层以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中高层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层以上，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层以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高层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层以上，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层以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超高层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层以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2646360" cy="324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房地产的交易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房地产的转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房地产的抵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房地产的租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）房地产租赁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）房产出租的性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372600" y="838080"/>
            <a:ext cx="3492360" cy="5410440"/>
          </a:xfrm>
          <a:prstGeom prst="rect">
            <a:avLst/>
          </a:prstGeom>
          <a:solidFill>
            <a:srgbClr val="7499d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182520" bIns="182520" anchor="t">
            <a:noAutofit/>
          </a:bodyPr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Arial Narrow"/>
              </a:rPr>
              <a:t>提示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Arial Narrow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删除样本文档图标，并替换为工作文档图标，如下</a:t>
            </a: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从“插入”菜单，选择“对象</a:t>
            </a: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..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单击“从文件创建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定位“文件”框中的文件名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确认选中“显示为图标”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单击“确定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选择图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从“幻灯片放映”菜单，选择“动作设置”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单击“对象动作”，并选择“编辑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Narrow"/>
              </a:rPr>
              <a:t>单击“确定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546120"/>
            <a:ext cx="84963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房屋出租人必须具备的出租条件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取得房屋所有权证，且是房屋所有权所有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共有房屋的出租人须具有共有人同意出租的证明书或委托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代理人代理出租应具有房屋所有人委托的代理书和证件副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房屋所有人已死亡的、继承人应办妥房产继承过户手续，方可以出租私有房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具有房屋出租行为能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已抵押，并经抵押权人同意出租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符合公安、环保、卫生等主管部门有关规定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影响房屋价格的因素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房屋的地理位置（交通便利、周边环境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房屋的户型、楼层、朝向、视野、新旧程度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小区外部的配套设施（医院、银行、超市、美容院等）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小区内部的配套设施（健身、泳池、洗衣店、便利店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房屋的市场价格定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房屋的供需状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物业管理公司的口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房屋的市场租赁价格前景及回报率的多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政府因素、土地价格的变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•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其它因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我国住房改革的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个时期：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980-1985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，国家、企业、个人共同负担购买住房的试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986-1990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，以提高公有住房租金为突破口的住房制度改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991-1993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，以公房出售为重点，住房制度改革全面铺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994-1997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，住房公积金、安居工程，住房制度改革全面推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998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至今，切断实物分配的福利分房制度，实施货币化分房制度改革进入攻坚阶段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北京市房地产经纪市场变迁：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租赁市场：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个阶段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991-1999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，房地产经纪公司多以分散的个体进行经纪业务，市场处于无序竞争状态，客户需求大于房屋供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999-2001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，部分房地产经纪公司开始展开连锁经营，北京市市场逐步出现品牌化趋势，客户需求与房源数量供应逐步持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001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至今，市场开始涌现众多大型连锁性公司，北京市相关行政主管机关对经纪公司管理逐步正规化，房源供应数量大于客户数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土地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、土地所有权、建筑物、权益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406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土地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地球的表面及其上下一定范围内的空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土地所有权分国有土地与集体土地所有权，  集体转为国有才能转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建筑物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人工建筑而成，由建筑材料、建筑构配件  和设备等组成的整体物，包括房屋和构筑物两大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权益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产权、使用权、抵押权、典权等等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北京市房地产经纪市场变迁：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二手房交易市场：（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个阶段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999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前，主要以房屋使用权的换置为实际房屋交易方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999-2001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，北京市逐步放开二手房市场，可上市交易二手房数量逐渐上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001-2003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，经济适用房开始可上市交易，市场中相关经纪公司数量开始攀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年至今，国家对二手房交易市场政策逐渐调整，部分政策得到积极调整，央产房可上市交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中介业务介绍：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居住物业：包括公寓、别墅的租赁、买卖业务（高端市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包括民宅租赁、二手房买卖（中低端市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商用物业：包括写字楼、商铺的租赁与买卖（高端市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北京市场主要经纪公司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第一太平戴维斯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FPDSavills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世邦魏理仕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B Richard ElliS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仲量联行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Jones Lang LaSalle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中原地产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entaline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戴德梁行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TZ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嘉园置地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Joanna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我爱我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顺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中大恒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如何选择理想的居住住宅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419436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地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环境因素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地理位置、交通、配套设施、商业娱乐及网点等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房屋层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朝向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房屋的功能分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面积空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40320" y="20210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如何选择理想的居住住宅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质量与细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楼梯及电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采光与通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景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1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物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配套设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867280" y="2637000"/>
            <a:ext cx="2175120" cy="305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商 用 物 业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位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房间朝向、净深、净高、采光、柱距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硬件水平（电梯、空调、通讯设备等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物业管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配套设施（商务中心、银行、邮局、员工餐厅、机票代理等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其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融资及付款方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租赁业务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普通民宅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因代理服务费（佣金）需要由客户承担，故付款方式通常为押一付三或押一付六，并且客户需要提前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天或一个月支付下一付款期的房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公寓及写字楼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因代理服务费（佣金）需要由业主承担，故付款方式通常为押二付三或押二付六，并且客户需要提前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天或一个月支付下一付款期的房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融资及付款方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商铺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代理服务费（佣金）需要由客户承担，付款方式通常为押一付三、押一付六或年付，并且客户需要提前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天或一个月支付下一付款期的房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特殊情况下，须有租赁双方商议并达成一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因付款方式的不同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可导致实际交易价格的变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融资及付款方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二手房买卖业务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二手房买卖的付款普遍适用定金方式，通常以交易房价的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%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作为首付款或定金，在过户时（以买方取得领证通知单或进行物业交割为标准），由买方支付剩余房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特殊情况下，须有租赁双方商议并达成一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854064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房地产相关的法律、法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中华人民共和国城市房地产管理办法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房地产开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房地产交易（房地产转让、抵押、房屋租赁）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中介服务机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城市私有房屋管理条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、城市商品房预售管理办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土地（国有土地、集体土地所有权）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发展商只有得到土地使用权才能建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•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获得土地使用权方式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招标、拍卖（主要方式）六类用地（商业、娱乐、旅游、金融、服务业、商品房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协议转让取得（旧城改造）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政府批准划拨国有土地（如医用、军用等政府用地）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业务知识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二手房业务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二手房的概念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二手房是指由北京市国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资源和房屋管理局颁发所有权有效证件，业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拥有完全处置权的房屋。包括：私产平房、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购商品房、以及获准上市交易的已购房改房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已购经济适用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业务知识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二手房业务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已购公有住房及已购经济适用房的概念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已购公有住房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指城镇职工按照有关住房改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政策的规定，按成本价或标准价（含标准价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惠办法）购买的公有住房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已购经济适用房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指按政府规定的指导价格购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的经济适用住房，包括城镇职工按照高于有国家及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府有关城镇住房制度改革政策规定的成本价购买的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居工程住房和集资合作建设的住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业务知识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二手房业务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不能正常上市出售的房屋范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产权共有的房屋，产权共有人不同意出售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已抵押，且未经抵押权人书面同意转让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房屋所在地区户籍冻结，已列入拆迁公告范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擅自改变房屋使用性质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以房改政策规定的价格购买且没有按照规定补足房价款及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修费用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6.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住房面积超过本市人民政府规定的控制标准，或者违反固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利用公款超标准装修，超标准部分未按规定退回或者补足房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款及装修费用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7.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法律、法规及县级以上人民政府规定其他不宜出售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8.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房屋上市出售后形成新的住房困难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华文行楷"/>
                <a:ea typeface="华文行楷"/>
              </a:rPr>
              <a:t>预 祝 大 家 成 功</a:t>
            </a:r>
            <a:endParaRPr b="0" lang="en-US" sz="8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774072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国有土地使用权出让年限：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住房用地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工业用地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科教、文体、卫生用地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50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商业、旅游、娱乐用地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综合或其他用地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8288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5257800" cy="254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87280" y="1916280"/>
            <a:ext cx="20988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209880" cy="209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1187280" y="3284640"/>
            <a:ext cx="209880" cy="20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1187280" y="2852640"/>
            <a:ext cx="182880" cy="17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土地的分类：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生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熟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）三通一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）五通一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）七通一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328464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84720" y="3284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房地产业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房地产交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房地产开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物业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房产业务咨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、房产其它经营形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64000" y="981000"/>
            <a:ext cx="510516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市场分类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房地产一级市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房地产二级市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房地产三级市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房产分类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居住物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商用物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9880" y="3429000"/>
            <a:ext cx="4595760" cy="2606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1600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16000" y="3213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房 产 分 类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居住住宅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平房、普通楼房住宅、高档住宅、别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商业楼宇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写字楼、商铺（旅馆、餐饮、娱乐）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工业和仓储用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其他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教育、医疗、科研、交通、寺庙、监狱、宗教等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综合：两种或两种以上用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02:58:37Z</dcterms:created>
  <dc:creator>frank chen</dc:creator>
  <dc:description/>
  <dc:language>en-US</dc:language>
  <cp:lastModifiedBy>admin</cp:lastModifiedBy>
  <cp:lastPrinted>1996-01-08T21:17:28Z</cp:lastPrinted>
  <dcterms:modified xsi:type="dcterms:W3CDTF">2012-08-21T09:39:44Z</dcterms:modified>
  <cp:revision>204</cp:revision>
  <dc:subject/>
  <dc:title>写字楼业务流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68185341</vt:r8>
  </property>
  <property fmtid="{D5CDD505-2E9C-101B-9397-08002B2CF9AE}" pid="3" name="_AuthorEmail">
    <vt:lpwstr>Frank@century21cn.com</vt:lpwstr>
  </property>
  <property fmtid="{D5CDD505-2E9C-101B-9397-08002B2CF9AE}" pid="4" name="_AuthorEmailDisplayName">
    <vt:lpwstr>陈钰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