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jpeg" ContentType="image/jpeg"/>
  <Override PartName="/ppt/media/image22.png" ContentType="image/png"/>
  <Override PartName="/ppt/media/projctor.wav" ContentType="audio/x-wav"/>
  <Override PartName="/ppt/media/image23.jpeg" ContentType="image/jpeg"/>
  <Override PartName="/ppt/media/image20.jpeg" ContentType="image/jpeg"/>
  <Override PartName="/ppt/media/image19.png" ContentType="image/png"/>
  <Override PartName="/ppt/media/image21.png" ContentType="image/png"/>
  <Override PartName="/ppt/media/image15.jpeg" ContentType="image/jpeg"/>
  <Override PartName="/ppt/media/image16.png" ContentType="image/png"/>
  <Override PartName="/ppt/media/chimes.wav" ContentType="audio/x-wav"/>
  <Override PartName="/ppt/media/image29.png" ContentType="image/png"/>
  <Override PartName="/ppt/media/image14.png" ContentType="image/png"/>
  <Override PartName="/ppt/media/image10.jpeg" ContentType="image/jpeg"/>
  <Override PartName="/ppt/media/image13.jpeg" ContentType="image/jpeg"/>
  <Override PartName="/ppt/media/type.wav" ContentType="audio/x-wav"/>
  <Override PartName="/ppt/media/image18.png" ContentType="image/png"/>
  <Override PartName="/ppt/media/image6.jpeg" ContentType="image/jpeg"/>
  <Override PartName="/ppt/media/image1.jpeg" ContentType="image/jpeg"/>
  <Override PartName="/ppt/media/image35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27.jpeg" ContentType="image/jpeg"/>
  <Override PartName="/ppt/media/image33.jpeg" ContentType="image/jpeg"/>
  <Override PartName="/ppt/media/glass.wav" ContentType="audio/x-wav"/>
  <Override PartName="/ppt/media/image28.jpeg" ContentType="image/jpeg"/>
  <Override PartName="/ppt/media/image30.jpeg" ContentType="image/jpeg"/>
  <Override PartName="/ppt/media/image31.jpeg" ContentType="image/jpeg"/>
  <Override PartName="/ppt/media/image34.jpeg" ContentType="image/jpeg"/>
  <Override PartName="/ppt/media/image44.gif" ContentType="image/gif"/>
  <Override PartName="/ppt/media/image36.jpeg" ContentType="image/jpeg"/>
  <Override PartName="/ppt/media/image11.jpeg" ContentType="image/jpeg"/>
  <Override PartName="/ppt/media/image9.jpeg" ContentType="image/jpeg"/>
  <Override PartName="/ppt/media/image26.jpeg" ContentType="image/jpeg"/>
  <Override PartName="/ppt/media/image37.jpeg" ContentType="image/jpeg"/>
  <Override PartName="/ppt/media/image43.gif" ContentType="image/gif"/>
  <Override PartName="/ppt/media/image45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42.gif" ContentType="image/gif"/>
  <Override PartName="/ppt/media/applause.wav" ContentType="audio/x-wav"/>
  <Override PartName="/ppt/media/image5.png" ContentType="image/png"/>
  <Override PartName="/ppt/media/image7.jpeg" ContentType="image/jpeg"/>
  <Override PartName="/ppt/media/image38.jpeg" ContentType="image/jpeg"/>
  <Override PartName="/ppt/media/image12.jpeg" ContentType="image/jpeg"/>
  <Override PartName="/ppt/media/image41.gif" ContentType="image/gif"/>
  <Override PartName="/ppt/media/image4.png" ContentType="image/png"/>
  <Override PartName="/ppt/media/image40.gif" ContentType="image/gif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52C9-F2FD-4DBE-965F-C9B77D83D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A828-BDB8-4B09-9D09-EB49AEA9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C41E-B40E-4C67-B383-8C4A75231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7A53-C563-407F-987F-887856087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D954-BC50-428C-BE9B-796C3F265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6A3CA-680B-4FB3-B969-3C4C27692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06F0-A7D7-4813-8915-639769CE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B62C-7A74-40E9-B13D-AB73146FA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E419D-6D62-4BB4-BD97-C09E93AA8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B348B-DCDF-4CFA-818E-15D16C546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B66EF-2918-4D46-BCD7-191D1F15F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6C6-A30A-4A74-9023-E6627E2C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F9029-2935-4FC2-B241-CACBDAEC5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087C9-5790-4313-BBF9-E721A45CD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BF5AF-4512-4999-9506-258A1B00C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AC84-1823-4914-8FCE-1E99FFBC3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D4E24-0ED2-467C-9E02-B542F4075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2C5331-1987-4119-8AE1-38A398918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A9377-40A0-47A0-9C78-0F5D7B2D2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F7723-9C1C-475A-8C4B-3411F9F6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522F7-C8E2-48B9-B973-C105FEE2D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2E0BD-27AE-42BF-B66F-FE778A1F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3626-51EA-46AE-A236-4A50BC3B1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39DAC-302A-4F66-82EE-848DFC173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8D6DA1-8A6E-47DE-8407-9287209B8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9EE44-A89F-4ED5-A0D7-D2C5D3531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C566-1344-4AC5-8CDF-D8FA601B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2228-6A98-4264-9423-CA7463D4C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B3DD2A-14DD-4BBA-A908-3E0A4B73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9AE6F-1071-4BD4-8D12-DF3C6D233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4577055-1748-4D18-B5B4-4E1F7907A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2956460-5323-407A-993D-B79228E16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92B231-05DA-4DC3-AAE8-1F792B752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EBCE0-DD33-42C3-AD75-B5F47AB25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50B78-CFBB-44AF-8E68-D5D3ED534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D7005D-1207-423B-887C-0EC3A19B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E38A1C-03CD-42D1-94F8-84D283D37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B46184-76DB-43B5-AA3D-92144FBC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2785042-DF1E-42FA-9E42-284ECB02D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A944DE-F152-4A74-897B-85895F91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DE9F3D8-6A8A-40BF-B395-2DBBE2A8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E3DCF1-7D6C-478A-90B9-E42911E36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FF4F4D-8F07-4C79-8360-6C640E1A0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C26CB-A25B-4358-AB47-E458EC3FD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8D86-65C3-4C57-A0C3-01FB1C406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126AF-08B2-4584-8164-80A41156F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FFE2A-1B24-442E-B0AC-70B57F08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285C2-F289-4A7D-9131-A9CC74516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D06041-8F7E-4215-B4D3-8BD7AEC50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488906-B12D-42B1-A2FE-B560AEA0A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FD3E1B-FB68-48B0-8A3C-A43468024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B63151-885B-4B2B-88FE-403F698F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25C0AE-989D-4FB7-ADF3-29A6587F4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A59D8C-49EF-44DF-8153-7A733F34A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75B9E-3714-46A0-9D82-DD27F9106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6C0-6029-4FC7-A128-6E4F0A38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59D4F-9D6E-4C64-B00E-86FB424A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84EB3-C849-4B30-A022-A6DE6C5B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0FA38-3E50-4AAA-91C4-FE829ECA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DBCEB-AFFA-4193-9B9C-2ADE7EE91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131A7D-C3CC-42B3-BAD4-869522A6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0E62AA-744E-475E-B8F6-4D16594A9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59D8FB-961B-43E8-9EF6-F35F50273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EDCC03-D6D5-49F5-BFAD-E0E1EBEF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47688-67B2-4A3C-A170-5776E2149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C9AC5-39E4-4859-A5FD-5E0B1E0CA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6DE0-46C5-4B52-BB4A-7B6746B0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D766FD-BDE4-4ED5-B84A-FD3126DC3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5FBF1-AA5C-4E44-A566-5DDE47CE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0D660D-924F-47FE-A641-471010FF2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2755C2-E787-45C9-A7A0-B581CA6D4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FF139-E2AE-4D27-83EA-31717D2E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FF96D-264A-4249-B416-62D6CC06A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DCFD4-A3B1-4195-A0D3-7A5960AC7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F44B4-1557-4A8C-9DF0-BBA6D1DFB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ED0222-6221-433E-90E1-3F746E50A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69013-BE3B-4345-816A-49DB8AB6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754-4083-4F8E-9A00-27C8B376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F8772-D058-4B25-8386-79C568055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392E34-29F5-4407-9D14-8597D135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10DB26-68B6-44AD-A780-74126667B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BDE6DF-BF79-4E67-92F8-D9DA3856A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E754A-55F8-4691-80E9-4BBB45657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A480-9D67-4BB5-8132-ACCADF6E6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94A01-8417-46CB-B6A0-3C9ADB7AFD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42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43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44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5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9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50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1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52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3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54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5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6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7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8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9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0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1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90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1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2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3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4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5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6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7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8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99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0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1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102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103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4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5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6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7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8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09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0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1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2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3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4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5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6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7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8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19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0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1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2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3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4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5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6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7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8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29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0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1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2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3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4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5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6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7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38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39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40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2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43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6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152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53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9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60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65" name="PlaceHolder 1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3C07-2195-44F5-B914-5FB96CB25E63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207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208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209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0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14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6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217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218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219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0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1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2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3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4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5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6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255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56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7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8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59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0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1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2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3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4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5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6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267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268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69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0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1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2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3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4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5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6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7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8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79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0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1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2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3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4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5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6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7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8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89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0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1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2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3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4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5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6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7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8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99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0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1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2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03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304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305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7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308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4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5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317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318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4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325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1787-F84A-4E6D-9F90-9F512B1C279C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dt" idx="10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33280-9A0A-42DA-9246-839F2C4FDD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7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7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2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2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2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6F4B2-6E06-4AB8-99AD-4FFA7A7BA55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470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471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474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477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480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484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485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7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488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9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0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491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3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494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5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6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497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8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9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500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1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2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503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4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5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506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7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08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509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0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1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512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3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4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515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6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7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518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19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0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1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2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3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24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5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6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27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29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530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1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2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533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4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5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536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38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539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0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1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542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3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4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545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6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9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550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2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553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5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556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58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559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1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562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4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565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67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568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0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571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3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574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6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577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9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580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582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9DF3-E847-4366-9B83-34390C6C12E9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5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646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647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9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650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651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652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3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4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655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656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57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1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662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4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665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67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668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0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671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3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674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6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677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79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680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2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683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5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686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88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689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1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692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97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698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0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701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3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704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6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707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09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710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2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713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15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716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18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9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720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721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3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724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6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727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29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730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2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733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5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736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38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739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1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742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4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745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47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748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750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751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753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754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755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6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7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8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9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62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63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764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5E95-D95D-4C99-8F8E-E6133666FD01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audio" Target="../media/applause.wav"/><Relationship Id="rId6" Type="http://schemas.openxmlformats.org/officeDocument/2006/relationships/audio" Target="../media/type.wav"/><Relationship Id="rId7" Type="http://schemas.openxmlformats.org/officeDocument/2006/relationships/audio" Target="../media/glass.wav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projctor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" Target="slide18.xml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C:/Documents%20and%20Settings/chenwenming/&#26700;&#38754;/1750%5B1%5D.swf" TargetMode="External"/><Relationship Id="rId2" Type="http://schemas.openxmlformats.org/officeDocument/2006/relationships/hyperlink" Target="file:///C:/Documents%20and%20Settings/chenwenming/&#26700;&#38754;/1750%5B1%5D.swf" TargetMode="External"/><Relationship Id="rId3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1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http://sports.china.com/zh_cn/sportsnews/soccer/1047/20020531/images/11264667_65633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753480" cy="7467480"/>
          </a:xfrm>
          <a:prstGeom prst="rect">
            <a:avLst/>
          </a:prstGeom>
          <a:ln w="0">
            <a:noFill/>
          </a:ln>
        </p:spPr>
      </p:pic>
      <p:sp>
        <p:nvSpPr>
          <p:cNvPr id="819" name="PlaceHolder 1"/>
          <p:cNvSpPr>
            <a:spLocks noGrp="1"/>
          </p:cNvSpPr>
          <p:nvPr>
            <p:ph type="subTitle"/>
          </p:nvPr>
        </p:nvSpPr>
        <p:spPr>
          <a:xfrm>
            <a:off x="533520" y="243828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0000"/>
                </a:solidFill>
                <a:latin typeface="宋体"/>
              </a:rPr>
              <a:t> </a:t>
            </a:r>
            <a:r>
              <a:rPr b="1" i="1" lang="zh-CN" sz="6000" spc="-1" strike="noStrike">
                <a:solidFill>
                  <a:srgbClr val="ff0000"/>
                </a:solidFill>
                <a:latin typeface="宋体"/>
              </a:rPr>
              <a:t>学会调控情绪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宋体"/>
              </a:rPr>
              <a:t>                ——</a:t>
            </a:r>
            <a:r>
              <a:rPr b="1" i="1" lang="zh-CN" sz="3600" spc="-1" strike="noStrike">
                <a:solidFill>
                  <a:srgbClr val="ff0000"/>
                </a:solidFill>
                <a:latin typeface="宋体"/>
              </a:rPr>
              <a:t>放飞好心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495680" y="541008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"/>
          <p:cNvSpPr/>
          <p:nvPr/>
        </p:nvSpPr>
        <p:spPr>
          <a:xfrm>
            <a:off x="0" y="9907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99"/>
                </a:solidFill>
                <a:latin typeface="Times New Roman"/>
              </a:rPr>
              <a:t>他夸奖我了，好开心噢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7086600" y="9144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99"/>
                </a:solidFill>
                <a:latin typeface="Times New Roman"/>
              </a:rPr>
              <a:t>高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" descr=""/>
          <p:cNvPicPr/>
          <p:nvPr/>
        </p:nvPicPr>
        <p:blipFill>
          <a:blip r:embed="rId1"/>
          <a:stretch/>
        </p:blipFill>
        <p:spPr>
          <a:xfrm>
            <a:off x="5486400" y="533520"/>
            <a:ext cx="1143000" cy="1218960"/>
          </a:xfrm>
          <a:prstGeom prst="rect">
            <a:avLst/>
          </a:prstGeom>
          <a:ln w="0">
            <a:noFill/>
          </a:ln>
        </p:spPr>
      </p:pic>
      <p:sp>
        <p:nvSpPr>
          <p:cNvPr id="853" name=""/>
          <p:cNvSpPr/>
          <p:nvPr/>
        </p:nvSpPr>
        <p:spPr>
          <a:xfrm>
            <a:off x="304920" y="25909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唉，他在讽刺我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4" name="" descr=""/>
          <p:cNvPicPr/>
          <p:nvPr/>
        </p:nvPicPr>
        <p:blipFill>
          <a:blip r:embed="rId2"/>
          <a:stretch/>
        </p:blipFill>
        <p:spPr>
          <a:xfrm>
            <a:off x="5486400" y="2286000"/>
            <a:ext cx="1143000" cy="1219320"/>
          </a:xfrm>
          <a:prstGeom prst="rect">
            <a:avLst/>
          </a:prstGeom>
          <a:ln w="0">
            <a:noFill/>
          </a:ln>
        </p:spPr>
      </p:pic>
      <p:sp>
        <p:nvSpPr>
          <p:cNvPr id="855" name=""/>
          <p:cNvSpPr/>
          <p:nvPr/>
        </p:nvSpPr>
        <p:spPr>
          <a:xfrm>
            <a:off x="7086600" y="251460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伤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228600" y="4114800"/>
            <a:ext cx="502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80"/>
                </a:solidFill>
                <a:latin typeface="Times New Roman"/>
              </a:rPr>
              <a:t>他究竟为什么会这么说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" descr=""/>
          <p:cNvPicPr/>
          <p:nvPr/>
        </p:nvPicPr>
        <p:blipFill>
          <a:blip r:embed="rId3"/>
          <a:stretch/>
        </p:blipFill>
        <p:spPr>
          <a:xfrm>
            <a:off x="5410080" y="541008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858" name=""/>
          <p:cNvSpPr/>
          <p:nvPr/>
        </p:nvSpPr>
        <p:spPr>
          <a:xfrm>
            <a:off x="380880" y="5638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哼，讨好我，想利用我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238880" y="403848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80"/>
                </a:solidFill>
                <a:latin typeface="Times New Roman"/>
              </a:rPr>
              <a:t>疑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238880" y="5562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厌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" descr=""/>
          <p:cNvPicPr/>
          <p:nvPr/>
        </p:nvPicPr>
        <p:blipFill>
          <a:blip r:embed="rId4"/>
          <a:stretch/>
        </p:blipFill>
        <p:spPr>
          <a:xfrm>
            <a:off x="5486400" y="3733920"/>
            <a:ext cx="1143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0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8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glas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-609480" y="-1066680"/>
            <a:ext cx="9753480" cy="7696080"/>
          </a:xfrm>
          <a:prstGeom prst="rect">
            <a:avLst/>
          </a:prstGeom>
          <a:ln w="0">
            <a:noFill/>
          </a:ln>
        </p:spPr>
      </p:pic>
      <p:sp>
        <p:nvSpPr>
          <p:cNvPr id="863" name=""/>
          <p:cNvSpPr/>
          <p:nvPr/>
        </p:nvSpPr>
        <p:spPr>
          <a:xfrm>
            <a:off x="2743200" y="76212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ff"/>
                </a:solidFill>
                <a:latin typeface="宋体"/>
                <a:ea typeface="隶书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一个小女孩趴在窗台上，看窗外的人正埋葬她心爱的小狗，不禁泪流满面，悲伤不已。她的外祖父见状，连忙引她到另一个窗口，让她欣赏他的玫瑰花园。果然小女孩的心情顿时明朗。老人托起外孙女的下巴说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隶书"/>
              </a:rPr>
              <a:t>孩子，你开错了窗户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”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2819520" y="0"/>
            <a:ext cx="6324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智慧故事</a:t>
            </a:r>
            <a:r>
              <a:rPr b="0" lang="zh-CN" sz="3600" spc="-1" strike="noStrike">
                <a:solidFill>
                  <a:srgbClr val="009900"/>
                </a:solidFill>
                <a:latin typeface="Times New Roman"/>
                <a:ea typeface="华文彩云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181480" y="0"/>
            <a:ext cx="2990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请不要开错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"/>
          <p:cNvSpPr/>
          <p:nvPr/>
        </p:nvSpPr>
        <p:spPr>
          <a:xfrm>
            <a:off x="511920" y="944640"/>
            <a:ext cx="789840" cy="34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</a:rPr>
              <a:t>人生感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 rot="268800">
            <a:off x="7794720" y="623160"/>
            <a:ext cx="72900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由此可见，即使对于同一件事情，每个人的想法也大不相同啊！你可以改变你的态度来调适你的情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228600" y="0"/>
            <a:ext cx="1600200" cy="4648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-117000" y="762120"/>
            <a:ext cx="164268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换个好情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048120" y="914400"/>
            <a:ext cx="274320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666880" y="60948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嫉妒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这次考试王聪比我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666880" y="990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原来想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有什么了不起，他没有我聪明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2666880" y="1371600"/>
            <a:ext cx="266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换个想法：</a:t>
            </a:r>
            <a:r>
              <a:rPr b="1" lang="zh-CN" sz="2400" spc="-1" strike="noStrike" u="sng">
                <a:solidFill>
                  <a:srgbClr val="0000ff"/>
                </a:solidFill>
                <a:uFillTx/>
                <a:latin typeface="Times New Roman"/>
                <a:ea typeface="新宋体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2743200" y="18288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多疑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同学们总是用异样的眼光看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666880" y="2286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原来想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我的家庭条件差，他们看不起我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700360" y="2708280"/>
            <a:ext cx="18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换个想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2743200" y="320040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隶书"/>
                <a:ea typeface="隶书"/>
              </a:rPr>
              <a:t>害怕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这次又考砸了，不敢回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2666880" y="3733920"/>
            <a:ext cx="615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原来想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辜负了父母期望，害怕会批评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2666880" y="4114800"/>
            <a:ext cx="171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换个想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2666880" y="457200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厌恶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他总爱在课上讲话，妨碍我听课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361400" y="5181480"/>
            <a:ext cx="169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原来想法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隶书"/>
              </a:rPr>
              <a:t>跟他坐在一起，真倒霉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2666880" y="5562720"/>
            <a:ext cx="197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  <a:ea typeface="隶书"/>
              </a:rPr>
              <a:t>换个想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" descr="">
            <a:hlinkClick r:id="rId2" action="ppaction://hlinksldjump"/>
          </p:cNvPr>
          <p:cNvPicPr/>
          <p:nvPr/>
        </p:nvPicPr>
        <p:blipFill>
          <a:blip r:embed="rId3">
            <a:grayscl/>
          </a:blip>
          <a:stretch/>
        </p:blipFill>
        <p:spPr>
          <a:xfrm>
            <a:off x="1600200" y="6095880"/>
            <a:ext cx="293760" cy="2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609480" y="533520"/>
            <a:ext cx="43434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华文彩云"/>
              </a:rPr>
              <a:t>换一副眼镜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66ff"/>
                </a:solidFill>
                <a:latin typeface="Times New Roman"/>
                <a:ea typeface="华文彩云"/>
              </a:rPr>
              <a:t>得一副好心情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8" dur="1" fill="hold"/>
                                        <p:tgtEl>
                                          <p:spTgt spid="8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9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0" y="304920"/>
            <a:ext cx="87631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古希腊哲学家苏格拉底原先和几个朋友住在一间只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平方的房子，有人认为他居住的条件太差了，他说：“朋友们住在一起，随时可以和他们交流感情，是值得高兴的事啊。”几年后，他一个人住，又有人说他太寂寞了，他又说：“我有很多书啊，一本书就是一个老师，我和那么多老师在一起，怎么不高兴呢？”之后，他住进楼房的一楼，有人认为一楼的环境差，“你不知道，一楼方便啊，进门就到家，朋友来方便，还可以在空地上种花、种菜什么的。”后来，他又搬到顶楼，有人说住顶楼没好处，“好处多啊，每天爬楼锻炼身体，光线也好。头顶上没干扰，白天晚上都安静。”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826920" y="981000"/>
            <a:ext cx="805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他们热爱生活，有着乐观的生活态度，即使遭遇到挫折、失败，甚至危及到生命，他们依然能够保持积极向上的情绪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11280" y="436572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990099"/>
                </a:solidFill>
                <a:latin typeface="华文新魏"/>
                <a:ea typeface="华文新魏"/>
              </a:rPr>
              <a:t>有了快乐的思想和行为，你就能感到快乐。                              ——卡耐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1" name="" descr=""/>
          <p:cNvPicPr/>
          <p:nvPr/>
        </p:nvPicPr>
        <p:blipFill>
          <a:blip r:embed="rId2"/>
          <a:stretch/>
        </p:blipFill>
        <p:spPr>
          <a:xfrm>
            <a:off x="2700360" y="2997360"/>
            <a:ext cx="5543640" cy="234720"/>
          </a:xfrm>
          <a:prstGeom prst="rect">
            <a:avLst/>
          </a:prstGeom>
          <a:ln w="0">
            <a:noFill/>
          </a:ln>
        </p:spPr>
      </p:pic>
      <p:pic>
        <p:nvPicPr>
          <p:cNvPr id="892" name="" descr=""/>
          <p:cNvPicPr/>
          <p:nvPr/>
        </p:nvPicPr>
        <p:blipFill>
          <a:blip r:embed="rId3"/>
          <a:stretch/>
        </p:blipFill>
        <p:spPr>
          <a:xfrm>
            <a:off x="826920" y="3500280"/>
            <a:ext cx="5761080" cy="24480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5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2171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efb73"/>
                </a:solidFill>
                <a:latin typeface="华文彩云"/>
                <a:ea typeface="华文彩云"/>
              </a:rPr>
              <a:t>故事</a:t>
            </a:r>
            <a:r>
              <a:rPr b="1" lang="en-US" sz="4400" spc="-1" strike="noStrike">
                <a:solidFill>
                  <a:srgbClr val="defb73"/>
                </a:solidFill>
                <a:latin typeface="华文彩云"/>
                <a:ea typeface="华文彩云"/>
              </a:rPr>
              <a:t>: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2296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有一个孩子跑到山上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无意间对着山谷喊了一声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喂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……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声音刚落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从四面八方传来了一阵阵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喂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…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.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回声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大山答应了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很惊讶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又喊了一声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是谁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但山也回应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是谁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?”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生气了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喊道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恨你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哪知道这一喊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整个群山传来的声音都是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恨你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忍不住了哭着回家告诉了妈妈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妈妈对他说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你回去对大山喊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爱你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试试呢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又跑到山上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果然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这次孩子被包围在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爱你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我爱你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……”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的回声之中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  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孩子笑了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群山也笑了</a:t>
            </a:r>
            <a:r>
              <a:rPr b="0" lang="en-US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…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" descr=""/>
          <p:cNvPicPr/>
          <p:nvPr/>
        </p:nvPicPr>
        <p:blipFill>
          <a:blip r:embed="rId1"/>
          <a:stretch/>
        </p:blipFill>
        <p:spPr>
          <a:xfrm>
            <a:off x="200160" y="28440"/>
            <a:ext cx="8743680" cy="680112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1523880" y="175248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生活就像一面镜子，你对它哭，它对你哭；你对它笑，它也对你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课堂小结</a:t>
            </a:r>
            <a:r>
              <a:rPr b="0" lang="en-US" sz="4400" spc="-1" strike="noStrike">
                <a:solidFill>
                  <a:srgbClr val="ffffff"/>
                </a:solidFill>
                <a:latin typeface="华文彩云"/>
                <a:ea typeface="华文彩云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7772400" cy="33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情绪与我们个人的态度是紧密相连的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在生活中我们可以通过改变自己的态度来控制自己的情绪</a:t>
            </a: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e5e5ff"/>
                </a:solidFill>
                <a:latin typeface="华文彩云"/>
                <a:ea typeface="华文彩云"/>
              </a:rPr>
              <a:t>听一听</a:t>
            </a:r>
            <a:r>
              <a:rPr b="1" lang="en-US" sz="5400" spc="-1" strike="noStrike">
                <a:solidFill>
                  <a:srgbClr val="e5e5ff"/>
                </a:solidFill>
                <a:latin typeface="华文彩云"/>
                <a:ea typeface="华文彩云"/>
              </a:rPr>
              <a:t>,</a:t>
            </a:r>
            <a:r>
              <a:rPr b="1" lang="zh-CN" sz="5400" spc="-1" strike="noStrike">
                <a:solidFill>
                  <a:srgbClr val="e5e5ff"/>
                </a:solidFill>
                <a:latin typeface="华文彩云"/>
                <a:ea typeface="华文彩云"/>
              </a:rPr>
              <a:t>看一看</a:t>
            </a:r>
            <a:r>
              <a:rPr b="1" lang="en-US" sz="5400" spc="-1" strike="noStrike">
                <a:solidFill>
                  <a:srgbClr val="e5e5ff"/>
                </a:solidFill>
                <a:latin typeface="华文彩云"/>
                <a:ea typeface="华文彩云"/>
              </a:rPr>
              <a:t>,</a:t>
            </a:r>
            <a:r>
              <a:rPr b="1" lang="zh-CN" sz="5400" spc="-1" strike="noStrike">
                <a:solidFill>
                  <a:srgbClr val="e5e5ff"/>
                </a:solidFill>
                <a:latin typeface="华文彩云"/>
                <a:ea typeface="华文彩云"/>
              </a:rPr>
              <a:t>议一议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1258920" y="3789360"/>
            <a:ext cx="65628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月有阴晴圆缺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人有喜怒哀乐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这是否意味着我们是</a:t>
            </a:r>
            <a:r>
              <a:rPr b="1" i="1" lang="zh-CN" sz="3200" spc="-1" strike="noStrike">
                <a:solidFill>
                  <a:srgbClr val="ffcc00"/>
                </a:solidFill>
                <a:latin typeface="Garamond"/>
              </a:rPr>
              <a:t>情绪的奴隶</a:t>
            </a:r>
            <a:r>
              <a:rPr b="1" lang="zh-CN" sz="3200" spc="-1" strike="noStrike">
                <a:solidFill>
                  <a:srgbClr val="ffffff"/>
                </a:solidFill>
                <a:latin typeface="Garamond"/>
              </a:rPr>
              <a:t>呢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4" name=""/>
          <p:cNvSpPr/>
          <p:nvPr/>
        </p:nvSpPr>
        <p:spPr>
          <a:xfrm>
            <a:off x="1692360" y="2205000"/>
            <a:ext cx="5256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ffcc00"/>
                </a:solidFill>
                <a:uFillTx/>
                <a:latin typeface="Times New Roman"/>
                <a:ea typeface="华文琥珀"/>
                <a:hlinkClick r:id="rId1"/>
              </a:rPr>
              <a:t>最 近 比 较 烦</a:t>
            </a:r>
            <a:r>
              <a:rPr b="0" lang="en-US" sz="3600" spc="-1" strike="noStrike" u="sng">
                <a:solidFill>
                  <a:srgbClr val="ffcc00"/>
                </a:solidFill>
                <a:uFillTx/>
                <a:latin typeface="Times New Roman"/>
                <a:ea typeface="华文琥珀"/>
                <a:hlinkClick r:id="rId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8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"/>
          <p:cNvSpPr/>
          <p:nvPr/>
        </p:nvSpPr>
        <p:spPr>
          <a:xfrm>
            <a:off x="228600" y="0"/>
            <a:ext cx="891540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情绪像一首歌，抑扬顿挫，委婉悠长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情绪像一幅画，色彩斑斓，意境深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我们心灵的花园里，情绪之花争相斗艳，在我们火热的青春里，情绪似“奔腾的洪流”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在我们广阔的智慧里，理智驾驭着情绪之舟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0" name="" descr=""/>
          <p:cNvPicPr/>
          <p:nvPr/>
        </p:nvPicPr>
        <p:blipFill>
          <a:blip r:embed="rId1"/>
          <a:stretch/>
        </p:blipFill>
        <p:spPr>
          <a:xfrm>
            <a:off x="0" y="-106200"/>
            <a:ext cx="9144000" cy="7070400"/>
          </a:xfrm>
          <a:prstGeom prst="rect">
            <a:avLst/>
          </a:prstGeom>
          <a:ln w="0">
            <a:noFill/>
          </a:ln>
        </p:spPr>
      </p:pic>
      <p:sp>
        <p:nvSpPr>
          <p:cNvPr id="901" name=""/>
          <p:cNvSpPr/>
          <p:nvPr/>
        </p:nvSpPr>
        <p:spPr>
          <a:xfrm>
            <a:off x="250920" y="836640"/>
            <a:ext cx="8626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绪像一首歌，抑扬顿挫，委婉悠长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绪像一幅画，色彩斑斓，意境深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情绪像一首诗，月有阴晴圆缺，人有喜怒哀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们心灵的花园里，情绪之花争相斗艳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在我们火热的青春里，情绪似“奔腾的洪流” 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我们广阔的智慧里，理智控制着情绪之舟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38080" y="0"/>
            <a:ext cx="5029200" cy="914400"/>
          </a:xfrm>
          <a:prstGeom prst="cloudCallout">
            <a:avLst>
              <a:gd name="adj1" fmla="val -46305"/>
              <a:gd name="adj2" fmla="val 60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127160" y="96840"/>
            <a:ext cx="214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447920" y="-4680"/>
            <a:ext cx="50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Times New Roman"/>
                <a:ea typeface="华文彩云"/>
              </a:rPr>
              <a:t>说一说：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情绪像…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5" name="" descr=""/>
          <p:cNvPicPr/>
          <p:nvPr/>
        </p:nvPicPr>
        <p:blipFill>
          <a:blip r:embed="rId1"/>
          <a:srcRect l="2744" t="0" r="2744" b="0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6" name=""/>
          <p:cNvSpPr/>
          <p:nvPr/>
        </p:nvSpPr>
        <p:spPr>
          <a:xfrm>
            <a:off x="6480000" y="333360"/>
            <a:ext cx="26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你会怎么办</a:t>
            </a:r>
            <a:r>
              <a:rPr b="1" lang="en-US" sz="3200" spc="-1" strike="noStrike">
                <a:solidFill>
                  <a:srgbClr val="000000"/>
                </a:solidFill>
                <a:latin typeface="华文琥珀"/>
                <a:ea typeface="华文琥珀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" descr=""/>
          <p:cNvPicPr/>
          <p:nvPr/>
        </p:nvPicPr>
        <p:blipFill>
          <a:blip r:embed="rId1"/>
          <a:srcRect l="2646" t="0" r="6115" b="10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" descr=""/>
          <p:cNvPicPr/>
          <p:nvPr/>
        </p:nvPicPr>
        <p:blipFill>
          <a:blip r:embed="rId1"/>
          <a:srcRect l="5790" t="0" r="2653" b="0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0" name="" descr="点击看大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1" name=""/>
          <p:cNvSpPr txBox="1"/>
          <p:nvPr/>
        </p:nvSpPr>
        <p:spPr>
          <a:xfrm>
            <a:off x="533520" y="914400"/>
            <a:ext cx="1600200" cy="192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哭</a:t>
            </a:r>
            <a:endParaRPr b="1" lang="en-US" sz="72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" descr=""/>
          <p:cNvPicPr/>
          <p:nvPr/>
        </p:nvPicPr>
        <p:blipFill>
          <a:blip r:embed="rId1"/>
          <a:stretch/>
        </p:blipFill>
        <p:spPr>
          <a:xfrm>
            <a:off x="0" y="-762120"/>
            <a:ext cx="9144000" cy="7620120"/>
          </a:xfrm>
          <a:prstGeom prst="rect">
            <a:avLst/>
          </a:prstGeom>
          <a:ln w="0">
            <a:noFill/>
          </a:ln>
        </p:spPr>
      </p:pic>
      <p:sp>
        <p:nvSpPr>
          <p:cNvPr id="913" name=""/>
          <p:cNvSpPr/>
          <p:nvPr/>
        </p:nvSpPr>
        <p:spPr>
          <a:xfrm>
            <a:off x="-561240" y="0"/>
            <a:ext cx="20091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8080"/>
                </a:solidFill>
                <a:latin typeface="Times New Roman"/>
              </a:rPr>
              <a:t>大声叫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9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"/>
          <p:cNvSpPr txBox="1"/>
          <p:nvPr/>
        </p:nvSpPr>
        <p:spPr>
          <a:xfrm>
            <a:off x="1066680" y="0"/>
            <a:ext cx="213372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运动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752480" y="0"/>
            <a:ext cx="5699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671400" y="2451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013120" y="2451240"/>
            <a:ext cx="6460920" cy="19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8381880" cy="606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0" name=""/>
          <p:cNvGrpSpPr/>
          <p:nvPr/>
        </p:nvGrpSpPr>
        <p:grpSpPr>
          <a:xfrm>
            <a:off x="2232000" y="2635200"/>
            <a:ext cx="4680000" cy="1569960"/>
            <a:chOff x="2232000" y="2635200"/>
            <a:chExt cx="4680000" cy="1569960"/>
          </a:xfrm>
        </p:grpSpPr>
        <p:sp>
          <p:nvSpPr>
            <p:cNvPr id="921" name=""/>
            <p:cNvSpPr/>
            <p:nvPr/>
          </p:nvSpPr>
          <p:spPr>
            <a:xfrm>
              <a:off x="2232000" y="2635200"/>
              <a:ext cx="4680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232000" y="2635200"/>
              <a:ext cx="4680000" cy="15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0" lang="zh-CN" sz="9700" spc="-1" strike="noStrike">
                  <a:solidFill>
                    <a:srgbClr val="000000"/>
                  </a:solidFill>
                  <a:latin typeface="宋体"/>
                </a:rPr>
                <a:t> </a:t>
              </a:r>
              <a:r>
                <a:rPr b="0" lang="zh-CN" sz="900" spc="-1" strike="noStrike">
                  <a:solidFill>
                    <a:srgbClr val="000000"/>
                  </a:solidFill>
                  <a:latin typeface="宋体"/>
                </a:rPr>
                <a:t>                    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23" name="" descr=""/>
          <p:cNvPicPr/>
          <p:nvPr/>
        </p:nvPicPr>
        <p:blipFill>
          <a:blip r:embed="rId1"/>
          <a:stretch/>
        </p:blipFill>
        <p:spPr>
          <a:xfrm>
            <a:off x="5410080" y="1447920"/>
            <a:ext cx="3508560" cy="4647960"/>
          </a:xfrm>
          <a:prstGeom prst="rect">
            <a:avLst/>
          </a:prstGeom>
          <a:ln w="0">
            <a:noFill/>
          </a:ln>
        </p:spPr>
      </p:pic>
      <p:sp>
        <p:nvSpPr>
          <p:cNvPr id="924" name=""/>
          <p:cNvSpPr txBox="1"/>
          <p:nvPr/>
        </p:nvSpPr>
        <p:spPr>
          <a:xfrm>
            <a:off x="152280" y="1828800"/>
            <a:ext cx="1752840" cy="342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喝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华文行楷"/>
              </a:rPr>
              <a:t>酒</a:t>
            </a:r>
            <a:endParaRPr b="1" lang="en-US" sz="66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2"/>
          <a:stretch/>
        </p:blipFill>
        <p:spPr>
          <a:xfrm>
            <a:off x="2133720" y="1447920"/>
            <a:ext cx="331920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9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/>
          </p:nvPr>
        </p:nvSpPr>
        <p:spPr>
          <a:xfrm>
            <a:off x="380880" y="380880"/>
            <a:ext cx="87631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比较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总觉得日子过得有一些极端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想我还是不习惯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从没没无闻到有人喜欢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比较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总觉得钞票一天比一天难赚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朋友常常有意无意调侃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也许有天改名叫周转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比较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看那前方怎么也看不到岸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那个後面还有一班天才追赶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哎呦写一首皆大欢喜的歌是越来越难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比较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陌生的城市何处有我的期盼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挥别了家乡的伙伴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现在的我更觉得孤单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7" name=""/>
          <p:cNvSpPr/>
          <p:nvPr/>
        </p:nvSpPr>
        <p:spPr>
          <a:xfrm>
            <a:off x="4038480" y="6491160"/>
            <a:ext cx="510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华文行楷"/>
              </a:rPr>
              <a:t>天下课件：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tp://shop62905894.taobao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QQ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0115280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6" name="" descr=""/>
          <p:cNvPicPr/>
          <p:nvPr/>
        </p:nvPicPr>
        <p:blipFill>
          <a:blip r:embed="rId1"/>
          <a:stretch/>
        </p:blipFill>
        <p:spPr>
          <a:xfrm>
            <a:off x="0" y="-122400"/>
            <a:ext cx="9144000" cy="6980400"/>
          </a:xfrm>
          <a:prstGeom prst="rect">
            <a:avLst/>
          </a:prstGeom>
          <a:ln w="0">
            <a:noFill/>
          </a:ln>
        </p:spPr>
      </p:pic>
      <p:sp>
        <p:nvSpPr>
          <p:cNvPr id="927" name=""/>
          <p:cNvSpPr txBox="1"/>
          <p:nvPr/>
        </p:nvSpPr>
        <p:spPr>
          <a:xfrm>
            <a:off x="6248520" y="609480"/>
            <a:ext cx="236196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睡觉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9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9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5246640" cy="62071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 txBox="1"/>
          <p:nvPr/>
        </p:nvSpPr>
        <p:spPr>
          <a:xfrm rot="182400">
            <a:off x="304920" y="914040"/>
            <a:ext cx="1752480" cy="532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54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吃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东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西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29560"/>
          </a:xfrm>
          <a:prstGeom prst="rect">
            <a:avLst/>
          </a:prstGeom>
          <a:ln w="0">
            <a:noFill/>
          </a:ln>
        </p:spPr>
      </p:pic>
      <p:sp>
        <p:nvSpPr>
          <p:cNvPr id="931" name=""/>
          <p:cNvSpPr txBox="1"/>
          <p:nvPr/>
        </p:nvSpPr>
        <p:spPr>
          <a:xfrm>
            <a:off x="6324480" y="4038480"/>
            <a:ext cx="251460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华文行楷"/>
              </a:rPr>
              <a:t>打架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1143000" y="1219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80"/>
                </a:solidFill>
                <a:latin typeface="Times New Roman"/>
              </a:rPr>
              <a:t>情绪发泄基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1447920" y="2819520"/>
          <a:ext cx="6248160" cy="761760"/>
        </p:xfrm>
        <a:graphic>
          <a:graphicData uri="http://schemas.openxmlformats.org/drawingml/2006/table">
            <a:tbl>
              <a:tblPr/>
              <a:tblGrid>
                <a:gridCol w="2097000"/>
                <a:gridCol w="1773360"/>
                <a:gridCol w="2377800"/>
              </a:tblGrid>
              <a:tr h="76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80"/>
                          </a:solidFill>
                          <a:latin typeface="Times New Roman"/>
                        </a:rPr>
                        <a:t>恰当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8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8080"/>
                          </a:solidFill>
                          <a:latin typeface="Times New Roman"/>
                        </a:rPr>
                        <a:t>中性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8080"/>
                          </a:solidFill>
                          <a:latin typeface="Times New Roman"/>
                        </a:rPr>
                        <a:t>不恰当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4" name=""/>
          <p:cNvSpPr/>
          <p:nvPr/>
        </p:nvSpPr>
        <p:spPr>
          <a:xfrm>
            <a:off x="1447920" y="3733920"/>
            <a:ext cx="220968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哭、运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找人倾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唱歌、娱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581280" y="3733920"/>
            <a:ext cx="198144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睡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吃东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410080" y="3733920"/>
            <a:ext cx="2057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80"/>
                </a:solidFill>
                <a:latin typeface="Times New Roman"/>
              </a:rPr>
              <a:t>狂哭、狂睡、狂吃、喝酒、吸烟、生闷气、扔东西、打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9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1143000" y="1219320"/>
            <a:ext cx="3200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归纳总结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143000" y="2133720"/>
            <a:ext cx="74674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倾诉型：分享快乐、分担忧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143000" y="3200400"/>
            <a:ext cx="7543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摧残型：吸烟、喝酒、狂吃狂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143000" y="4267080"/>
            <a:ext cx="609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80"/>
                </a:solidFill>
                <a:latin typeface="Times New Roman"/>
              </a:rPr>
              <a:t>运动型：打球、游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9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3974760" y="2563200"/>
            <a:ext cx="118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b9fdf"/>
                </a:solidFill>
                <a:latin typeface="Times New Roman"/>
                <a:ea typeface="隶书"/>
              </a:rPr>
              <a:t>转移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1332000" y="5491800"/>
            <a:ext cx="664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b0fb3"/>
                </a:solidFill>
                <a:latin typeface="Times New Roman"/>
                <a:ea typeface="隶书"/>
              </a:rPr>
              <a:t>当自己不开心的时候，把不开心的感觉转移到别的东西上去。例如自己考试考得不好，很不快乐，那就想想上个周末全班去郊游的事情，或者想想昨天老师表扬自己勤奋学习的时刻，这时，我们会变得快乐，积极起来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7524720" y="5897520"/>
            <a:ext cx="1266840" cy="9604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7236000" y="2349360"/>
            <a:ext cx="9144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"/>
          <p:cNvSpPr/>
          <p:nvPr/>
        </p:nvSpPr>
        <p:spPr>
          <a:xfrm>
            <a:off x="3633840" y="81576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b9fdf"/>
                </a:solidFill>
                <a:latin typeface="Times New Roman"/>
                <a:ea typeface="华文楷体"/>
              </a:rPr>
              <a:t>呼吸调节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003400" y="2370240"/>
            <a:ext cx="3863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914400" y="2831400"/>
            <a:ext cx="754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0fb3"/>
                </a:solidFill>
                <a:latin typeface="Times New Roman"/>
                <a:ea typeface="华文楷体"/>
              </a:rPr>
              <a:t>当自己觉得很不开心的时候，闭上眼睛，深吸气，然后把气慢慢放出来；再深吸气</a:t>
            </a:r>
            <a:r>
              <a:rPr b="1" lang="en-US" sz="3200" spc="-1" strike="noStrike">
                <a:solidFill>
                  <a:srgbClr val="1b0fb3"/>
                </a:solidFill>
                <a:latin typeface="Times New Roman"/>
                <a:ea typeface="华文楷体"/>
              </a:rPr>
              <a:t>……</a:t>
            </a:r>
            <a:r>
              <a:rPr b="1" lang="zh-CN" sz="3200" spc="-1" strike="noStrike">
                <a:solidFill>
                  <a:srgbClr val="1b0fb3"/>
                </a:solidFill>
                <a:latin typeface="Times New Roman"/>
                <a:ea typeface="华文楷体"/>
              </a:rPr>
              <a:t>如此持续几个循环。你会发现自己呼吸变得平稳，整个人也平静下来了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8" name="" descr=""/>
          <p:cNvPicPr/>
          <p:nvPr/>
        </p:nvPicPr>
        <p:blipFill>
          <a:blip r:embed="rId1"/>
          <a:stretch/>
        </p:blipFill>
        <p:spPr>
          <a:xfrm>
            <a:off x="1403280" y="5084640"/>
            <a:ext cx="914400" cy="889200"/>
          </a:xfrm>
          <a:prstGeom prst="rect">
            <a:avLst/>
          </a:prstGeom>
          <a:ln w="0">
            <a:noFill/>
          </a:ln>
        </p:spPr>
      </p:pic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6553080" y="685800"/>
            <a:ext cx="12193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069720" y="9792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imes New Roman"/>
                <a:ea typeface="楷体_GB2312"/>
              </a:rPr>
              <a:t>表情调节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1187280" y="3814200"/>
            <a:ext cx="589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b0fb3"/>
                </a:solidFill>
                <a:latin typeface="楷体_GB2312"/>
                <a:ea typeface="楷体_GB2312"/>
              </a:rPr>
              <a:t>当自己不开心的时候，到镜子面前对着自己扮鬼脸。你会发现自己也可以逗自己笑，笑起来的自己其实也很可爱，不开心的情绪也就不见拉≈≈≈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2" name="" descr=""/>
          <p:cNvPicPr/>
          <p:nvPr/>
        </p:nvPicPr>
        <p:blipFill>
          <a:blip r:embed="rId1"/>
          <a:stretch/>
        </p:blipFill>
        <p:spPr>
          <a:xfrm>
            <a:off x="6877080" y="836640"/>
            <a:ext cx="1542960" cy="1752480"/>
          </a:xfrm>
          <a:prstGeom prst="rect">
            <a:avLst/>
          </a:prstGeom>
          <a:ln w="0">
            <a:noFill/>
          </a:ln>
        </p:spPr>
      </p:pic>
      <p:pic>
        <p:nvPicPr>
          <p:cNvPr id="953" name="" descr=""/>
          <p:cNvPicPr/>
          <p:nvPr/>
        </p:nvPicPr>
        <p:blipFill>
          <a:blip r:embed="rId2"/>
          <a:stretch/>
        </p:blipFill>
        <p:spPr>
          <a:xfrm>
            <a:off x="1258920" y="836640"/>
            <a:ext cx="860400" cy="6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9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8839080" cy="6858000"/>
          </a:xfrm>
          <a:prstGeom prst="rect">
            <a:avLst/>
          </a:prstGeom>
          <a:ln w="0">
            <a:noFill/>
          </a:ln>
        </p:spPr>
      </p:pic>
      <p:sp>
        <p:nvSpPr>
          <p:cNvPr id="955" name=""/>
          <p:cNvSpPr/>
          <p:nvPr/>
        </p:nvSpPr>
        <p:spPr>
          <a:xfrm>
            <a:off x="380880" y="1911600"/>
            <a:ext cx="346716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通过今天的课我们知道，没有什么烦恼是我们不可以解决的，对不对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除却乌云见晴天，我们排除了烦恼也就见到快乐了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大家还会不快乐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6" name="" descr=""/>
          <p:cNvPicPr/>
          <p:nvPr/>
        </p:nvPicPr>
        <p:blipFill>
          <a:blip r:embed="rId2"/>
          <a:stretch/>
        </p:blipFill>
        <p:spPr>
          <a:xfrm>
            <a:off x="0" y="6054840"/>
            <a:ext cx="1044720" cy="80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89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"/>
          <p:cNvSpPr/>
          <p:nvPr/>
        </p:nvSpPr>
        <p:spPr>
          <a:xfrm>
            <a:off x="5092200" y="981000"/>
            <a:ext cx="3466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所以我们都要记住哦</a:t>
            </a:r>
            <a:r>
              <a:rPr b="1" lang="en-US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·····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5219640" y="1700280"/>
            <a:ext cx="3672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快乐就在我身边！</a:t>
            </a:r>
            <a:endParaRPr b="0" lang="en-US" sz="4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/>
          </p:nvPr>
        </p:nvSpPr>
        <p:spPr>
          <a:xfrm>
            <a:off x="456840" y="304560"/>
            <a:ext cx="891540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比较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女儿说六加六结果等於十三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问老段说怎么办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他说基本上这个很难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你烦也比你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梦见和饭岛爱一起晚餐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梦中的餐厅灯光太昏暗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遍寻不著那蓝色的小药丸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music)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人生总有远的近的麻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太每天嫌我回家太晚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女友妈妈嫌我长得寒酸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虽然我已每天苦干实干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华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管它什么天大麻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久而久之我会习惯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天下没有不要钱的午餐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太太发现秘书裙子很短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她就买了八千块的耳环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女儿太胖儿子不肯吃饭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车子太烂银行没有存款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华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麻烦麻烦麻烦麻烦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麻烦我很麻烦麻烦麻烦麻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比较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的头发只剩下从前的一半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每天的工作排得太满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台北的女生有些高不可攀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e10900"/>
                </a:solidFill>
                <a:latin typeface="Arial"/>
              </a:rPr>
              <a:t>最近比较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比较烦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我只是心烦却还没有混乱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你们的关心让我温暖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李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家是我最甘心的负担</a:t>
            </a:r>
            <a:br>
              <a:rPr sz="2800"/>
            </a:b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李华冠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不烦我不烦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只有一点烦你比我烦我情愿心甘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不烦不烦我不烦我不烦我不烦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只有一点烦你和我一样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不烦不烦我不烦我真的不烦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不烦不烦人生很灿烂灿烂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我不烦不烦你比我烦你比较烦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你比较烦我不烦我一点都不烦我不烦</a:t>
            </a:r>
            <a:br>
              <a:rPr sz="3200"/>
            </a:b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4643280" y="4797360"/>
            <a:ext cx="3887640" cy="1706400"/>
            <a:chOff x="4643280" y="4797360"/>
            <a:chExt cx="3887640" cy="1706400"/>
          </a:xfrm>
        </p:grpSpPr>
        <p:sp>
          <p:nvSpPr>
            <p:cNvPr id="832" name=""/>
            <p:cNvSpPr/>
            <p:nvPr/>
          </p:nvSpPr>
          <p:spPr>
            <a:xfrm>
              <a:off x="4643280" y="4797360"/>
              <a:ext cx="3797280" cy="1706400"/>
            </a:xfrm>
            <a:prstGeom prst="cloudCallout">
              <a:avLst>
                <a:gd name="adj1" fmla="val -49402"/>
                <a:gd name="adj2" fmla="val 78064"/>
              </a:avLst>
            </a:prstGeom>
            <a:solidFill>
              <a:srgbClr val="9ac2c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095080" y="4870080"/>
              <a:ext cx="3435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r>
                <a:rPr b="1" lang="zh-CN" sz="4400" spc="-1" strike="noStrike">
                  <a:solidFill>
                    <a:srgbClr val="ffff00"/>
                  </a:solidFill>
                  <a:latin typeface="Times New Roman"/>
                </a:rPr>
                <a:t>给了你什么启示</a:t>
              </a:r>
              <a:r>
                <a:rPr b="1" lang="en-US" sz="4400" spc="-1" strike="noStrike">
                  <a:solidFill>
                    <a:srgbClr val="ffff00"/>
                  </a:solidFill>
                  <a:latin typeface="Times New Roman"/>
                </a:rPr>
                <a:t>?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4" name=""/>
          <p:cNvSpPr/>
          <p:nvPr/>
        </p:nvSpPr>
        <p:spPr>
          <a:xfrm>
            <a:off x="324000" y="692280"/>
            <a:ext cx="8135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一个粗心的医生，将两个病人的诊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报告弄错了。原本没有癌症倾向的病人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为错误的诊断报告，而极度的伤心、痛苦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焦虑，并且情绪极不稳定。没过多久，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医院的再次检查中，果真发现了癌症的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向。而那位本应有癌症倾向的病人，由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拿到了没有癌症倾向的诊断证明，情绪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bfde3"/>
                </a:solidFill>
                <a:latin typeface="Times New Roman"/>
              </a:rPr>
              <a:t>得高涨，心情变得愉悦，病情渐渐好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6" name=""/>
          <p:cNvSpPr/>
          <p:nvPr/>
        </p:nvSpPr>
        <p:spPr>
          <a:xfrm>
            <a:off x="1824120" y="88596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7" name=""/>
          <p:cNvGrpSpPr/>
          <p:nvPr/>
        </p:nvGrpSpPr>
        <p:grpSpPr>
          <a:xfrm>
            <a:off x="250920" y="765000"/>
            <a:ext cx="7139160" cy="2362320"/>
            <a:chOff x="250920" y="765000"/>
            <a:chExt cx="7139160" cy="2362320"/>
          </a:xfrm>
        </p:grpSpPr>
        <p:sp>
          <p:nvSpPr>
            <p:cNvPr id="838" name=""/>
            <p:cNvSpPr/>
            <p:nvPr/>
          </p:nvSpPr>
          <p:spPr>
            <a:xfrm>
              <a:off x="250920" y="765000"/>
              <a:ext cx="838080" cy="2362320"/>
            </a:xfrm>
            <a:prstGeom prst="verticalScroll">
              <a:avLst>
                <a:gd name="adj" fmla="val 12500"/>
              </a:avLst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请你分析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472840" y="1204920"/>
              <a:ext cx="49172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对同样的事情，为什么不同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Times New Roman"/>
                </a:rPr>
                <a:t>的人会有不同的情绪表现呢？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40" name="" descr=""/>
          <p:cNvPicPr/>
          <p:nvPr/>
        </p:nvPicPr>
        <p:blipFill>
          <a:blip r:embed="rId2">
            <a:lum bright="-30000"/>
          </a:blip>
          <a:stretch/>
        </p:blipFill>
        <p:spPr>
          <a:xfrm>
            <a:off x="6058080" y="3429000"/>
            <a:ext cx="2503440" cy="2744640"/>
          </a:xfrm>
          <a:prstGeom prst="rect">
            <a:avLst/>
          </a:prstGeom>
          <a:ln w="0">
            <a:noFill/>
          </a:ln>
        </p:spPr>
      </p:pic>
      <p:sp>
        <p:nvSpPr>
          <p:cNvPr id="841" name=""/>
          <p:cNvSpPr/>
          <p:nvPr/>
        </p:nvSpPr>
        <p:spPr>
          <a:xfrm>
            <a:off x="4886280" y="4059360"/>
            <a:ext cx="1171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2" name="" descr=""/>
          <p:cNvPicPr/>
          <p:nvPr/>
        </p:nvPicPr>
        <p:blipFill>
          <a:blip r:embed="rId3">
            <a:lum bright="-36000"/>
          </a:blip>
          <a:stretch/>
        </p:blipFill>
        <p:spPr>
          <a:xfrm>
            <a:off x="3244680" y="3699000"/>
            <a:ext cx="2654640" cy="2408040"/>
          </a:xfrm>
          <a:prstGeom prst="rect">
            <a:avLst/>
          </a:prstGeom>
          <a:ln w="0">
            <a:noFill/>
          </a:ln>
        </p:spPr>
      </p:pic>
      <p:pic>
        <p:nvPicPr>
          <p:cNvPr id="843" name="" descr=""/>
          <p:cNvPicPr/>
          <p:nvPr/>
        </p:nvPicPr>
        <p:blipFill>
          <a:blip r:embed="rId4">
            <a:lum bright="-24000"/>
          </a:blip>
          <a:stretch/>
        </p:blipFill>
        <p:spPr>
          <a:xfrm>
            <a:off x="476280" y="3429000"/>
            <a:ext cx="2486160" cy="279072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1979640" y="2852640"/>
            <a:ext cx="51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因为每个人看问题的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角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和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态度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5" name="" descr=""/>
          <p:cNvPicPr/>
          <p:nvPr/>
        </p:nvPicPr>
        <p:blipFill>
          <a:blip r:embed="rId2"/>
          <a:stretch/>
        </p:blipFill>
        <p:spPr>
          <a:xfrm>
            <a:off x="468360" y="784080"/>
            <a:ext cx="3672000" cy="2451240"/>
          </a:xfrm>
          <a:prstGeom prst="rect">
            <a:avLst/>
          </a:prstGeom>
          <a:ln w="0">
            <a:noFill/>
          </a:ln>
        </p:spPr>
      </p:pic>
      <p:pic>
        <p:nvPicPr>
          <p:cNvPr id="84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61080" y="1303200"/>
            <a:ext cx="3598560" cy="2657520"/>
          </a:xfrm>
          <a:prstGeom prst="rect">
            <a:avLst/>
          </a:prstGeom>
          <a:ln w="0">
            <a:noFill/>
          </a:ln>
        </p:spPr>
      </p:pic>
      <p:sp>
        <p:nvSpPr>
          <p:cNvPr id="847" name=""/>
          <p:cNvSpPr/>
          <p:nvPr/>
        </p:nvSpPr>
        <p:spPr>
          <a:xfrm>
            <a:off x="538200" y="3429000"/>
            <a:ext cx="3889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这些球迷为什么会在自己身上涂满了色彩标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95280" y="475632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心热爱足球，对足球有着深厚感情和极大的兴趣。他们在每场比赛中都情绪高涨，十分投入。用各种方式表现个性情绪。相反，有些人对足球不感兴趣，再盛大的比赛也不能激发他们的热情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332000" y="259560"/>
            <a:ext cx="74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Times New Roman"/>
                <a:ea typeface="黑体"/>
              </a:rPr>
              <a:t>兴趣不同，人们的情绪感受也不会相同</a:t>
            </a:r>
            <a:r>
              <a:rPr b="0" lang="zh-CN" sz="2800" spc="-1" strike="noStrike">
                <a:solidFill>
                  <a:srgbClr val="33cc33"/>
                </a:solidFill>
                <a:latin typeface="Times New Roman"/>
                <a:ea typeface="黑体"/>
              </a:rPr>
              <a:t>。</a:t>
            </a:r>
            <a:r>
              <a:rPr b="0" lang="zh-CN" sz="2800" spc="-1" strike="noStrike">
                <a:solidFill>
                  <a:srgbClr val="66ff33"/>
                </a:solidFill>
                <a:latin typeface="Times New Roman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6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主题班会课件(分28大类): http://shop62905894.taobao.com</dc:creator>
  <dc:description>主题班会课件(分28大类): http://shop62905894.taobao.com</dc:description>
  <cp:keywords>主题班会课件(分28大类): http://shop62905894.taobao.com</cp:keywords>
  <dc:language>en-US</dc:language>
  <cp:lastModifiedBy>微软用户</cp:lastModifiedBy>
  <dcterms:modified xsi:type="dcterms:W3CDTF">2010-10-01T17:07:56Z</dcterms:modified>
  <cp:revision>22</cp:revision>
  <dc:subject>主题班会课件(分28大类): http://shop62905894.taobao.com</dc:subject>
  <dc:title>主题班会课件(分28大类): http://shop62905894.taobao.com</dc:title>
</cp:coreProperties>
</file>