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661-C68B-413D-B8EF-DC3162311D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410D-C6D6-48E1-B7A4-EC18F69A2D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DFED-CC4F-4DA8-ACDF-9C97EDD2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26F5-9104-4F91-AE9C-750778D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47B2-1277-42F6-BC19-9EF67333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94B1-B6CD-4810-A0B9-0499D2D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EAFC1-5C77-48F3-BEAA-2B398713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CBF13-0B04-4719-A0F7-B453E3C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4DE60-7222-4BA7-A60E-952A5F92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5E6A3-F5A9-4082-B8CE-32F7AFB9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42647-C1AE-42E0-B4BE-4527348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6D1F8-231B-4A3B-B889-6915A2D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79AAB-F058-400E-B901-1C6068F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2908-457E-4C70-BA11-554AE482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DE75-6865-42D2-BE77-F5C95B2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75E1-2AE2-434D-AB13-19FC973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0A6DB-0786-40C5-A913-5D675E1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CCAC7-06EF-46EE-9CE3-82E99C6E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BCF2D-0395-40B6-AF32-A241410F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3FD-D0DB-4281-A07F-50472D4F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174D-F400-4F1B-B282-5F03849E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5754-9B6F-4C2F-BEC2-D128F52D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5B99-D1F3-4A8E-8DD0-2767E4B3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C6C4-C802-43C5-A284-1B56810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9898-9C65-4B22-8ED1-B5BC2B2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8FF6-5E5C-4BC6-87CC-08D421FC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AF5E-FBE2-4CEA-A864-6B22A2D3FD9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7A3F-F677-4700-96C2-D095DB488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8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97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1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3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6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8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1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3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6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8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6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38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1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4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6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49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放牛班的春天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57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3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8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2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5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6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77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0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88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5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6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197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0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2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0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5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6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17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0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0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5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6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37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0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，一把找回遗忘记忆的钥匙，一对勇敢追求梦想的翅膀，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1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4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67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3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2892240" y="4676760"/>
              <a:ext cx="47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想用纯净的音乐唤回了管教们冰冷已久的心，来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1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istrator</cp:lastModifiedBy>
  <cp:lastPrinted>1899-12-30T00:00:00Z</cp:lastPrinted>
  <dcterms:modified xsi:type="dcterms:W3CDTF">2015-08-03T03:43:23Z</dcterms:modified>
  <cp:revision>5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