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575E-75E3-4832-9021-C576AD12F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B95A-11D8-43D7-8D52-06854F2F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CD85-4CA5-46B3-8394-3DA670FB4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C2FD-864D-44CD-B844-3D3C36769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A2E2-55DA-4F4E-BCB8-F66E17D7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B467-36E3-454B-9265-77D29721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F6A3-7D82-44FC-B448-B3C95CB3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CE2E-B14E-4419-8DBE-7CA923CE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714B-2275-455E-A199-D7B9350A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2B48-0776-414A-80F6-B1445BF8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0FB7-C30E-44ED-99B1-52EF46BD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FEAC-D01D-426D-8BD8-21993B02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1B40-F367-4D0D-919C-7033432574D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528624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AutoShape 3"/>
          <p:cNvSpPr/>
          <p:nvPr/>
        </p:nvSpPr>
        <p:spPr>
          <a:xfrm>
            <a:off x="809640" y="3929040"/>
            <a:ext cx="7524720" cy="2347920"/>
          </a:xfrm>
          <a:prstGeom prst="rect">
            <a:avLst/>
          </a:prstGeom>
          <a:solidFill>
            <a:srgbClr val="4b7615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"/>
          <p:cNvSpPr/>
          <p:nvPr/>
        </p:nvSpPr>
        <p:spPr>
          <a:xfrm>
            <a:off x="928800" y="3776760"/>
            <a:ext cx="7315200" cy="2377800"/>
          </a:xfrm>
          <a:prstGeom prst="rect">
            <a:avLst/>
          </a:prstGeom>
          <a:solidFill>
            <a:srgbClr val="d73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组合 14" descr=""/>
          <p:cNvPicPr/>
          <p:nvPr/>
        </p:nvPicPr>
        <p:blipFill>
          <a:blip r:embed="rId1"/>
          <a:stretch/>
        </p:blipFill>
        <p:spPr>
          <a:xfrm>
            <a:off x="822240" y="1274760"/>
            <a:ext cx="7547040" cy="25160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2"/>
          <p:cNvSpPr/>
          <p:nvPr/>
        </p:nvSpPr>
        <p:spPr>
          <a:xfrm>
            <a:off x="280728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13"/>
          <p:cNvSpPr/>
          <p:nvPr/>
        </p:nvSpPr>
        <p:spPr>
          <a:xfrm>
            <a:off x="266436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14"/>
          <p:cNvSpPr/>
          <p:nvPr/>
        </p:nvSpPr>
        <p:spPr>
          <a:xfrm>
            <a:off x="580752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15"/>
          <p:cNvSpPr/>
          <p:nvPr/>
        </p:nvSpPr>
        <p:spPr>
          <a:xfrm>
            <a:off x="587880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3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3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组合 21"/>
          <p:cNvGrpSpPr/>
          <p:nvPr/>
        </p:nvGrpSpPr>
        <p:grpSpPr>
          <a:xfrm>
            <a:off x="2428920" y="2000160"/>
            <a:ext cx="4892760" cy="2000520"/>
            <a:chOff x="2428920" y="2000160"/>
            <a:chExt cx="4892760" cy="2000520"/>
          </a:xfrm>
        </p:grpSpPr>
        <p:grpSp>
          <p:nvGrpSpPr>
            <p:cNvPr id="43" name="组合 11"/>
            <p:cNvGrpSpPr/>
            <p:nvPr/>
          </p:nvGrpSpPr>
          <p:grpSpPr>
            <a:xfrm>
              <a:off x="2428920" y="2000160"/>
              <a:ext cx="4892760" cy="407160"/>
              <a:chOff x="2428920" y="2000160"/>
              <a:chExt cx="4892760" cy="407160"/>
            </a:xfrm>
          </p:grpSpPr>
          <p:sp>
            <p:nvSpPr>
              <p:cNvPr id="44" name="AutoShape 3"/>
              <p:cNvSpPr/>
              <p:nvPr/>
            </p:nvSpPr>
            <p:spPr>
              <a:xfrm>
                <a:off x="2428920" y="2143080"/>
                <a:ext cx="4892760" cy="264240"/>
              </a:xfrm>
              <a:prstGeom prst="rect">
                <a:avLst/>
              </a:prstGeom>
              <a:solidFill>
                <a:srgbClr val="4b7615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AutoShape 3"/>
              <p:cNvSpPr/>
              <p:nvPr/>
            </p:nvSpPr>
            <p:spPr>
              <a:xfrm>
                <a:off x="2477160" y="2000160"/>
                <a:ext cx="4795920" cy="360720"/>
              </a:xfrm>
              <a:prstGeom prst="rect">
                <a:avLst/>
              </a:prstGeom>
              <a:solidFill>
                <a:srgbClr val="d73f00">
                  <a:alpha val="8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组合 12"/>
            <p:cNvGrpSpPr/>
            <p:nvPr/>
          </p:nvGrpSpPr>
          <p:grpSpPr>
            <a:xfrm>
              <a:off x="2428920" y="2521800"/>
              <a:ext cx="4892760" cy="407160"/>
              <a:chOff x="2428920" y="2521800"/>
              <a:chExt cx="4892760" cy="407160"/>
            </a:xfrm>
          </p:grpSpPr>
          <p:sp>
            <p:nvSpPr>
              <p:cNvPr id="47" name="AutoShape 3"/>
              <p:cNvSpPr/>
              <p:nvPr/>
            </p:nvSpPr>
            <p:spPr>
              <a:xfrm>
                <a:off x="2428920" y="2665440"/>
                <a:ext cx="4892760" cy="263520"/>
              </a:xfrm>
              <a:prstGeom prst="rect">
                <a:avLst/>
              </a:prstGeom>
              <a:solidFill>
                <a:srgbClr val="4b7615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AutoShape 3"/>
              <p:cNvSpPr/>
              <p:nvPr/>
            </p:nvSpPr>
            <p:spPr>
              <a:xfrm>
                <a:off x="2477160" y="2521800"/>
                <a:ext cx="4795920" cy="360000"/>
              </a:xfrm>
              <a:prstGeom prst="rect">
                <a:avLst/>
              </a:prstGeom>
              <a:solidFill>
                <a:srgbClr val="d73f00">
                  <a:alpha val="8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" name="组合 15"/>
            <p:cNvGrpSpPr/>
            <p:nvPr/>
          </p:nvGrpSpPr>
          <p:grpSpPr>
            <a:xfrm>
              <a:off x="2428920" y="3071880"/>
              <a:ext cx="4892760" cy="407160"/>
              <a:chOff x="2428920" y="3071880"/>
              <a:chExt cx="4892760" cy="407160"/>
            </a:xfrm>
          </p:grpSpPr>
          <p:sp>
            <p:nvSpPr>
              <p:cNvPr id="50" name="AutoShape 3"/>
              <p:cNvSpPr/>
              <p:nvPr/>
            </p:nvSpPr>
            <p:spPr>
              <a:xfrm>
                <a:off x="2428920" y="3214800"/>
                <a:ext cx="4892760" cy="264240"/>
              </a:xfrm>
              <a:prstGeom prst="rect">
                <a:avLst/>
              </a:prstGeom>
              <a:solidFill>
                <a:srgbClr val="4b7615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AutoShape 3"/>
              <p:cNvSpPr/>
              <p:nvPr/>
            </p:nvSpPr>
            <p:spPr>
              <a:xfrm>
                <a:off x="2477160" y="3071880"/>
                <a:ext cx="4795920" cy="360720"/>
              </a:xfrm>
              <a:prstGeom prst="rect">
                <a:avLst/>
              </a:prstGeom>
              <a:solidFill>
                <a:srgbClr val="d73f00">
                  <a:alpha val="8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组合 18"/>
            <p:cNvGrpSpPr/>
            <p:nvPr/>
          </p:nvGrpSpPr>
          <p:grpSpPr>
            <a:xfrm>
              <a:off x="2428920" y="3593520"/>
              <a:ext cx="4892760" cy="407160"/>
              <a:chOff x="2428920" y="3593520"/>
              <a:chExt cx="4892760" cy="407160"/>
            </a:xfrm>
          </p:grpSpPr>
          <p:sp>
            <p:nvSpPr>
              <p:cNvPr id="53" name="AutoShape 3"/>
              <p:cNvSpPr/>
              <p:nvPr/>
            </p:nvSpPr>
            <p:spPr>
              <a:xfrm>
                <a:off x="2428920" y="3737160"/>
                <a:ext cx="4892760" cy="263520"/>
              </a:xfrm>
              <a:prstGeom prst="rect">
                <a:avLst/>
              </a:prstGeom>
              <a:solidFill>
                <a:srgbClr val="4b7615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AutoShape 3"/>
              <p:cNvSpPr/>
              <p:nvPr/>
            </p:nvSpPr>
            <p:spPr>
              <a:xfrm>
                <a:off x="2477160" y="3593520"/>
                <a:ext cx="4795920" cy="360000"/>
              </a:xfrm>
              <a:prstGeom prst="rect">
                <a:avLst/>
              </a:prstGeom>
              <a:solidFill>
                <a:srgbClr val="d73f00">
                  <a:alpha val="8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0"/>
          <p:cNvSpPr/>
          <p:nvPr/>
        </p:nvSpPr>
        <p:spPr>
          <a:xfrm>
            <a:off x="4283640" y="255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1"/>
          <p:cNvSpPr/>
          <p:nvPr/>
        </p:nvSpPr>
        <p:spPr>
          <a:xfrm>
            <a:off x="42836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2"/>
          <p:cNvSpPr/>
          <p:nvPr/>
        </p:nvSpPr>
        <p:spPr>
          <a:xfrm>
            <a:off x="428364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2"/>
          <p:cNvSpPr/>
          <p:nvPr/>
        </p:nvSpPr>
        <p:spPr>
          <a:xfrm>
            <a:off x="428364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组合 27"/>
          <p:cNvGrpSpPr/>
          <p:nvPr/>
        </p:nvGrpSpPr>
        <p:grpSpPr>
          <a:xfrm>
            <a:off x="1357200" y="2062080"/>
            <a:ext cx="2754360" cy="2754360"/>
            <a:chOff x="1357200" y="2062080"/>
            <a:chExt cx="2754360" cy="2754360"/>
          </a:xfrm>
        </p:grpSpPr>
        <p:grpSp>
          <p:nvGrpSpPr>
            <p:cNvPr id="70" name="组合 1"/>
            <p:cNvGrpSpPr/>
            <p:nvPr/>
          </p:nvGrpSpPr>
          <p:grpSpPr>
            <a:xfrm>
              <a:off x="1357200" y="2062080"/>
              <a:ext cx="2754360" cy="2754360"/>
              <a:chOff x="1357200" y="2062080"/>
              <a:chExt cx="2754360" cy="2754360"/>
            </a:xfrm>
          </p:grpSpPr>
          <p:sp>
            <p:nvSpPr>
              <p:cNvPr id="71" name="椭圆 2"/>
              <p:cNvSpPr/>
              <p:nvPr/>
            </p:nvSpPr>
            <p:spPr>
              <a:xfrm>
                <a:off x="1357200" y="2062080"/>
                <a:ext cx="2754360" cy="2754360"/>
              </a:xfrm>
              <a:prstGeom prst="ellipse">
                <a:avLst/>
              </a:prstGeom>
              <a:noFill/>
              <a:ln w="76320">
                <a:solidFill>
                  <a:srgbClr val="4b76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椭圆 3"/>
              <p:cNvSpPr/>
              <p:nvPr/>
            </p:nvSpPr>
            <p:spPr>
              <a:xfrm>
                <a:off x="1568160" y="2273040"/>
                <a:ext cx="2332080" cy="2332080"/>
              </a:xfrm>
              <a:prstGeom prst="ellipse">
                <a:avLst/>
              </a:prstGeom>
              <a:solidFill>
                <a:srgbClr val="ffffff">
                  <a:alpha val="25000"/>
                </a:srgbClr>
              </a:solidFill>
              <a:ln w="76320">
                <a:solidFill>
                  <a:srgbClr val="d73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Rectangle 13"/>
            <p:cNvSpPr/>
            <p:nvPr/>
          </p:nvSpPr>
          <p:spPr>
            <a:xfrm>
              <a:off x="2047680" y="3085920"/>
              <a:ext cx="1373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TextBox 146"/>
          <p:cNvSpPr/>
          <p:nvPr/>
        </p:nvSpPr>
        <p:spPr>
          <a:xfrm>
            <a:off x="4024440" y="2523960"/>
            <a:ext cx="40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3684600" y="2079720"/>
            <a:ext cx="4371840" cy="388800"/>
          </a:xfrm>
          <a:prstGeom prst="rect">
            <a:avLst/>
          </a:prstGeom>
          <a:solidFill>
            <a:srgbClr val="4b76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组合 10" descr=""/>
          <p:cNvPicPr/>
          <p:nvPr/>
        </p:nvPicPr>
        <p:blipFill>
          <a:blip r:embed="rId1"/>
          <a:stretch/>
        </p:blipFill>
        <p:spPr>
          <a:xfrm>
            <a:off x="3005280" y="1895400"/>
            <a:ext cx="755640" cy="755640"/>
          </a:xfrm>
          <a:prstGeom prst="rect">
            <a:avLst/>
          </a:prstGeom>
          <a:ln w="0">
            <a:noFill/>
          </a:ln>
        </p:spPr>
      </p:pic>
      <p:sp>
        <p:nvSpPr>
          <p:cNvPr id="77" name="TextBox 146"/>
          <p:cNvSpPr/>
          <p:nvPr/>
        </p:nvSpPr>
        <p:spPr>
          <a:xfrm>
            <a:off x="3878280" y="2135160"/>
            <a:ext cx="19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3008160" y="20732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6"/>
          <p:cNvSpPr/>
          <p:nvPr/>
        </p:nvSpPr>
        <p:spPr>
          <a:xfrm>
            <a:off x="4392720" y="3686040"/>
            <a:ext cx="36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5"/>
          <p:cNvSpPr/>
          <p:nvPr/>
        </p:nvSpPr>
        <p:spPr>
          <a:xfrm>
            <a:off x="4327560" y="3244680"/>
            <a:ext cx="3728880" cy="389160"/>
          </a:xfrm>
          <a:prstGeom prst="rect">
            <a:avLst/>
          </a:prstGeom>
          <a:solidFill>
            <a:srgbClr val="d73f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8"/>
          <p:cNvSpPr/>
          <p:nvPr/>
        </p:nvSpPr>
        <p:spPr>
          <a:xfrm>
            <a:off x="3719520" y="3070080"/>
            <a:ext cx="739800" cy="739800"/>
          </a:xfrm>
          <a:prstGeom prst="ellipse">
            <a:avLst/>
          </a:prstGeom>
          <a:solidFill>
            <a:srgbClr val="d73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9"/>
          <p:cNvSpPr/>
          <p:nvPr/>
        </p:nvSpPr>
        <p:spPr>
          <a:xfrm>
            <a:off x="3765600" y="3116160"/>
            <a:ext cx="647640" cy="647640"/>
          </a:xfrm>
          <a:prstGeom prst="ellipse">
            <a:avLst/>
          </a:prstGeom>
          <a:solidFill>
            <a:srgbClr val="d73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46"/>
          <p:cNvSpPr/>
          <p:nvPr/>
        </p:nvSpPr>
        <p:spPr>
          <a:xfrm>
            <a:off x="4583160" y="3301920"/>
            <a:ext cx="19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3"/>
          <p:cNvSpPr/>
          <p:nvPr/>
        </p:nvSpPr>
        <p:spPr>
          <a:xfrm>
            <a:off x="3716280" y="32400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46"/>
          <p:cNvSpPr/>
          <p:nvPr/>
        </p:nvSpPr>
        <p:spPr>
          <a:xfrm>
            <a:off x="3878280" y="4865760"/>
            <a:ext cx="403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4"/>
          <p:cNvSpPr/>
          <p:nvPr/>
        </p:nvSpPr>
        <p:spPr>
          <a:xfrm>
            <a:off x="3684600" y="4419720"/>
            <a:ext cx="4371840" cy="388800"/>
          </a:xfrm>
          <a:prstGeom prst="rect">
            <a:avLst/>
          </a:prstGeom>
          <a:solidFill>
            <a:srgbClr val="4b7615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14"/>
          <p:cNvSpPr/>
          <p:nvPr/>
        </p:nvSpPr>
        <p:spPr>
          <a:xfrm>
            <a:off x="3013200" y="4245120"/>
            <a:ext cx="739800" cy="739800"/>
          </a:xfrm>
          <a:prstGeom prst="ellipse">
            <a:avLst/>
          </a:prstGeom>
          <a:solidFill>
            <a:srgbClr val="4b76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38"/>
          <p:cNvSpPr/>
          <p:nvPr/>
        </p:nvSpPr>
        <p:spPr>
          <a:xfrm>
            <a:off x="3059280" y="4290840"/>
            <a:ext cx="647640" cy="648000"/>
          </a:xfrm>
          <a:prstGeom prst="ellipse">
            <a:avLst/>
          </a:prstGeom>
          <a:solidFill>
            <a:srgbClr val="4b76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46"/>
          <p:cNvSpPr/>
          <p:nvPr/>
        </p:nvSpPr>
        <p:spPr>
          <a:xfrm>
            <a:off x="3878280" y="4476600"/>
            <a:ext cx="19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3008160" y="44146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任意多边形 11"/>
          <p:cNvSpPr/>
          <p:nvPr/>
        </p:nvSpPr>
        <p:spPr>
          <a:xfrm>
            <a:off x="500040" y="1908000"/>
            <a:ext cx="1797120" cy="2536920"/>
          </a:xfrm>
          <a:custGeom>
            <a:avLst/>
            <a:gdLst/>
            <a:ahLst/>
            <a:rect l="l" t="t" r="r" b="b"/>
            <a:pathLst>
              <a:path w="1882715" h="3168129">
                <a:moveTo>
                  <a:pt x="0" y="188272"/>
                </a:moveTo>
                <a:cubicBezTo>
                  <a:pt x="0" y="84292"/>
                  <a:pt x="84292" y="0"/>
                  <a:pt x="188272" y="0"/>
                </a:cubicBezTo>
                <a:lnTo>
                  <a:pt x="1694444" y="0"/>
                </a:lnTo>
                <a:cubicBezTo>
                  <a:pt x="1798424" y="0"/>
                  <a:pt x="1882716" y="84292"/>
                  <a:pt x="1882716" y="188272"/>
                </a:cubicBezTo>
                <a:cubicBezTo>
                  <a:pt x="1882716" y="1118801"/>
                  <a:pt x="1882715" y="2049329"/>
                  <a:pt x="1882715" y="2979858"/>
                </a:cubicBezTo>
                <a:cubicBezTo>
                  <a:pt x="1882715" y="3083838"/>
                  <a:pt x="1798423" y="3168130"/>
                  <a:pt x="1694443" y="3168130"/>
                </a:cubicBezTo>
                <a:lnTo>
                  <a:pt x="188272" y="3168129"/>
                </a:lnTo>
                <a:cubicBezTo>
                  <a:pt x="84292" y="3168129"/>
                  <a:pt x="0" y="3083837"/>
                  <a:pt x="0" y="2979857"/>
                </a:cubicBezTo>
                <a:lnTo>
                  <a:pt x="0" y="188272"/>
                </a:lnTo>
                <a:close/>
              </a:path>
            </a:pathLst>
          </a:custGeom>
          <a:solidFill>
            <a:srgbClr val="d73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9080" rIns="199080" tIns="125280" bIns="2337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任意多边形 12"/>
          <p:cNvSpPr/>
          <p:nvPr/>
        </p:nvSpPr>
        <p:spPr>
          <a:xfrm>
            <a:off x="819000" y="2827440"/>
            <a:ext cx="2028960" cy="2030400"/>
          </a:xfrm>
          <a:custGeom>
            <a:avLst/>
            <a:gdLst/>
            <a:ahLst/>
            <a:rect l="l" t="t" r="r" b="b"/>
            <a:pathLst>
              <a:path w="2154579" h="2082299">
                <a:moveTo>
                  <a:pt x="0" y="208230"/>
                </a:moveTo>
                <a:cubicBezTo>
                  <a:pt x="0" y="93228"/>
                  <a:pt x="93228" y="0"/>
                  <a:pt x="208230" y="0"/>
                </a:cubicBezTo>
                <a:lnTo>
                  <a:pt x="1946349" y="0"/>
                </a:lnTo>
                <a:cubicBezTo>
                  <a:pt x="2061351" y="0"/>
                  <a:pt x="2154579" y="93228"/>
                  <a:pt x="2154579" y="208230"/>
                </a:cubicBezTo>
                <a:lnTo>
                  <a:pt x="2154579" y="1874069"/>
                </a:lnTo>
                <a:cubicBezTo>
                  <a:pt x="2154579" y="1989071"/>
                  <a:pt x="2061351" y="2082299"/>
                  <a:pt x="1946349" y="2082299"/>
                </a:cubicBezTo>
                <a:lnTo>
                  <a:pt x="208230" y="2082299"/>
                </a:lnTo>
                <a:cubicBezTo>
                  <a:pt x="93228" y="2082299"/>
                  <a:pt x="0" y="1989071"/>
                  <a:pt x="0" y="1874069"/>
                </a:cubicBezTo>
                <a:lnTo>
                  <a:pt x="0" y="208230"/>
                </a:lnTo>
                <a:close/>
              </a:path>
            </a:pathLst>
          </a:custGeom>
          <a:solidFill>
            <a:srgbClr val="ffffff">
              <a:alpha val="90000"/>
            </a:srgbClr>
          </a:solidFill>
          <a:ln w="25560">
            <a:solidFill>
              <a:srgbClr val="4b76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03040" rIns="203040" tIns="203040" bIns="20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任意多边形 13"/>
          <p:cNvSpPr/>
          <p:nvPr/>
        </p:nvSpPr>
        <p:spPr>
          <a:xfrm>
            <a:off x="2602080" y="2100240"/>
            <a:ext cx="645840" cy="457200"/>
          </a:xfrm>
          <a:custGeom>
            <a:avLst/>
            <a:gdLst/>
            <a:ahLst/>
            <a:rect l="l" t="t" r="r" b="b"/>
            <a:pathLst>
              <a:path w="677119" h="468741">
                <a:moveTo>
                  <a:pt x="0" y="93748"/>
                </a:moveTo>
                <a:lnTo>
                  <a:pt x="442749" y="93748"/>
                </a:lnTo>
                <a:lnTo>
                  <a:pt x="442749" y="0"/>
                </a:lnTo>
                <a:lnTo>
                  <a:pt x="677119" y="234371"/>
                </a:lnTo>
                <a:lnTo>
                  <a:pt x="442749" y="468741"/>
                </a:lnTo>
                <a:lnTo>
                  <a:pt x="442749" y="374993"/>
                </a:lnTo>
                <a:lnTo>
                  <a:pt x="0" y="374993"/>
                </a:lnTo>
                <a:lnTo>
                  <a:pt x="0" y="93748"/>
                </a:lnTo>
                <a:close/>
              </a:path>
            </a:pathLst>
          </a:custGeom>
          <a:solidFill>
            <a:srgbClr val="4b76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40400" tIns="93600" bIns="9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任意多边形 14"/>
          <p:cNvSpPr/>
          <p:nvPr/>
        </p:nvSpPr>
        <p:spPr>
          <a:xfrm>
            <a:off x="3516480" y="1908000"/>
            <a:ext cx="1795320" cy="2536920"/>
          </a:xfrm>
          <a:custGeom>
            <a:avLst/>
            <a:gdLst/>
            <a:ahLst/>
            <a:rect l="l" t="t" r="r" b="b"/>
            <a:pathLst>
              <a:path w="1882715" h="3168129">
                <a:moveTo>
                  <a:pt x="0" y="188272"/>
                </a:moveTo>
                <a:cubicBezTo>
                  <a:pt x="0" y="84292"/>
                  <a:pt x="84292" y="0"/>
                  <a:pt x="188272" y="0"/>
                </a:cubicBezTo>
                <a:lnTo>
                  <a:pt x="1694444" y="0"/>
                </a:lnTo>
                <a:cubicBezTo>
                  <a:pt x="1798424" y="0"/>
                  <a:pt x="1882716" y="84292"/>
                  <a:pt x="1882716" y="188272"/>
                </a:cubicBezTo>
                <a:cubicBezTo>
                  <a:pt x="1882716" y="1118801"/>
                  <a:pt x="1882715" y="2049329"/>
                  <a:pt x="1882715" y="2979858"/>
                </a:cubicBezTo>
                <a:cubicBezTo>
                  <a:pt x="1882715" y="3083838"/>
                  <a:pt x="1798423" y="3168130"/>
                  <a:pt x="1694443" y="3168130"/>
                </a:cubicBezTo>
                <a:lnTo>
                  <a:pt x="188272" y="3168129"/>
                </a:lnTo>
                <a:cubicBezTo>
                  <a:pt x="84292" y="3168129"/>
                  <a:pt x="0" y="3083837"/>
                  <a:pt x="0" y="2979857"/>
                </a:cubicBezTo>
                <a:lnTo>
                  <a:pt x="0" y="188272"/>
                </a:lnTo>
                <a:close/>
              </a:path>
            </a:pathLst>
          </a:custGeom>
          <a:solidFill>
            <a:srgbClr val="d73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9080" rIns="199080" tIns="125280" bIns="2337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任意多边形 15"/>
          <p:cNvSpPr/>
          <p:nvPr/>
        </p:nvSpPr>
        <p:spPr>
          <a:xfrm>
            <a:off x="3963960" y="2827440"/>
            <a:ext cx="2028960" cy="2030400"/>
          </a:xfrm>
          <a:custGeom>
            <a:avLst/>
            <a:gdLst/>
            <a:ahLst/>
            <a:rect l="l" t="t" r="r" b="b"/>
            <a:pathLst>
              <a:path w="1882715" h="2082299">
                <a:moveTo>
                  <a:pt x="0" y="188272"/>
                </a:moveTo>
                <a:cubicBezTo>
                  <a:pt x="0" y="84292"/>
                  <a:pt x="84292" y="0"/>
                  <a:pt x="188272" y="0"/>
                </a:cubicBezTo>
                <a:lnTo>
                  <a:pt x="1694444" y="0"/>
                </a:lnTo>
                <a:cubicBezTo>
                  <a:pt x="1798424" y="0"/>
                  <a:pt x="1882716" y="84292"/>
                  <a:pt x="1882716" y="188272"/>
                </a:cubicBezTo>
                <a:cubicBezTo>
                  <a:pt x="1882716" y="756857"/>
                  <a:pt x="1882715" y="1325443"/>
                  <a:pt x="1882715" y="1894028"/>
                </a:cubicBezTo>
                <a:cubicBezTo>
                  <a:pt x="1882715" y="1998008"/>
                  <a:pt x="1798423" y="2082300"/>
                  <a:pt x="1694443" y="2082300"/>
                </a:cubicBezTo>
                <a:lnTo>
                  <a:pt x="188272" y="2082299"/>
                </a:lnTo>
                <a:cubicBezTo>
                  <a:pt x="84292" y="2082299"/>
                  <a:pt x="0" y="1998007"/>
                  <a:pt x="0" y="1894027"/>
                </a:cubicBezTo>
                <a:lnTo>
                  <a:pt x="0" y="188272"/>
                </a:lnTo>
                <a:close/>
              </a:path>
            </a:pathLst>
          </a:custGeom>
          <a:solidFill>
            <a:srgbClr val="ffffff">
              <a:alpha val="90000"/>
            </a:srgbClr>
          </a:solidFill>
          <a:ln w="25560">
            <a:solidFill>
              <a:srgbClr val="4b76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97280" rIns="197280" tIns="197280" bIns="19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任意多边形 16"/>
          <p:cNvSpPr/>
          <p:nvPr/>
        </p:nvSpPr>
        <p:spPr>
          <a:xfrm>
            <a:off x="5584680" y="2100240"/>
            <a:ext cx="576360" cy="457200"/>
          </a:xfrm>
          <a:custGeom>
            <a:avLst/>
            <a:gdLst/>
            <a:ahLst/>
            <a:rect l="l" t="t" r="r" b="b"/>
            <a:pathLst>
              <a:path w="605075" h="468741">
                <a:moveTo>
                  <a:pt x="0" y="93748"/>
                </a:moveTo>
                <a:lnTo>
                  <a:pt x="370705" y="93748"/>
                </a:lnTo>
                <a:lnTo>
                  <a:pt x="370705" y="0"/>
                </a:lnTo>
                <a:lnTo>
                  <a:pt x="605075" y="234371"/>
                </a:lnTo>
                <a:lnTo>
                  <a:pt x="370705" y="468741"/>
                </a:lnTo>
                <a:lnTo>
                  <a:pt x="370705" y="374993"/>
                </a:lnTo>
                <a:lnTo>
                  <a:pt x="0" y="374993"/>
                </a:lnTo>
                <a:lnTo>
                  <a:pt x="0" y="93748"/>
                </a:lnTo>
                <a:close/>
              </a:path>
            </a:pathLst>
          </a:custGeom>
          <a:solidFill>
            <a:srgbClr val="4b76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40400" tIns="93600" bIns="9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任意多边形 17"/>
          <p:cNvSpPr/>
          <p:nvPr/>
        </p:nvSpPr>
        <p:spPr>
          <a:xfrm>
            <a:off x="6400800" y="1908000"/>
            <a:ext cx="1797120" cy="2536920"/>
          </a:xfrm>
          <a:custGeom>
            <a:avLst/>
            <a:gdLst/>
            <a:ahLst/>
            <a:rect l="l" t="t" r="r" b="b"/>
            <a:pathLst>
              <a:path w="1882715" h="3168129">
                <a:moveTo>
                  <a:pt x="0" y="188272"/>
                </a:moveTo>
                <a:cubicBezTo>
                  <a:pt x="0" y="84292"/>
                  <a:pt x="84292" y="0"/>
                  <a:pt x="188272" y="0"/>
                </a:cubicBezTo>
                <a:lnTo>
                  <a:pt x="1694444" y="0"/>
                </a:lnTo>
                <a:cubicBezTo>
                  <a:pt x="1798424" y="0"/>
                  <a:pt x="1882716" y="84292"/>
                  <a:pt x="1882716" y="188272"/>
                </a:cubicBezTo>
                <a:cubicBezTo>
                  <a:pt x="1882716" y="1118801"/>
                  <a:pt x="1882715" y="2049329"/>
                  <a:pt x="1882715" y="2979858"/>
                </a:cubicBezTo>
                <a:cubicBezTo>
                  <a:pt x="1882715" y="3083838"/>
                  <a:pt x="1798423" y="3168130"/>
                  <a:pt x="1694443" y="3168130"/>
                </a:cubicBezTo>
                <a:lnTo>
                  <a:pt x="188272" y="3168129"/>
                </a:lnTo>
                <a:cubicBezTo>
                  <a:pt x="84292" y="3168129"/>
                  <a:pt x="0" y="3083837"/>
                  <a:pt x="0" y="2979857"/>
                </a:cubicBezTo>
                <a:lnTo>
                  <a:pt x="0" y="188272"/>
                </a:lnTo>
                <a:close/>
              </a:path>
            </a:pathLst>
          </a:custGeom>
          <a:solidFill>
            <a:srgbClr val="d73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9080" rIns="199080" tIns="125280" bIns="2337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任意多边形 18"/>
          <p:cNvSpPr/>
          <p:nvPr/>
        </p:nvSpPr>
        <p:spPr>
          <a:xfrm>
            <a:off x="6713640" y="2827440"/>
            <a:ext cx="2028600" cy="2030400"/>
          </a:xfrm>
          <a:custGeom>
            <a:avLst/>
            <a:gdLst/>
            <a:ahLst/>
            <a:rect l="l" t="t" r="r" b="b"/>
            <a:pathLst>
              <a:path w="1882715" h="2082299">
                <a:moveTo>
                  <a:pt x="0" y="188272"/>
                </a:moveTo>
                <a:cubicBezTo>
                  <a:pt x="0" y="84292"/>
                  <a:pt x="84292" y="0"/>
                  <a:pt x="188272" y="0"/>
                </a:cubicBezTo>
                <a:lnTo>
                  <a:pt x="1694444" y="0"/>
                </a:lnTo>
                <a:cubicBezTo>
                  <a:pt x="1798424" y="0"/>
                  <a:pt x="1882716" y="84292"/>
                  <a:pt x="1882716" y="188272"/>
                </a:cubicBezTo>
                <a:cubicBezTo>
                  <a:pt x="1882716" y="756857"/>
                  <a:pt x="1882715" y="1325443"/>
                  <a:pt x="1882715" y="1894028"/>
                </a:cubicBezTo>
                <a:cubicBezTo>
                  <a:pt x="1882715" y="1998008"/>
                  <a:pt x="1798423" y="2082300"/>
                  <a:pt x="1694443" y="2082300"/>
                </a:cubicBezTo>
                <a:lnTo>
                  <a:pt x="188272" y="2082299"/>
                </a:lnTo>
                <a:cubicBezTo>
                  <a:pt x="84292" y="2082299"/>
                  <a:pt x="0" y="1998007"/>
                  <a:pt x="0" y="1894027"/>
                </a:cubicBezTo>
                <a:lnTo>
                  <a:pt x="0" y="188272"/>
                </a:lnTo>
                <a:close/>
              </a:path>
            </a:pathLst>
          </a:custGeom>
          <a:solidFill>
            <a:srgbClr val="ffffff">
              <a:alpha val="90000"/>
            </a:srgbClr>
          </a:solidFill>
          <a:ln w="25560">
            <a:solidFill>
              <a:srgbClr val="4b76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97280" rIns="197280" tIns="197280" bIns="19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2"/>
          <p:cNvSpPr/>
          <p:nvPr/>
        </p:nvSpPr>
        <p:spPr>
          <a:xfrm>
            <a:off x="4453560" y="3622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4"/>
          <p:cNvSpPr/>
          <p:nvPr/>
        </p:nvSpPr>
        <p:spPr>
          <a:xfrm>
            <a:off x="7312320" y="3622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5"/>
          <p:cNvSpPr/>
          <p:nvPr/>
        </p:nvSpPr>
        <p:spPr>
          <a:xfrm>
            <a:off x="1310040" y="3622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圆角矩形 14"/>
          <p:cNvSpPr/>
          <p:nvPr/>
        </p:nvSpPr>
        <p:spPr>
          <a:xfrm>
            <a:off x="785880" y="1890720"/>
            <a:ext cx="7461360" cy="3322800"/>
          </a:xfrm>
          <a:prstGeom prst="roundRect">
            <a:avLst>
              <a:gd name="adj" fmla="val 3278"/>
            </a:avLst>
          </a:prstGeom>
          <a:noFill/>
          <a:ln w="25560">
            <a:solidFill>
              <a:srgbClr val="4b7615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15"/>
          <p:cNvSpPr/>
          <p:nvPr/>
        </p:nvSpPr>
        <p:spPr>
          <a:xfrm flipV="1">
            <a:off x="785880" y="3552840"/>
            <a:ext cx="7461360" cy="1440"/>
          </a:xfrm>
          <a:prstGeom prst="line">
            <a:avLst/>
          </a:prstGeom>
          <a:ln w="25560">
            <a:solidFill>
              <a:srgbClr val="4b7615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16"/>
          <p:cNvSpPr/>
          <p:nvPr/>
        </p:nvSpPr>
        <p:spPr>
          <a:xfrm flipH="1">
            <a:off x="4514400" y="1862280"/>
            <a:ext cx="3240" cy="3352680"/>
          </a:xfrm>
          <a:prstGeom prst="line">
            <a:avLst/>
          </a:prstGeom>
          <a:ln w="25560">
            <a:solidFill>
              <a:srgbClr val="4b7615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组合 5"/>
          <p:cNvGrpSpPr/>
          <p:nvPr/>
        </p:nvGrpSpPr>
        <p:grpSpPr>
          <a:xfrm>
            <a:off x="2484360" y="1503360"/>
            <a:ext cx="4064040" cy="749160"/>
            <a:chOff x="2484360" y="1503360"/>
            <a:chExt cx="4064040" cy="749160"/>
          </a:xfrm>
        </p:grpSpPr>
        <p:grpSp>
          <p:nvGrpSpPr>
            <p:cNvPr id="111" name="AutoShape 3"/>
            <p:cNvGrpSpPr/>
            <p:nvPr/>
          </p:nvGrpSpPr>
          <p:grpSpPr>
            <a:xfrm>
              <a:off x="2484360" y="1503360"/>
              <a:ext cx="4064040" cy="749160"/>
              <a:chOff x="2484360" y="1503360"/>
              <a:chExt cx="4064040" cy="749160"/>
            </a:xfrm>
          </p:grpSpPr>
          <p:pic>
            <p:nvPicPr>
              <p:cNvPr id="112" name="AutoShap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2484360" y="1503360"/>
                <a:ext cx="406404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2582280" y="1568520"/>
                <a:ext cx="387288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AutoShape 3"/>
            <p:cNvGrpSpPr/>
            <p:nvPr/>
          </p:nvGrpSpPr>
          <p:grpSpPr>
            <a:xfrm>
              <a:off x="2484360" y="1596240"/>
              <a:ext cx="4064040" cy="558000"/>
              <a:chOff x="2484360" y="1596240"/>
              <a:chExt cx="4064040" cy="558000"/>
            </a:xfrm>
          </p:grpSpPr>
          <p:pic>
            <p:nvPicPr>
              <p:cNvPr id="115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484360" y="1596240"/>
                <a:ext cx="4064040" cy="5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2571480" y="1653840"/>
                <a:ext cx="3894120" cy="40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四大难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AutoShape 3"/>
          <p:cNvGrpSpPr/>
          <p:nvPr/>
        </p:nvGrpSpPr>
        <p:grpSpPr>
          <a:xfrm>
            <a:off x="2425680" y="1468440"/>
            <a:ext cx="4176720" cy="873000"/>
            <a:chOff x="2425680" y="1468440"/>
            <a:chExt cx="4176720" cy="873000"/>
          </a:xfrm>
        </p:grpSpPr>
        <p:pic>
          <p:nvPicPr>
            <p:cNvPr id="118" name="AutoShape 3" descr=""/>
            <p:cNvPicPr/>
            <p:nvPr/>
          </p:nvPicPr>
          <p:blipFill>
            <a:blip r:embed="rId3"/>
            <a:stretch/>
          </p:blipFill>
          <p:spPr>
            <a:xfrm>
              <a:off x="2425680" y="1468440"/>
              <a:ext cx="4176720" cy="87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2521080" y="1539720"/>
              <a:ext cx="399096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AutoShape 3"/>
          <p:cNvGrpSpPr/>
          <p:nvPr/>
        </p:nvGrpSpPr>
        <p:grpSpPr>
          <a:xfrm>
            <a:off x="2425680" y="1579680"/>
            <a:ext cx="4176720" cy="645840"/>
            <a:chOff x="2425680" y="1579680"/>
            <a:chExt cx="4176720" cy="645840"/>
          </a:xfrm>
        </p:grpSpPr>
        <p:pic>
          <p:nvPicPr>
            <p:cNvPr id="121" name="AutoShape 3" descr=""/>
            <p:cNvPicPr/>
            <p:nvPr/>
          </p:nvPicPr>
          <p:blipFill>
            <a:blip r:embed="rId4"/>
            <a:stretch/>
          </p:blipFill>
          <p:spPr>
            <a:xfrm>
              <a:off x="2425680" y="1579680"/>
              <a:ext cx="417672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509920" y="1641600"/>
              <a:ext cx="401328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2"/>
          <p:cNvSpPr/>
          <p:nvPr/>
        </p:nvSpPr>
        <p:spPr>
          <a:xfrm>
            <a:off x="21006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3"/>
          <p:cNvSpPr/>
          <p:nvPr/>
        </p:nvSpPr>
        <p:spPr>
          <a:xfrm>
            <a:off x="581544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4"/>
          <p:cNvSpPr/>
          <p:nvPr/>
        </p:nvSpPr>
        <p:spPr>
          <a:xfrm>
            <a:off x="56725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5"/>
          <p:cNvSpPr/>
          <p:nvPr/>
        </p:nvSpPr>
        <p:spPr>
          <a:xfrm>
            <a:off x="217224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5"/>
          <p:cNvSpPr/>
          <p:nvPr/>
        </p:nvSpPr>
        <p:spPr>
          <a:xfrm>
            <a:off x="3959640" y="1701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2"/>
          <p:cNvSpPr/>
          <p:nvPr/>
        </p:nvSpPr>
        <p:spPr>
          <a:xfrm>
            <a:off x="14259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3"/>
          <p:cNvSpPr/>
          <p:nvPr/>
        </p:nvSpPr>
        <p:spPr>
          <a:xfrm>
            <a:off x="66409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4"/>
          <p:cNvSpPr/>
          <p:nvPr/>
        </p:nvSpPr>
        <p:spPr>
          <a:xfrm>
            <a:off x="14259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5"/>
          <p:cNvSpPr/>
          <p:nvPr/>
        </p:nvSpPr>
        <p:spPr>
          <a:xfrm>
            <a:off x="142596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28"/>
          <p:cNvGrpSpPr/>
          <p:nvPr/>
        </p:nvGrpSpPr>
        <p:grpSpPr>
          <a:xfrm>
            <a:off x="5162040" y="2109960"/>
            <a:ext cx="1188360" cy="2366280"/>
            <a:chOff x="5162040" y="2109960"/>
            <a:chExt cx="1188360" cy="2366280"/>
          </a:xfrm>
        </p:grpSpPr>
        <p:sp>
          <p:nvSpPr>
            <p:cNvPr id="143" name="任意多边形 11"/>
            <p:cNvSpPr/>
            <p:nvPr/>
          </p:nvSpPr>
          <p:spPr>
            <a:xfrm flipH="1">
              <a:off x="5161680" y="2109960"/>
              <a:ext cx="1187640" cy="2505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任意多边形 12"/>
            <p:cNvSpPr/>
            <p:nvPr/>
          </p:nvSpPr>
          <p:spPr>
            <a:xfrm flipH="1" flipV="1">
              <a:off x="5161680" y="4223520"/>
              <a:ext cx="1187640" cy="2523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直接连接符 13"/>
            <p:cNvSpPr/>
            <p:nvPr/>
          </p:nvSpPr>
          <p:spPr>
            <a:xfrm>
              <a:off x="5704920" y="2913480"/>
              <a:ext cx="645480" cy="56160"/>
            </a:xfrm>
            <a:prstGeom prst="line">
              <a:avLst/>
            </a:prstGeom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直接连接符 14"/>
            <p:cNvSpPr/>
            <p:nvPr/>
          </p:nvSpPr>
          <p:spPr>
            <a:xfrm flipV="1">
              <a:off x="5704920" y="3702600"/>
              <a:ext cx="645480" cy="56160"/>
            </a:xfrm>
            <a:prstGeom prst="line">
              <a:avLst/>
            </a:prstGeom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26"/>
          <p:cNvGrpSpPr/>
          <p:nvPr/>
        </p:nvGrpSpPr>
        <p:grpSpPr>
          <a:xfrm>
            <a:off x="2730600" y="2225520"/>
            <a:ext cx="1189080" cy="2206800"/>
            <a:chOff x="2730600" y="2225520"/>
            <a:chExt cx="1189080" cy="2206800"/>
          </a:xfrm>
        </p:grpSpPr>
        <p:sp>
          <p:nvSpPr>
            <p:cNvPr id="148" name="任意多边形 16"/>
            <p:cNvSpPr/>
            <p:nvPr/>
          </p:nvSpPr>
          <p:spPr>
            <a:xfrm>
              <a:off x="2730600" y="2225520"/>
              <a:ext cx="1189080" cy="2523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任意多边形 17"/>
            <p:cNvSpPr/>
            <p:nvPr/>
          </p:nvSpPr>
          <p:spPr>
            <a:xfrm flipV="1">
              <a:off x="2730600" y="4181760"/>
              <a:ext cx="1189080" cy="2505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直接连接符 18"/>
            <p:cNvSpPr/>
            <p:nvPr/>
          </p:nvSpPr>
          <p:spPr>
            <a:xfrm>
              <a:off x="2730600" y="3481200"/>
              <a:ext cx="647640" cy="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饼形 20"/>
          <p:cNvSpPr/>
          <p:nvPr/>
        </p:nvSpPr>
        <p:spPr>
          <a:xfrm>
            <a:off x="3222720" y="1930320"/>
            <a:ext cx="2698560" cy="2698920"/>
          </a:xfrm>
          <a:custGeom>
            <a:avLst/>
            <a:gdLst>
              <a:gd name="textAreaLeft" fmla="*/ 394920 w 2698560"/>
              <a:gd name="textAreaRight" fmla="*/ 2303640 w 2698560"/>
              <a:gd name="textAreaTop" fmla="*/ 395280 h 2698920"/>
              <a:gd name="textAreaBottom" fmla="*/ 2303640 h 2698920"/>
            </a:gdLst>
            <a:ahLst/>
            <a:rect l="textAreaLeft" t="textAreaTop" r="textAreaRight" b="textAreaBottom"/>
            <a:pathLst>
              <a:path w="2698750" h="2698750">
                <a:moveTo>
                  <a:pt x="2527509" y="691489"/>
                </a:moveTo>
                <a:lnTo>
                  <a:pt x="2527509" y="691489"/>
                </a:lnTo>
                <a:arcTo wR="1349375" hR="1349375" stAng="-1750775" swAng="1743983"/>
                <a:lnTo>
                  <a:pt x="1349375" y="1349375"/>
                </a:lnTo>
                <a:close/>
              </a:path>
            </a:pathLst>
          </a:custGeom>
          <a:solidFill>
            <a:srgbClr val="f2f2f2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饼形 21"/>
          <p:cNvSpPr/>
          <p:nvPr/>
        </p:nvSpPr>
        <p:spPr>
          <a:xfrm>
            <a:off x="3222720" y="1930320"/>
            <a:ext cx="2698560" cy="2698920"/>
          </a:xfrm>
          <a:custGeom>
            <a:avLst/>
            <a:gdLst>
              <a:gd name="textAreaLeft" fmla="*/ 394920 w 2698560"/>
              <a:gd name="textAreaRight" fmla="*/ 2303640 w 2698560"/>
              <a:gd name="textAreaTop" fmla="*/ 395280 h 2698920"/>
              <a:gd name="textAreaBottom" fmla="*/ 2303640 h 2698920"/>
            </a:gdLst>
            <a:ahLst/>
            <a:rect l="textAreaLeft" t="textAreaTop" r="textAreaRight" b="textAreaBottom"/>
            <a:pathLst>
              <a:path w="2698750" h="2698750">
                <a:moveTo>
                  <a:pt x="2698748" y="1346973"/>
                </a:moveTo>
                <a:lnTo>
                  <a:pt x="2698748" y="1346973"/>
                </a:lnTo>
                <a:arcTo wR="1349375" hR="1349375" stAng="-6119" swAng="2420133"/>
                <a:lnTo>
                  <a:pt x="1349375" y="1349375"/>
                </a:lnTo>
                <a:close/>
              </a:path>
            </a:pathLst>
          </a:custGeom>
          <a:solidFill>
            <a:srgbClr val="d73f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饼形 22"/>
          <p:cNvSpPr/>
          <p:nvPr/>
        </p:nvSpPr>
        <p:spPr>
          <a:xfrm>
            <a:off x="3222720" y="1930320"/>
            <a:ext cx="2698560" cy="2698920"/>
          </a:xfrm>
          <a:custGeom>
            <a:avLst/>
            <a:gdLst>
              <a:gd name="textAreaLeft" fmla="*/ 394920 w 2698560"/>
              <a:gd name="textAreaRight" fmla="*/ 2303640 w 2698560"/>
              <a:gd name="textAreaTop" fmla="*/ 395280 h 2698920"/>
              <a:gd name="textAreaBottom" fmla="*/ 2303640 h 2698920"/>
            </a:gdLst>
            <a:ahLst/>
            <a:rect l="textAreaLeft" t="textAreaTop" r="textAreaRight" b="textAreaBottom"/>
            <a:pathLst>
              <a:path w="2698750" h="2698750">
                <a:moveTo>
                  <a:pt x="2379564" y="2220881"/>
                </a:moveTo>
                <a:lnTo>
                  <a:pt x="2379564" y="2220881"/>
                </a:lnTo>
                <a:arcTo wR="1349375" hR="1349375" stAng="2413807" swAng="3010016"/>
                <a:lnTo>
                  <a:pt x="1349375" y="1349375"/>
                </a:lnTo>
                <a:close/>
              </a:path>
            </a:pathLst>
          </a:custGeom>
          <a:solidFill>
            <a:srgbClr val="4b7615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饼形 23"/>
          <p:cNvSpPr/>
          <p:nvPr/>
        </p:nvSpPr>
        <p:spPr>
          <a:xfrm>
            <a:off x="3222720" y="1930320"/>
            <a:ext cx="2698560" cy="2698920"/>
          </a:xfrm>
          <a:custGeom>
            <a:avLst/>
            <a:gdLst>
              <a:gd name="textAreaLeft" fmla="*/ 394920 w 2698560"/>
              <a:gd name="textAreaRight" fmla="*/ 2303640 w 2698560"/>
              <a:gd name="textAreaTop" fmla="*/ 395280 h 2698920"/>
              <a:gd name="textAreaBottom" fmla="*/ 2303640 h 2698920"/>
            </a:gdLst>
            <a:ahLst/>
            <a:rect l="textAreaLeft" t="textAreaTop" r="textAreaRight" b="textAreaBottom"/>
            <a:pathLst>
              <a:path w="2698750" h="2698750">
                <a:moveTo>
                  <a:pt x="1343161" y="2698736"/>
                </a:moveTo>
                <a:lnTo>
                  <a:pt x="1343161" y="2698736"/>
                </a:lnTo>
                <a:arcTo wR="1349375" hR="1349375" stAng="5415831" swAng="3191733"/>
                <a:lnTo>
                  <a:pt x="1349375" y="1349375"/>
                </a:lnTo>
                <a:close/>
              </a:path>
            </a:pathLst>
          </a:custGeom>
          <a:solidFill>
            <a:srgbClr val="d73f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饼形 24"/>
          <p:cNvSpPr/>
          <p:nvPr/>
        </p:nvSpPr>
        <p:spPr>
          <a:xfrm>
            <a:off x="3222720" y="1930320"/>
            <a:ext cx="2698560" cy="2698920"/>
          </a:xfrm>
          <a:custGeom>
            <a:avLst/>
            <a:gdLst>
              <a:gd name="textAreaLeft" fmla="*/ 394920 w 2698560"/>
              <a:gd name="textAreaRight" fmla="*/ 2303640 w 2698560"/>
              <a:gd name="textAreaTop" fmla="*/ 395280 h 2698920"/>
              <a:gd name="textAreaBottom" fmla="*/ 2303640 h 2698920"/>
            </a:gdLst>
            <a:ahLst/>
            <a:rect l="textAreaLeft" t="textAreaTop" r="textAreaRight" b="textAreaBottom"/>
            <a:pathLst>
              <a:path w="2698750" h="2698750">
                <a:moveTo>
                  <a:pt x="268955" y="2157772"/>
                </a:moveTo>
                <a:lnTo>
                  <a:pt x="268955" y="2157772"/>
                </a:lnTo>
                <a:arcTo wR="1349375" hR="1349375" stAng="8591715" swAng="3223288"/>
                <a:lnTo>
                  <a:pt x="1349375" y="1349375"/>
                </a:lnTo>
                <a:close/>
              </a:path>
            </a:pathLst>
          </a:custGeom>
          <a:solidFill>
            <a:srgbClr val="4b7615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饼形 25"/>
          <p:cNvSpPr/>
          <p:nvPr/>
        </p:nvSpPr>
        <p:spPr>
          <a:xfrm>
            <a:off x="3222720" y="1930320"/>
            <a:ext cx="2698560" cy="2698920"/>
          </a:xfrm>
          <a:custGeom>
            <a:avLst/>
            <a:gdLst>
              <a:gd name="textAreaLeft" fmla="*/ 394920 w 2698560"/>
              <a:gd name="textAreaRight" fmla="*/ 2303640 w 2698560"/>
              <a:gd name="textAreaTop" fmla="*/ 395280 h 2698920"/>
              <a:gd name="textAreaBottom" fmla="*/ 2303640 h 2698920"/>
            </a:gdLst>
            <a:ahLst/>
            <a:rect l="textAreaLeft" t="textAreaTop" r="textAreaRight" b="textAreaBottom"/>
            <a:pathLst>
              <a:path w="2698750" h="2698750">
                <a:moveTo>
                  <a:pt x="60004" y="951462"/>
                </a:moveTo>
                <a:lnTo>
                  <a:pt x="60004" y="951462"/>
                </a:lnTo>
                <a:arcTo wR="1349375" hR="1349375" stAng="-9770955" swAng="4370960"/>
                <a:lnTo>
                  <a:pt x="1349375" y="1349375"/>
                </a:lnTo>
                <a:close/>
              </a:path>
            </a:pathLst>
          </a:custGeom>
          <a:solidFill>
            <a:srgbClr val="d73f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饼形 26"/>
          <p:cNvSpPr/>
          <p:nvPr/>
        </p:nvSpPr>
        <p:spPr>
          <a:xfrm>
            <a:off x="3222720" y="1930320"/>
            <a:ext cx="2698560" cy="2698920"/>
          </a:xfrm>
          <a:custGeom>
            <a:avLst/>
            <a:gdLst>
              <a:gd name="textAreaLeft" fmla="*/ 394920 w 2698560"/>
              <a:gd name="textAreaRight" fmla="*/ 2303640 w 2698560"/>
              <a:gd name="textAreaTop" fmla="*/ 395280 h 2698920"/>
              <a:gd name="textAreaBottom" fmla="*/ 2303640 h 2698920"/>
            </a:gdLst>
            <a:ahLst/>
            <a:rect l="textAreaLeft" t="textAreaTop" r="textAreaRight" b="textAreaBottom"/>
            <a:pathLst>
              <a:path w="2698750" h="2698750">
                <a:moveTo>
                  <a:pt x="1348136" y="1"/>
                </a:moveTo>
                <a:lnTo>
                  <a:pt x="1348136" y="1"/>
                </a:lnTo>
                <a:arcTo wR="1349375" hR="1349375" stAng="-5403157" swAng="3662413"/>
                <a:lnTo>
                  <a:pt x="1349375" y="1349375"/>
                </a:lnTo>
                <a:close/>
              </a:path>
            </a:pathLst>
          </a:custGeom>
          <a:solidFill>
            <a:srgbClr val="4b76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 27"/>
          <p:cNvSpPr/>
          <p:nvPr/>
        </p:nvSpPr>
        <p:spPr>
          <a:xfrm>
            <a:off x="3078000" y="1785960"/>
            <a:ext cx="2988000" cy="298764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3"/>
          <p:cNvSpPr/>
          <p:nvPr/>
        </p:nvSpPr>
        <p:spPr>
          <a:xfrm>
            <a:off x="66409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3"/>
          <p:cNvSpPr/>
          <p:nvPr/>
        </p:nvSpPr>
        <p:spPr>
          <a:xfrm>
            <a:off x="66409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3"/>
          <p:cNvSpPr/>
          <p:nvPr/>
        </p:nvSpPr>
        <p:spPr>
          <a:xfrm>
            <a:off x="66409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圆角矩形 14"/>
          <p:cNvSpPr/>
          <p:nvPr/>
        </p:nvSpPr>
        <p:spPr>
          <a:xfrm>
            <a:off x="5210280" y="2341440"/>
            <a:ext cx="2927160" cy="2873520"/>
          </a:xfrm>
          <a:prstGeom prst="roundRect">
            <a:avLst>
              <a:gd name="adj" fmla="val 3278"/>
            </a:avLst>
          </a:prstGeom>
          <a:solidFill>
            <a:srgbClr val="ffffff">
              <a:alpha val="95000"/>
            </a:srgbClr>
          </a:solidFill>
          <a:ln w="648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圆角矩形 14"/>
          <p:cNvSpPr/>
          <p:nvPr/>
        </p:nvSpPr>
        <p:spPr>
          <a:xfrm>
            <a:off x="1089000" y="2341440"/>
            <a:ext cx="2925720" cy="2873520"/>
          </a:xfrm>
          <a:prstGeom prst="roundRect">
            <a:avLst>
              <a:gd name="adj" fmla="val 3278"/>
            </a:avLst>
          </a:prstGeom>
          <a:solidFill>
            <a:srgbClr val="ffffff">
              <a:alpha val="95000"/>
            </a:srgbClr>
          </a:solidFill>
          <a:ln w="648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组合 5" descr=""/>
          <p:cNvPicPr/>
          <p:nvPr/>
        </p:nvPicPr>
        <p:blipFill>
          <a:blip r:embed="rId1"/>
          <a:stretch/>
        </p:blipFill>
        <p:spPr>
          <a:xfrm>
            <a:off x="938160" y="1731960"/>
            <a:ext cx="3249720" cy="871560"/>
          </a:xfrm>
          <a:prstGeom prst="rect">
            <a:avLst/>
          </a:prstGeom>
          <a:ln w="0">
            <a:noFill/>
          </a:ln>
        </p:spPr>
      </p:pic>
      <p:pic>
        <p:nvPicPr>
          <p:cNvPr id="165" name="组合 5" descr=""/>
          <p:cNvPicPr/>
          <p:nvPr/>
        </p:nvPicPr>
        <p:blipFill>
          <a:blip r:embed="rId2"/>
          <a:stretch/>
        </p:blipFill>
        <p:spPr>
          <a:xfrm>
            <a:off x="5059440" y="1731960"/>
            <a:ext cx="3249360" cy="871560"/>
          </a:xfrm>
          <a:prstGeom prst="rect">
            <a:avLst/>
          </a:prstGeom>
          <a:ln w="0">
            <a:noFill/>
          </a:ln>
        </p:spPr>
      </p:pic>
      <p:pic>
        <p:nvPicPr>
          <p:cNvPr id="166" name="左右箭头 19" descr=""/>
          <p:cNvPicPr/>
          <p:nvPr/>
        </p:nvPicPr>
        <p:blipFill>
          <a:blip r:embed="rId3"/>
          <a:stretch/>
        </p:blipFill>
        <p:spPr>
          <a:xfrm>
            <a:off x="4078440" y="3333600"/>
            <a:ext cx="1083960" cy="543240"/>
          </a:xfrm>
          <a:prstGeom prst="rect">
            <a:avLst/>
          </a:prstGeom>
          <a:ln w="0">
            <a:noFill/>
          </a:ln>
        </p:spPr>
      </p:pic>
      <p:sp>
        <p:nvSpPr>
          <p:cNvPr id="16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6321960" y="3479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2037240" y="3479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0"/>
          <p:cNvSpPr/>
          <p:nvPr/>
        </p:nvSpPr>
        <p:spPr>
          <a:xfrm>
            <a:off x="1246320" y="1852560"/>
            <a:ext cx="792000" cy="793800"/>
          </a:xfrm>
          <a:prstGeom prst="ellipse">
            <a:avLst/>
          </a:prstGeom>
          <a:solidFill>
            <a:srgbClr val="d73f00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1"/>
          <p:cNvSpPr/>
          <p:nvPr/>
        </p:nvSpPr>
        <p:spPr>
          <a:xfrm>
            <a:off x="857160" y="2717640"/>
            <a:ext cx="1549440" cy="2232360"/>
          </a:xfrm>
          <a:custGeom>
            <a:avLst/>
            <a:gdLst>
              <a:gd name="textAreaLeft" fmla="*/ 75600 w 1549440"/>
              <a:gd name="textAreaRight" fmla="*/ 1473840 w 1549440"/>
              <a:gd name="textAreaTop" fmla="*/ 75600 h 2232360"/>
              <a:gd name="textAreaBottom" fmla="*/ 2156760 h 2232360"/>
            </a:gdLst>
            <a:ahLst/>
            <a:rect l="textAreaLeft" t="textAreaTop" r="textAreaRight" b="textAreaBottom"/>
            <a:pathLst>
              <a:path w="21600" h="31118">
                <a:moveTo>
                  <a:pt x="3600" y="0"/>
                </a:moveTo>
                <a:arcTo wR="3600" hR="3600" stAng="16200000" swAng="-5400000"/>
                <a:lnTo>
                  <a:pt x="0" y="27518"/>
                </a:lnTo>
                <a:arcTo wR="3600" hR="3600" stAng="10800000" swAng="-5400000"/>
                <a:lnTo>
                  <a:pt x="18000" y="31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73f00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2"/>
          <p:cNvSpPr/>
          <p:nvPr/>
        </p:nvSpPr>
        <p:spPr>
          <a:xfrm>
            <a:off x="3117960" y="2500200"/>
            <a:ext cx="793800" cy="793800"/>
          </a:xfrm>
          <a:prstGeom prst="ellipse">
            <a:avLst/>
          </a:prstGeom>
          <a:solidFill>
            <a:srgbClr val="4b7615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3"/>
          <p:cNvSpPr/>
          <p:nvPr/>
        </p:nvSpPr>
        <p:spPr>
          <a:xfrm>
            <a:off x="5062680" y="1852560"/>
            <a:ext cx="792000" cy="793800"/>
          </a:xfrm>
          <a:prstGeom prst="ellipse">
            <a:avLst/>
          </a:prstGeom>
          <a:solidFill>
            <a:srgbClr val="d73f00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4"/>
          <p:cNvSpPr/>
          <p:nvPr/>
        </p:nvSpPr>
        <p:spPr>
          <a:xfrm>
            <a:off x="7078680" y="1062000"/>
            <a:ext cx="792000" cy="792360"/>
          </a:xfrm>
          <a:prstGeom prst="ellipse">
            <a:avLst/>
          </a:prstGeom>
          <a:solidFill>
            <a:srgbClr val="4b7615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5"/>
          <p:cNvSpPr/>
          <p:nvPr/>
        </p:nvSpPr>
        <p:spPr>
          <a:xfrm>
            <a:off x="2039760" y="2430360"/>
            <a:ext cx="935280" cy="285840"/>
          </a:xfrm>
          <a:prstGeom prst="line">
            <a:avLst/>
          </a:prstGeom>
          <a:ln w="25560">
            <a:solidFill>
              <a:srgbClr val="4b761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6"/>
          <p:cNvSpPr/>
          <p:nvPr/>
        </p:nvSpPr>
        <p:spPr>
          <a:xfrm flipV="1">
            <a:off x="3981600" y="2428560"/>
            <a:ext cx="1081080" cy="360360"/>
          </a:xfrm>
          <a:prstGeom prst="line">
            <a:avLst/>
          </a:prstGeom>
          <a:ln w="25560">
            <a:solidFill>
              <a:srgbClr val="4b761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7"/>
          <p:cNvSpPr/>
          <p:nvPr/>
        </p:nvSpPr>
        <p:spPr>
          <a:xfrm flipV="1">
            <a:off x="5900760" y="1649520"/>
            <a:ext cx="1131840" cy="466560"/>
          </a:xfrm>
          <a:prstGeom prst="line">
            <a:avLst/>
          </a:prstGeom>
          <a:ln w="25560">
            <a:solidFill>
              <a:srgbClr val="4b761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8"/>
          <p:cNvSpPr/>
          <p:nvPr/>
        </p:nvSpPr>
        <p:spPr>
          <a:xfrm>
            <a:off x="2732040" y="3340080"/>
            <a:ext cx="1550880" cy="2232000"/>
          </a:xfrm>
          <a:custGeom>
            <a:avLst/>
            <a:gdLst>
              <a:gd name="textAreaLeft" fmla="*/ 75600 w 1550880"/>
              <a:gd name="textAreaRight" fmla="*/ 1475280 w 1550880"/>
              <a:gd name="textAreaTop" fmla="*/ 75600 h 2232000"/>
              <a:gd name="textAreaBottom" fmla="*/ 2156400 h 2232000"/>
            </a:gdLst>
            <a:ahLst/>
            <a:rect l="textAreaLeft" t="textAreaTop" r="textAreaRight" b="textAreaBottom"/>
            <a:pathLst>
              <a:path w="21600" h="31084">
                <a:moveTo>
                  <a:pt x="3600" y="0"/>
                </a:moveTo>
                <a:arcTo wR="3600" hR="3600" stAng="16200000" swAng="-5400000"/>
                <a:lnTo>
                  <a:pt x="0" y="27484"/>
                </a:lnTo>
                <a:arcTo wR="3600" hR="3600" stAng="10800000" swAng="-5400000"/>
                <a:lnTo>
                  <a:pt x="18000" y="310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b7615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9"/>
          <p:cNvSpPr/>
          <p:nvPr/>
        </p:nvSpPr>
        <p:spPr>
          <a:xfrm>
            <a:off x="4675320" y="2730600"/>
            <a:ext cx="1550880" cy="2232000"/>
          </a:xfrm>
          <a:custGeom>
            <a:avLst/>
            <a:gdLst>
              <a:gd name="textAreaLeft" fmla="*/ 75600 w 1550880"/>
              <a:gd name="textAreaRight" fmla="*/ 1475280 w 1550880"/>
              <a:gd name="textAreaTop" fmla="*/ 75600 h 2232000"/>
              <a:gd name="textAreaBottom" fmla="*/ 2156400 h 2232000"/>
            </a:gdLst>
            <a:ahLst/>
            <a:rect l="textAreaLeft" t="textAreaTop" r="textAreaRight" b="textAreaBottom"/>
            <a:pathLst>
              <a:path w="21600" h="31084">
                <a:moveTo>
                  <a:pt x="3600" y="0"/>
                </a:moveTo>
                <a:arcTo wR="3600" hR="3600" stAng="16200000" swAng="-5400000"/>
                <a:lnTo>
                  <a:pt x="0" y="27484"/>
                </a:lnTo>
                <a:arcTo wR="3600" hR="3600" stAng="10800000" swAng="-5400000"/>
                <a:lnTo>
                  <a:pt x="18000" y="310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73f00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20"/>
          <p:cNvSpPr/>
          <p:nvPr/>
        </p:nvSpPr>
        <p:spPr>
          <a:xfrm>
            <a:off x="6707160" y="1930320"/>
            <a:ext cx="1550880" cy="2232000"/>
          </a:xfrm>
          <a:custGeom>
            <a:avLst/>
            <a:gdLst>
              <a:gd name="textAreaLeft" fmla="*/ 75600 w 1550880"/>
              <a:gd name="textAreaRight" fmla="*/ 1475280 w 1550880"/>
              <a:gd name="textAreaTop" fmla="*/ 75600 h 2232000"/>
              <a:gd name="textAreaBottom" fmla="*/ 2156400 h 2232000"/>
            </a:gdLst>
            <a:ahLst/>
            <a:rect l="textAreaLeft" t="textAreaTop" r="textAreaRight" b="textAreaBottom"/>
            <a:pathLst>
              <a:path w="21600" h="31084">
                <a:moveTo>
                  <a:pt x="3600" y="0"/>
                </a:moveTo>
                <a:arcTo wR="3600" hR="3600" stAng="16200000" swAng="-5400000"/>
                <a:lnTo>
                  <a:pt x="0" y="27484"/>
                </a:lnTo>
                <a:arcTo wR="3600" hR="3600" stAng="10800000" swAng="-5400000"/>
                <a:lnTo>
                  <a:pt x="18000" y="310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b7615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2"/>
          <p:cNvSpPr/>
          <p:nvPr/>
        </p:nvSpPr>
        <p:spPr>
          <a:xfrm>
            <a:off x="30294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3"/>
          <p:cNvSpPr/>
          <p:nvPr/>
        </p:nvSpPr>
        <p:spPr>
          <a:xfrm>
            <a:off x="703008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4"/>
          <p:cNvSpPr/>
          <p:nvPr/>
        </p:nvSpPr>
        <p:spPr>
          <a:xfrm>
            <a:off x="49582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5"/>
          <p:cNvSpPr/>
          <p:nvPr/>
        </p:nvSpPr>
        <p:spPr>
          <a:xfrm>
            <a:off x="11736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流程图: 手动输入 10"/>
          <p:cNvSpPr/>
          <p:nvPr/>
        </p:nvSpPr>
        <p:spPr>
          <a:xfrm>
            <a:off x="1574640" y="1631880"/>
            <a:ext cx="3005280" cy="1670040"/>
          </a:xfrm>
          <a:prstGeom prst="flowChartManualInput">
            <a:avLst/>
          </a:prstGeom>
          <a:solidFill>
            <a:srgbClr val="4b76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流程图: 手动输入 11"/>
          <p:cNvSpPr/>
          <p:nvPr/>
        </p:nvSpPr>
        <p:spPr>
          <a:xfrm flipH="1">
            <a:off x="4803120" y="1631880"/>
            <a:ext cx="3004920" cy="1670040"/>
          </a:xfrm>
          <a:prstGeom prst="flowChartManualInput">
            <a:avLst/>
          </a:prstGeom>
          <a:solidFill>
            <a:srgbClr val="d73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流程图: 手动输入 12"/>
          <p:cNvSpPr/>
          <p:nvPr/>
        </p:nvSpPr>
        <p:spPr>
          <a:xfrm flipH="1" flipV="1">
            <a:off x="4798440" y="3544200"/>
            <a:ext cx="3003480" cy="1670040"/>
          </a:xfrm>
          <a:prstGeom prst="flowChartManualInput">
            <a:avLst/>
          </a:prstGeom>
          <a:solidFill>
            <a:srgbClr val="4b76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流程图: 手动输入 13"/>
          <p:cNvSpPr/>
          <p:nvPr/>
        </p:nvSpPr>
        <p:spPr>
          <a:xfrm flipV="1">
            <a:off x="1571760" y="3544200"/>
            <a:ext cx="3004920" cy="1670040"/>
          </a:xfrm>
          <a:prstGeom prst="flowChartManualInput">
            <a:avLst/>
          </a:prstGeom>
          <a:solidFill>
            <a:srgbClr val="d73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2"/>
          <p:cNvSpPr/>
          <p:nvPr/>
        </p:nvSpPr>
        <p:spPr>
          <a:xfrm>
            <a:off x="2699280" y="2400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3"/>
          <p:cNvSpPr/>
          <p:nvPr/>
        </p:nvSpPr>
        <p:spPr>
          <a:xfrm>
            <a:off x="5855400" y="4021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4"/>
          <p:cNvSpPr/>
          <p:nvPr/>
        </p:nvSpPr>
        <p:spPr>
          <a:xfrm>
            <a:off x="2613600" y="4021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5"/>
          <p:cNvSpPr/>
          <p:nvPr/>
        </p:nvSpPr>
        <p:spPr>
          <a:xfrm>
            <a:off x="5941080" y="2400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clf2015</cp:lastModifiedBy>
  <dcterms:modified xsi:type="dcterms:W3CDTF">2015-10-19T03:12:57Z</dcterms:modified>
  <cp:revision>292</cp:revision>
  <dc:subject/>
  <dc:title>幻灯片 1</dc:title>
</cp:coreProperties>
</file>